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6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28.jpeg" ContentType="image/jpeg"/>
  <Override PartName="/ppt/media/image7.jpeg" ContentType="image/jpeg"/>
  <Override PartName="/ppt/media/image8.jpeg" ContentType="image/jpeg"/>
  <Override PartName="/ppt/media/image5.png" ContentType="image/png"/>
  <Override PartName="/ppt/media/image35.png" ContentType="image/png"/>
  <Override PartName="/ppt/media/image11.png" ContentType="image/png"/>
  <Override PartName="/ppt/media/image9.jpeg" ContentType="image/jpeg"/>
  <Override PartName="/ppt/media/image31.png" ContentType="image/png"/>
  <Override PartName="/ppt/media/image6.png" ContentType="image/png"/>
  <Override PartName="/ppt/media/image29.png" ContentType="image/png"/>
  <Override PartName="/ppt/media/image13.jpeg" ContentType="image/jpeg"/>
  <Override PartName="/ppt/media/image33.png" ContentType="image/png"/>
  <Override PartName="/ppt/media/image34.jpeg" ContentType="image/jpeg"/>
  <Override PartName="/ppt/media/image37.png" ContentType="image/png"/>
  <Override PartName="/ppt/media/image38.gif" ContentType="image/gif"/>
  <Override PartName="/ppt/media/image15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30.png" ContentType="image/png"/>
  <Override PartName="/ppt/media/image3.jpeg" ContentType="image/jpeg"/>
  <Override PartName="/ppt/media/image20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media/image10.png" ContentType="image/png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5ABB-86B7-4AF8-8F90-4FE1C8D86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D31F-4C91-4EFC-A60C-27EB5DA5A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9474-69F1-4E43-8679-C203F644F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67DF-12B3-444D-A0F3-B6ABFBE4B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2828-D468-4CFA-8870-C918EC3A3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FA56-59AF-4F60-A7CF-F26827FD2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0533-141F-4391-9AA0-6E931F118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02A5-536E-4F19-879A-7E78E3361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84AF-7495-4325-BFB9-0C496F7E6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C05F-A1F0-47A8-9893-2B7B6F9C7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EB83-5B63-4225-A1AE-4B8F73870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24A2-0E0B-426A-B8A0-80171FEC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B6E12-D7A6-4501-AEBA-295AF85B348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2130120"/>
            <a:ext cx="828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333399"/>
                </a:solidFill>
                <a:latin typeface="Berlin Sans FB Demi"/>
              </a:rPr>
              <a:t>Hybnosť </a:t>
            </a:r>
            <a:r>
              <a:rPr b="1" lang="sk-SK" sz="3600" spc="-1" strike="noStrike">
                <a:solidFill>
                  <a:srgbClr val="333399"/>
                </a:solidFill>
                <a:latin typeface="Berlin Sans FB Demi"/>
              </a:rPr>
              <a:t>č</a:t>
            </a:r>
            <a:r>
              <a:rPr b="1" lang="sk-SK" sz="4400" spc="-1" strike="noStrike">
                <a:solidFill>
                  <a:srgbClr val="333399"/>
                </a:solidFill>
                <a:latin typeface="Berlin Sans FB Demi"/>
              </a:rPr>
              <a:t>loveka, </a:t>
            </a:r>
            <a:br>
              <a:rPr sz="4400"/>
            </a:br>
            <a:r>
              <a:rPr b="1" lang="sk-SK" sz="4400" spc="-1" strike="noStrike">
                <a:solidFill>
                  <a:srgbClr val="333399"/>
                </a:solidFill>
                <a:latin typeface="Berlin Sans FB Demi"/>
              </a:rPr>
              <a:t>svalová kontrak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933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Ján Jaku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6788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s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ic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k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fotograf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sch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a sarkomé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Sarcomere"/>
          <p:cNvPicPr/>
          <p:nvPr/>
        </p:nvPicPr>
        <p:blipFill>
          <a:blip r:embed="rId1"/>
          <a:stretch/>
        </p:blipFill>
        <p:spPr>
          <a:xfrm>
            <a:off x="179280" y="907920"/>
            <a:ext cx="8964720" cy="59058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5"/>
          <p:cNvSpPr/>
          <p:nvPr/>
        </p:nvSpPr>
        <p:spPr>
          <a:xfrm>
            <a:off x="1979640" y="3597120"/>
            <a:ext cx="12240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Z-doštič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5580000" y="3597120"/>
            <a:ext cx="1297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Z-doštič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1763640" y="6308640"/>
            <a:ext cx="1152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I-p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5940360" y="6308640"/>
            <a:ext cx="1152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I-p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3708360" y="6405480"/>
            <a:ext cx="14400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A-p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179280" y="4653000"/>
            <a:ext cx="2160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Tenké vlák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6300720" y="4149720"/>
            <a:ext cx="2376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Hrubé vlák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2"/>
          <p:cNvSpPr/>
          <p:nvPr/>
        </p:nvSpPr>
        <p:spPr>
          <a:xfrm flipV="1">
            <a:off x="1979640" y="4581360"/>
            <a:ext cx="71280" cy="21600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3"/>
          <p:cNvSpPr/>
          <p:nvPr/>
        </p:nvSpPr>
        <p:spPr>
          <a:xfrm>
            <a:off x="1908000" y="4941720"/>
            <a:ext cx="287640" cy="7164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c49x38motor-unit"/>
          <p:cNvPicPr/>
          <p:nvPr/>
        </p:nvPicPr>
        <p:blipFill>
          <a:blip r:embed="rId1"/>
          <a:stretch/>
        </p:blipFill>
        <p:spPr>
          <a:xfrm>
            <a:off x="4143240" y="0"/>
            <a:ext cx="5000760" cy="67118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290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tor</a:t>
            </a: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ická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jednot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4920" y="981000"/>
            <a:ext cx="4105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valové bunky sú izolované spojivovým tkaniv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ažd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musí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y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imu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van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x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ón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oneur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ón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or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ická jednotk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šetk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valové bunk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erv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van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ý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stý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otoneur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ontrahujú sa nara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äčšinou je v sva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m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or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ckých jednotiek rozličnej veľkost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eľké jednotk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gt;10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bunie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ajmä pomal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ur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va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l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jednotk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kol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bunie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res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tro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 rýchly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alo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apr. okohybný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4356000" y="476280"/>
            <a:ext cx="1152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miech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4067280" y="2708280"/>
            <a:ext cx="21603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telo motoneurón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3924360" y="3213000"/>
            <a:ext cx="21603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axón motoneurón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6983280" y="68400"/>
            <a:ext cx="21607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Nervo-svalová platnič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6877080" y="5661000"/>
            <a:ext cx="14400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Svalové vlákna (bunk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figure0815"/>
          <p:cNvPicPr/>
          <p:nvPr/>
        </p:nvPicPr>
        <p:blipFill>
          <a:blip r:embed="rId1"/>
          <a:stretch/>
        </p:blipFill>
        <p:spPr>
          <a:xfrm>
            <a:off x="1258920" y="765000"/>
            <a:ext cx="7921440" cy="59421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8920" y="115920"/>
            <a:ext cx="5607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1" lang="sk-SK" sz="4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uitment </a:t>
            </a:r>
            <a:r>
              <a:rPr b="1" lang="sk-SK" sz="4000" spc="-1" strike="noStrike">
                <a:solidFill>
                  <a:srgbClr val="000000"/>
                </a:solidFill>
                <a:latin typeface="Arial"/>
              </a:rPr>
              <a:t>(nábor) moto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sk-SK" sz="4000" spc="-1" strike="noStrike">
                <a:solidFill>
                  <a:srgbClr val="000000"/>
                </a:solidFill>
                <a:latin typeface="Arial"/>
              </a:rPr>
              <a:t>ickýc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4000" spc="-1" strike="noStrike">
                <a:solidFill>
                  <a:srgbClr val="000000"/>
                </a:solidFill>
                <a:latin typeface="Arial"/>
              </a:rPr>
              <a:t>jednoti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108000" y="1484280"/>
            <a:ext cx="20350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vyšujúca s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ntr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moto-neur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ov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v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it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ostupn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tivác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motorických jednoti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 vyšším prah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2340000" y="3860640"/>
            <a:ext cx="2160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miech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2843280" y="5445000"/>
            <a:ext cx="5761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Motorická jednotka 1- nízkoprahová (aktivuje sa skô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2843280" y="5756400"/>
            <a:ext cx="26654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Motorická jednotka 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2843280" y="6116760"/>
            <a:ext cx="6192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Motorická jednotka 3- vysokoprahová (aktivuje sa neskô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protox_10_botox_alternative_info_clip_image001"/>
          <p:cNvPicPr/>
          <p:nvPr/>
        </p:nvPicPr>
        <p:blipFill>
          <a:blip r:embed="rId1"/>
          <a:stretch/>
        </p:blipFill>
        <p:spPr>
          <a:xfrm>
            <a:off x="108000" y="1125360"/>
            <a:ext cx="6408720" cy="56152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4"/>
          <p:cNvSpPr/>
          <p:nvPr/>
        </p:nvSpPr>
        <p:spPr>
          <a:xfrm>
            <a:off x="6084720" y="1052640"/>
            <a:ext cx="3059280" cy="53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kčný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poten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ciá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pre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synaptickej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membr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aktivuje napätím riadené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kanály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1" lang="en-US" sz="23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influx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– ve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kuly s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neuro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transmiter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om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etylchol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n (AC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- výlučný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transmiter nervo-svalovej platničky – uvolnia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 synaptic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kej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štrbiny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179280" y="189000"/>
            <a:ext cx="878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otorické vlákn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(axón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toneur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v) v motorickom nerve ved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čn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ten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iá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r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-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valovej platnič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8" descr="Image:Acethylcholine receptor.png"/>
          <p:cNvPicPr/>
          <p:nvPr/>
        </p:nvPicPr>
        <p:blipFill>
          <a:blip r:embed="rId1"/>
          <a:stretch/>
        </p:blipFill>
        <p:spPr>
          <a:xfrm>
            <a:off x="6496200" y="115920"/>
            <a:ext cx="2468520" cy="6021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File:ACh-stick.png"/>
          <p:cNvPicPr/>
          <p:nvPr/>
        </p:nvPicPr>
        <p:blipFill>
          <a:blip r:embed="rId2"/>
          <a:stretch/>
        </p:blipFill>
        <p:spPr>
          <a:xfrm>
            <a:off x="169920" y="1407960"/>
            <a:ext cx="4546440" cy="44690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8920" y="2133360"/>
            <a:ext cx="29876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acetylcholí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File:Acetylcholine.svg"/>
          <p:cNvPicPr/>
          <p:nvPr/>
        </p:nvPicPr>
        <p:blipFill>
          <a:blip r:embed="rId3"/>
          <a:stretch/>
        </p:blipFill>
        <p:spPr>
          <a:xfrm>
            <a:off x="324000" y="4883040"/>
            <a:ext cx="4248000" cy="171468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7"/>
          <p:cNvSpPr/>
          <p:nvPr/>
        </p:nvSpPr>
        <p:spPr>
          <a:xfrm>
            <a:off x="4929120" y="5746680"/>
            <a:ext cx="374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ik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t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ov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 recep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34920" y="115920"/>
            <a:ext cx="64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sa viaže n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ikotínové receptor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ostsynaptickej membrán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ervo-svalovej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t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ičk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valovej bunky – a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v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ác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kanálov – depolarizác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jednotkový platničkov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otenciál - 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250560" y="38844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Aj be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imul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ácie môže náhod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e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zikulus uvolni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Ch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ynaptic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ej štrbiny, čo vyvol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miniatúrny EPSP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iniat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úrn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lat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ičkov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ten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ciá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Akčn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ten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ciá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zakončen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yvolá úplný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t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ničkov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otential (PP)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tor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ždy dosiahn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ing level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(prahovú úroveň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yvolá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čn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ten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ciál na svalovej bun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Akčný potenciá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a rozšíri pozdĺž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r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lem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a cez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T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tubulárny systé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alovej bunk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ar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la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tic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k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reti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lum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395280" y="5516640"/>
            <a:ext cx="85694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tylchol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í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limin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ovaný (zo synaptickej štrbiny) rozklad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cetylchol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er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áz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7" descr="action%20potential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4"/>
          <p:cNvSpPr/>
          <p:nvPr/>
        </p:nvSpPr>
        <p:spPr>
          <a:xfrm>
            <a:off x="3059280" y="2492280"/>
            <a:ext cx="1152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pra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7667640" y="2492280"/>
            <a:ext cx="1152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pra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1763640" y="3284640"/>
            <a:ext cx="1584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depolarizá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5651640" y="3716280"/>
            <a:ext cx="1584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depolarizá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5506920" y="608040"/>
            <a:ext cx="15130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depolarizačná fá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7380360" y="1398600"/>
            <a:ext cx="151272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repolarizačná fá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395280" y="4508640"/>
            <a:ext cx="417672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Depolarizácia je zmena membránového potenciálu na plazmatickej membráne bunky, kedy sa stáva vnútro bunky menej negatívne (vonkajšok bunky menej pozitívne) nabit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5148360" y="4489560"/>
            <a:ext cx="399564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Počas depolarizačnej fázy AP sa MP zmení z približne -85 m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na asi +20 mV. Počas fázy repolarizácie dochádza k postupnému návratu na hodnotu kľudového membránového potenciálu asi -85 m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2"/>
          <p:cNvSpPr/>
          <p:nvPr/>
        </p:nvSpPr>
        <p:spPr>
          <a:xfrm>
            <a:off x="6227640" y="4149720"/>
            <a:ext cx="1513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čas 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3"/>
          <p:cNvSpPr/>
          <p:nvPr/>
        </p:nvSpPr>
        <p:spPr>
          <a:xfrm>
            <a:off x="1619280" y="4149720"/>
            <a:ext cx="1512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čas 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6" descr="berger8"/>
          <p:cNvPicPr/>
          <p:nvPr/>
        </p:nvPicPr>
        <p:blipFill>
          <a:blip r:embed="rId1"/>
          <a:stretch/>
        </p:blipFill>
        <p:spPr>
          <a:xfrm>
            <a:off x="71280" y="1177920"/>
            <a:ext cx="6301080" cy="56358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08000" y="142920"/>
            <a:ext cx="8964720" cy="11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Sarkoplazmatické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eti</a:t>
            </a: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lum </a:t>
            </a: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obklopuje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myofibril</a:t>
            </a: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 obsahuje zásob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n-US" sz="21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ónov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Priečny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 – tubul</a:t>
            </a: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árny systém je cestou pre akčný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potenciál, aby sa tento dostal na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sar</a:t>
            </a: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opla</a:t>
            </a: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atické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reti</a:t>
            </a: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lum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6084720" y="1413000"/>
            <a:ext cx="3059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Akčný potenciá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tubuloch 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ar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la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c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o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ti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l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tivuj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napätím riade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Ca kanál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ýchto štruktúrac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uvolnenie (prienik) – influx </a:t>
            </a: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Ca</a:t>
            </a:r>
            <a:r>
              <a:rPr b="1" lang="en-US" sz="2000" spc="-1" strike="noStrike" u="sng" baseline="30000">
                <a:solidFill>
                  <a:srgbClr val="000000"/>
                </a:solidFill>
                <a:uFillTx/>
                <a:latin typeface="Arial"/>
              </a:rPr>
              <a:t>2+</a:t>
            </a: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 d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 intracelul</a:t>
            </a: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á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</a:t>
            </a: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neho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priestoru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svalového vlák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Ca</a:t>
            </a:r>
            <a:r>
              <a:rPr b="1" lang="en-US" sz="2000" spc="-1" strike="noStrike" u="sng" baseline="30000">
                <a:solidFill>
                  <a:srgbClr val="000000"/>
                </a:solidFill>
                <a:uFillTx/>
                <a:latin typeface="Arial"/>
              </a:rPr>
              <a:t>2+</a:t>
            </a: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 – j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i</a:t>
            </a: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ciá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svalovej kontrak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611280" y="1844640"/>
            <a:ext cx="1296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sarkol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0" y="2924280"/>
            <a:ext cx="20509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terminálne cister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179280" y="3213000"/>
            <a:ext cx="1728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T - tubu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9"/>
          <p:cNvSpPr/>
          <p:nvPr/>
        </p:nvSpPr>
        <p:spPr>
          <a:xfrm>
            <a:off x="0" y="4076640"/>
            <a:ext cx="19796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sarkoplazmatické retikul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0"/>
          <p:cNvSpPr/>
          <p:nvPr/>
        </p:nvSpPr>
        <p:spPr>
          <a:xfrm>
            <a:off x="395280" y="5229360"/>
            <a:ext cx="1512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mitochond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1"/>
          <p:cNvSpPr/>
          <p:nvPr/>
        </p:nvSpPr>
        <p:spPr>
          <a:xfrm>
            <a:off x="5292720" y="2205000"/>
            <a:ext cx="12240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myofibri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2"/>
          <p:cNvSpPr/>
          <p:nvPr/>
        </p:nvSpPr>
        <p:spPr>
          <a:xfrm>
            <a:off x="5364000" y="3213000"/>
            <a:ext cx="100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A-p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3"/>
          <p:cNvSpPr/>
          <p:nvPr/>
        </p:nvSpPr>
        <p:spPr>
          <a:xfrm>
            <a:off x="5364000" y="3860640"/>
            <a:ext cx="1079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I-p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4"/>
          <p:cNvSpPr/>
          <p:nvPr/>
        </p:nvSpPr>
        <p:spPr>
          <a:xfrm>
            <a:off x="5364000" y="4797360"/>
            <a:ext cx="11541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Z lí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5"/>
          <p:cNvSpPr/>
          <p:nvPr/>
        </p:nvSpPr>
        <p:spPr>
          <a:xfrm>
            <a:off x="5365800" y="5589720"/>
            <a:ext cx="11509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jad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5" descr="picrend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4"/>
          <p:cNvSpPr/>
          <p:nvPr/>
        </p:nvSpPr>
        <p:spPr>
          <a:xfrm>
            <a:off x="0" y="4292640"/>
            <a:ext cx="1042920" cy="64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Membrána T-tub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0" y="5516640"/>
            <a:ext cx="104292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Membrána sarkoplaz. retik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466560" y="6323040"/>
            <a:ext cx="1729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Uvolnenie Ca ión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2484360" y="4869000"/>
            <a:ext cx="10429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Akčný potenciá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539640" y="3946680"/>
            <a:ext cx="2376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Proteín citlivý na potenciá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3132000" y="3946680"/>
            <a:ext cx="2951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Depolarizovaná membrána T-tub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0"/>
          <p:cNvSpPr/>
          <p:nvPr/>
        </p:nvSpPr>
        <p:spPr>
          <a:xfrm>
            <a:off x="4788000" y="0"/>
            <a:ext cx="1224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Membrá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1"/>
          <p:cNvSpPr/>
          <p:nvPr/>
        </p:nvSpPr>
        <p:spPr>
          <a:xfrm>
            <a:off x="4932360" y="476280"/>
            <a:ext cx="9349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Myofibri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5003640" y="1052640"/>
            <a:ext cx="93528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Ca kaná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3"/>
          <p:cNvSpPr/>
          <p:nvPr/>
        </p:nvSpPr>
        <p:spPr>
          <a:xfrm>
            <a:off x="4788000" y="1844640"/>
            <a:ext cx="129672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T-tubuly zformované z prliačenia plazmatickej membrá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4"/>
          <p:cNvSpPr/>
          <p:nvPr/>
        </p:nvSpPr>
        <p:spPr>
          <a:xfrm>
            <a:off x="4716360" y="2924280"/>
            <a:ext cx="151128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Sarkoplazmatické retikul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Image:SlidingMyofibril.svg"/>
          <p:cNvPicPr/>
          <p:nvPr/>
        </p:nvPicPr>
        <p:blipFill>
          <a:blip r:embed="rId1"/>
          <a:stretch/>
        </p:blipFill>
        <p:spPr>
          <a:xfrm>
            <a:off x="142920" y="79200"/>
            <a:ext cx="8858160" cy="666288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3"/>
          <p:cNvSpPr/>
          <p:nvPr/>
        </p:nvSpPr>
        <p:spPr>
          <a:xfrm>
            <a:off x="179280" y="3429000"/>
            <a:ext cx="6085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im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áln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k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tra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kci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ar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m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é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je okol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30%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3348000" y="3141720"/>
            <a:ext cx="1152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relaxovan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3203640" y="3933720"/>
            <a:ext cx="1368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kontrahovan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LASTNOSTI SVAL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85480" y="981000"/>
            <a:ext cx="864396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ontraktivit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men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che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j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ener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mechanickú prácu - pohy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dpove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valového tkaniva 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imul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áciu j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ra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cia (skráten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citabilit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chopnosť odpoveda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valové tkanivo môže byť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mul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van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le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c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yzikálnym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lebo chemickými podnet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sticit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alebo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pružnos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valy obsahuj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lastic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lement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y, ktoré zabezpečujú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ich pružnosť (návrat do pôvodnej dĺžky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Roztiahnuteľnos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val je možné natiahnuť 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lhší, než je jeho kľudová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ĺž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valy môžu len ťaha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nie tlači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5" descr="File:Myofilament.svg"/>
          <p:cNvPicPr/>
          <p:nvPr/>
        </p:nvPicPr>
        <p:blipFill>
          <a:blip r:embed="rId1"/>
          <a:stretch/>
        </p:blipFill>
        <p:spPr>
          <a:xfrm>
            <a:off x="108000" y="2565360"/>
            <a:ext cx="8893080" cy="410364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5"/>
          <p:cNvSpPr/>
          <p:nvPr/>
        </p:nvSpPr>
        <p:spPr>
          <a:xfrm>
            <a:off x="324000" y="260280"/>
            <a:ext cx="856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valová kontrakcia sa dej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ter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cio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TÍN-ovýc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(tenké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MYO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-ových (hrubé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lákie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ropomyozí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 kľud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rekrý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äzobné miest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ín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3635280" y="2486160"/>
            <a:ext cx="2519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tenký fila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6227640" y="2630520"/>
            <a:ext cx="2519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tropomyozí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2916360" y="4070520"/>
            <a:ext cx="1368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troponí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5796000" y="4508640"/>
            <a:ext cx="3168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yozín hrubého filamen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ScanImage95"/>
          <p:cNvPicPr/>
          <p:nvPr/>
        </p:nvPicPr>
        <p:blipFill>
          <a:blip r:embed="rId1"/>
          <a:stretch/>
        </p:blipFill>
        <p:spPr>
          <a:xfrm>
            <a:off x="0" y="2575080"/>
            <a:ext cx="9144000" cy="387828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5"/>
          <p:cNvSpPr/>
          <p:nvPr/>
        </p:nvSpPr>
        <p:spPr>
          <a:xfrm>
            <a:off x="179280" y="333360"/>
            <a:ext cx="8425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sa viaže n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opon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í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mení sa tva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form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ác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pomyo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ínu, ktor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odkryje väzobné mie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ktíne aktínového vlákn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valová kontrakcia vyžaduje aj AT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85690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a uvolnenie ohnutýc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yo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ínových hláv z väzby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 aktínu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 ich vyrovnanie je potrebné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P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Myozín hydrolyzu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ATP (rozkladá ho na ADP 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fá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čim získa energi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Cycle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71280" y="71280"/>
            <a:ext cx="8893440" cy="65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ým j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 ATP pr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ítomn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r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í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y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l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äzba s aktíno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ohnuti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uvolneni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yrovnani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yo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ínovýc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láv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okračuj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tr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c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je neustá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mp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ované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Ca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umpou – ATP-ázou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azad do 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l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matickéh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ti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l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 (a T-tubulov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centr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ác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a udržuje vysoká jeho uvolňovaním z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l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matickéh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ti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ul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ďalšími akčnými potenciálm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Bez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a tropomyozín vráti do tvar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form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áci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torý blokuj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äzbové miesta aktínového vlákna – zastavenie kontrak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eďže j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TP nevyhnutné na uvolneni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äzb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tínu 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yo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ínu – bez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TP : RIGOR MOR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MuscleTimeGraph"/>
          <p:cNvPicPr/>
          <p:nvPr/>
        </p:nvPicPr>
        <p:blipFill>
          <a:blip r:embed="rId1"/>
          <a:stretch/>
        </p:blipFill>
        <p:spPr>
          <a:xfrm>
            <a:off x="0" y="-27000"/>
            <a:ext cx="6732720" cy="54100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5364000" y="115920"/>
            <a:ext cx="36007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8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zvýšená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intracelul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na koncentrácia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1" lang="en-US" sz="23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(Ca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uvolnené zo s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r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koplazmatického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reti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ul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a T – tubul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ov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trvá dlhšie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než akčný potenciá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šte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dlhšie trvá jednotkové svalové trhnuti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395280" y="4508640"/>
            <a:ext cx="8424720" cy="25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keďže má kostrový sval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krátku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refra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którnu periódu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 a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kčný potenciál na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ar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olem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a rozšíri z 1 nervo-svalovej platničky pozdĺž celej membrány,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T – tubul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ov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r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opla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zmatického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reti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ul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SUM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ÁCIA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ČASOVÁ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 to na úrovni uvolňovania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1" lang="en-US" sz="23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a superpozície svalových trhnutí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3059280" y="620640"/>
            <a:ext cx="273672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414141"/>
                </a:solidFill>
                <a:latin typeface="Arial"/>
              </a:rPr>
              <a:t>Svalové trhnu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7640" y="115920"/>
            <a:ext cx="489564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sk-SK" sz="3000" spc="-1" strike="noStrike">
                <a:solidFill>
                  <a:srgbClr val="000000"/>
                </a:solidFill>
                <a:latin typeface="Arial"/>
              </a:rPr>
              <a:t>valové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sk-SK" sz="3000" spc="-1" strike="noStrike">
                <a:solidFill>
                  <a:srgbClr val="000000"/>
                </a:solidFill>
                <a:latin typeface="Arial"/>
              </a:rPr>
              <a:t>rhnutie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sk-SK" sz="3000" spc="-1" strike="noStrike">
                <a:solidFill>
                  <a:srgbClr val="000000"/>
                </a:solidFill>
                <a:latin typeface="Arial"/>
              </a:rPr>
              <a:t>vlnitý </a:t>
            </a:r>
            <a:br>
              <a:rPr sz="3000"/>
            </a:br>
            <a:r>
              <a:rPr b="1" lang="sk-SK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3000" spc="-1" strike="noStrike">
                <a:solidFill>
                  <a:srgbClr val="000000"/>
                </a:solidFill>
                <a:latin typeface="Arial"/>
              </a:rPr>
              <a:t>úplný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tetan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5" descr="tetanus.gif"/>
          <p:cNvPicPr/>
          <p:nvPr/>
        </p:nvPicPr>
        <p:blipFill>
          <a:blip r:embed="rId1"/>
          <a:stretch/>
        </p:blipFill>
        <p:spPr>
          <a:xfrm>
            <a:off x="216000" y="4000680"/>
            <a:ext cx="8748720" cy="27414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twitch_mc.gif"/>
          <p:cNvPicPr/>
          <p:nvPr/>
        </p:nvPicPr>
        <p:blipFill>
          <a:blip r:embed="rId2"/>
          <a:stretch/>
        </p:blipFill>
        <p:spPr>
          <a:xfrm>
            <a:off x="5153040" y="260280"/>
            <a:ext cx="3859200" cy="38880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53640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Tetanická kontrakcia</a:t>
            </a:r>
            <a:r>
              <a:rPr b="0" lang="sk-SK" sz="2100" spc="-1" strike="noStrike">
                <a:solidFill>
                  <a:srgbClr val="000000"/>
                </a:solidFill>
                <a:latin typeface="Arial"/>
              </a:rPr>
              <a:t> – motorická jednotka je stimulovaná vysokou frekvenciou akčných potenciálov z príslušného motoneurónu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000000"/>
                </a:solidFill>
                <a:latin typeface="Arial"/>
              </a:rPr>
              <a:t>Čas medzi stimulmi je kratší než svalové trhnutie – málo času na relaxáciu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000000"/>
                </a:solidFill>
                <a:latin typeface="Arial"/>
              </a:rPr>
              <a:t>Sila kontrakcie sa zvyšuje – pridáva sa k predchádzajúcim trhnutiam - maximálna </a:t>
            </a:r>
            <a:r>
              <a:rPr b="0" lang="sk-SK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100" spc="-1" strike="noStrike">
                <a:solidFill>
                  <a:srgbClr val="000000"/>
                </a:solidFill>
                <a:latin typeface="Arial"/>
              </a:rPr>
              <a:t>kontrakcia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6838920" y="765000"/>
            <a:ext cx="2197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Akčný potenciá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7596360" y="2276640"/>
            <a:ext cx="1547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Izometrické trhnu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6946920" y="3789360"/>
            <a:ext cx="1801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čas (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5003640" y="189000"/>
            <a:ext cx="79236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(m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1"/>
          <p:cNvSpPr/>
          <p:nvPr/>
        </p:nvSpPr>
        <p:spPr>
          <a:xfrm>
            <a:off x="5292720" y="1916280"/>
            <a:ext cx="647640" cy="20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(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2"/>
          <p:cNvSpPr/>
          <p:nvPr/>
        </p:nvSpPr>
        <p:spPr>
          <a:xfrm>
            <a:off x="3203640" y="6345360"/>
            <a:ext cx="1801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čas (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5" descr="AABKEOFa"/>
          <p:cNvPicPr/>
          <p:nvPr/>
        </p:nvPicPr>
        <p:blipFill>
          <a:blip r:embed="rId1"/>
          <a:stretch/>
        </p:blipFill>
        <p:spPr>
          <a:xfrm>
            <a:off x="179280" y="189000"/>
            <a:ext cx="3672000" cy="33987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7" descr="AABKEOFb"/>
          <p:cNvPicPr/>
          <p:nvPr/>
        </p:nvPicPr>
        <p:blipFill>
          <a:blip r:embed="rId2"/>
          <a:stretch/>
        </p:blipFill>
        <p:spPr>
          <a:xfrm>
            <a:off x="5148360" y="1692360"/>
            <a:ext cx="3456000" cy="31766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9" descr="AABKEOFc"/>
          <p:cNvPicPr/>
          <p:nvPr/>
        </p:nvPicPr>
        <p:blipFill>
          <a:blip r:embed="rId3"/>
          <a:stretch/>
        </p:blipFill>
        <p:spPr>
          <a:xfrm>
            <a:off x="179280" y="3649680"/>
            <a:ext cx="3600720" cy="304488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10"/>
          <p:cNvSpPr/>
          <p:nvPr/>
        </p:nvSpPr>
        <p:spPr>
          <a:xfrm>
            <a:off x="3995640" y="357120"/>
            <a:ext cx="496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ysokofrekvenčné stimul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kčné potenciá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yvolajú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erpo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zíci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valový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rhnut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 (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časov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m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áciu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tra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1"/>
          <p:cNvSpPr/>
          <p:nvPr/>
        </p:nvSpPr>
        <p:spPr>
          <a:xfrm>
            <a:off x="5724360" y="4941720"/>
            <a:ext cx="295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Nekompletn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lnit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tan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3924360" y="5950080"/>
            <a:ext cx="324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mplet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ný (hladký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etan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Image331"/>
          <p:cNvPicPr/>
          <p:nvPr/>
        </p:nvPicPr>
        <p:blipFill>
          <a:blip r:embed="rId1"/>
          <a:stretch/>
        </p:blipFill>
        <p:spPr>
          <a:xfrm>
            <a:off x="0" y="0"/>
            <a:ext cx="7812000" cy="684684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12000" y="115920"/>
            <a:ext cx="3132000" cy="1512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00000"/>
                </a:solidFill>
                <a:latin typeface="Arial"/>
              </a:rPr>
              <a:t>Zhrnutie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000"/>
            </a:br>
            <a:r>
              <a:rPr b="1" lang="sk-SK" sz="3000" spc="-1" strike="noStrike">
                <a:solidFill>
                  <a:srgbClr val="000000"/>
                </a:solidFill>
                <a:latin typeface="Arial"/>
              </a:rPr>
              <a:t>svalovej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3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ntra</a:t>
            </a:r>
            <a:r>
              <a:rPr b="1" lang="sk-SK" sz="3000" spc="-1" strike="noStrike">
                <a:solidFill>
                  <a:srgbClr val="000000"/>
                </a:solidFill>
                <a:latin typeface="Arial"/>
              </a:rPr>
              <a:t>kc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533520" y="180720"/>
            <a:ext cx="81421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Porovnanie vlastností kostrového, srdcového a hladkého sval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1039680"/>
          <a:ext cx="9144000" cy="5747040"/>
        </p:xfrm>
        <a:graphic>
          <a:graphicData uri="http://schemas.openxmlformats.org/drawingml/2006/table">
            <a:tbl>
              <a:tblPr/>
              <a:tblGrid>
                <a:gridCol w="2560680"/>
                <a:gridCol w="2011320"/>
                <a:gridCol w="2286000"/>
                <a:gridCol w="2286000"/>
              </a:tblGrid>
              <a:tr h="396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Vlastnos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Kostrový sv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Srdcový sv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Hladký sv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Priečna pruhovanosť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á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á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n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Relatívna rýchlosť </a:t>
                      </a:r>
                      <a:br>
                        <a:rPr sz="2000"/>
                      </a:b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kontrakc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rých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stredná rýchlos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pomal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Voluntárna kontrola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á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n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n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Refraktórna perióda membrá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krát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dlh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jadier v bunk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veľ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jed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jed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</a:tr>
              <a:tr h="1006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kontrola kontrakc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nerv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spontánna,</a:t>
                      </a:r>
                      <a:br>
                        <a:rPr sz="2000"/>
                      </a:b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nervovo modulovan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nervy</a:t>
                      </a:r>
                      <a:br>
                        <a:rPr sz="2000"/>
                      </a:b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hormóny</a:t>
                      </a:r>
                      <a:br>
                        <a:rPr sz="2000"/>
                      </a:b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natiahnu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</a:tr>
              <a:tr h="13114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Bunky prepojené</a:t>
                      </a:r>
                      <a:br>
                        <a:rPr sz="2000"/>
                      </a:b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interkalárnymi diskami alebo Gap Junctions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n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á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á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ladk</a:t>
            </a:r>
            <a:r>
              <a:rPr b="1" lang="sk-SK" sz="4000" spc="-1" strike="noStrike">
                <a:solidFill>
                  <a:srgbClr val="000000"/>
                </a:solidFill>
                <a:latin typeface="Arial"/>
              </a:rPr>
              <a:t>ý sv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9280" y="1123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Hladký sval (v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cer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áln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o vnútorných orgánoch a ciev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žiadne priečne pruh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rstvy pod sliznicami v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ira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čn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tráviac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yst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é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ruhové vrstvy v stenách ciev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inktery (zvierač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alové vlákna hladkých svalov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retenovitý tvar (fuziformn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širší v strede a tenší na konco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- 20-500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ĺž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mer aktínu 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o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ín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~ 6 : 1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 kostrovom sva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~ 4 : 1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 srdcovom sva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~ 16.5 : 1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 hladkom sv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yššia elasticita a schopnosť sa natiahnuť pričom si stále zachovať kontraktilitu v porovnaní s priečne pruhovanými sval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YP</a:t>
            </a:r>
            <a:r>
              <a:rPr b="1" lang="sk-SK" sz="4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S</a:t>
            </a:r>
            <a:r>
              <a:rPr b="1" lang="sk-SK" sz="4400" spc="-1" strike="noStrike">
                <a:solidFill>
                  <a:srgbClr val="000000"/>
                </a:solidFill>
                <a:latin typeface="Arial"/>
              </a:rPr>
              <a:t>VAL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3640" y="980640"/>
            <a:ext cx="867708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ostrový sval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priečne pruhované svalové tkanivo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pod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kontrolou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omatic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kého nervového systému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(voluntárna kontrol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Srdcový sval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špeciálne priečne pruhované svalové tkanivo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pracujúce automatick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 pod moduláciou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autonómnym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rvo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vý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yst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Hladký sval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tkanivo bez priečneho pruhovan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stimulované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uton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ómnym nervovým systémo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hormn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áln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alebo jednoducho natiahnutí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179280" y="192240"/>
            <a:ext cx="7488360" cy="648648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515280" y="188640"/>
            <a:ext cx="262872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Hladký sval čre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2124000" y="189000"/>
            <a:ext cx="374328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ruhové vrstvy okolo čreva vykonávajú kontrakciou segmentáci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2340000" y="6039000"/>
            <a:ext cx="5400720" cy="63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Longitudinálne vrstvy pozdĺž čreva vykonávajú vlnité kontrak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2"/>
          <p:cNvSpPr/>
          <p:nvPr/>
        </p:nvSpPr>
        <p:spPr>
          <a:xfrm>
            <a:off x="2268360" y="981000"/>
            <a:ext cx="3589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5651640" y="620640"/>
            <a:ext cx="35856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"/>
          <p:cNvSpPr/>
          <p:nvPr/>
        </p:nvSpPr>
        <p:spPr>
          <a:xfrm>
            <a:off x="2195640" y="5805360"/>
            <a:ext cx="3024000" cy="2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6659640" y="5805360"/>
            <a:ext cx="1836720" cy="2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651672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38"/>
              </a:spcBef>
              <a:spcAft>
                <a:spcPts val="23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ontrakcia a relaxác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osu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o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zínovýc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 a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tínovýc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ilament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o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orm</a:t>
            </a:r>
            <a:r>
              <a:rPr b="0" lang="sk-SK" sz="1900" spc="-1" strike="noStrike">
                <a:solidFill>
                  <a:srgbClr val="000000"/>
                </a:solidFill>
                <a:latin typeface="Arial"/>
              </a:rPr>
              <a:t>óny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, neurotransmiter</a:t>
            </a:r>
            <a:r>
              <a:rPr b="0" lang="sk-SK" sz="19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1900" spc="-1" strike="noStrike">
                <a:solidFill>
                  <a:srgbClr val="000000"/>
                </a:solidFill>
                <a:latin typeface="Arial"/>
              </a:rPr>
              <a:t>liek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Jednotkový hladký sv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– tkanivo je spojené 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ncyti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auton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ómn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ervo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yst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inerv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uj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jedn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bunku vo vrstve či zväz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a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čný potenciá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a šíri c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pojenia typ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p junctions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a susedn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bunk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a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všetk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a kontrahuj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poloč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Hladký sval sa môže kontrahova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pont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á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yo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génn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v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ďaka dynamike iónový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análo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leb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emakr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vým bunká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apr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sti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ciál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ja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-o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bunk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astrointestin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eho trakt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Glatte_Muskelzellen"/>
          <p:cNvPicPr/>
          <p:nvPr/>
        </p:nvPicPr>
        <p:blipFill>
          <a:blip r:embed="rId1"/>
          <a:stretch/>
        </p:blipFill>
        <p:spPr>
          <a:xfrm>
            <a:off x="6516720" y="836640"/>
            <a:ext cx="2376360" cy="234468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Kontrakcia hladkého sva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5" descr="peristalsis"/>
          <p:cNvPicPr/>
          <p:nvPr/>
        </p:nvPicPr>
        <p:blipFill>
          <a:blip r:embed="rId2"/>
          <a:stretch/>
        </p:blipFill>
        <p:spPr>
          <a:xfrm>
            <a:off x="6249960" y="3573360"/>
            <a:ext cx="2760840" cy="3024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File:Gap cell junction en.svg"/>
          <p:cNvPicPr/>
          <p:nvPr/>
        </p:nvPicPr>
        <p:blipFill>
          <a:blip r:embed="rId3"/>
          <a:stretch/>
        </p:blipFill>
        <p:spPr>
          <a:xfrm>
            <a:off x="2268360" y="2592360"/>
            <a:ext cx="3959280" cy="278136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8"/>
          <p:cNvSpPr/>
          <p:nvPr/>
        </p:nvSpPr>
        <p:spPr>
          <a:xfrm>
            <a:off x="6300720" y="4005360"/>
            <a:ext cx="863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potr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9"/>
          <p:cNvSpPr/>
          <p:nvPr/>
        </p:nvSpPr>
        <p:spPr>
          <a:xfrm>
            <a:off x="6300720" y="4307040"/>
            <a:ext cx="863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ezifág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0"/>
          <p:cNvSpPr/>
          <p:nvPr/>
        </p:nvSpPr>
        <p:spPr>
          <a:xfrm>
            <a:off x="6300720" y="4594320"/>
            <a:ext cx="13669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Cirkulárne svaly kontrak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1"/>
          <p:cNvSpPr/>
          <p:nvPr/>
        </p:nvSpPr>
        <p:spPr>
          <a:xfrm>
            <a:off x="6300720" y="5084640"/>
            <a:ext cx="151128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Potrava pehltnutá predtý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2"/>
          <p:cNvSpPr/>
          <p:nvPr/>
        </p:nvSpPr>
        <p:spPr>
          <a:xfrm>
            <a:off x="6300720" y="5516640"/>
            <a:ext cx="1440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Cirkulárne svaly relaxovan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3"/>
          <p:cNvSpPr/>
          <p:nvPr/>
        </p:nvSpPr>
        <p:spPr>
          <a:xfrm>
            <a:off x="6300720" y="5950080"/>
            <a:ext cx="863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Sfink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4"/>
          <p:cNvSpPr/>
          <p:nvPr/>
        </p:nvSpPr>
        <p:spPr>
          <a:xfrm>
            <a:off x="6300720" y="6165720"/>
            <a:ext cx="863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Žalúd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5"/>
          <p:cNvSpPr/>
          <p:nvPr/>
        </p:nvSpPr>
        <p:spPr>
          <a:xfrm>
            <a:off x="7020000" y="3429000"/>
            <a:ext cx="1439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Peristal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Kontrakcia hladkého sva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7" descr="BP026_smooth_muscle_contraction"/>
          <p:cNvPicPr/>
          <p:nvPr/>
        </p:nvPicPr>
        <p:blipFill>
          <a:blip r:embed="rId1"/>
          <a:stretch/>
        </p:blipFill>
        <p:spPr>
          <a:xfrm>
            <a:off x="3209760" y="2708280"/>
            <a:ext cx="5754960" cy="398448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10"/>
          <p:cNvSpPr/>
          <p:nvPr/>
        </p:nvSpPr>
        <p:spPr>
          <a:xfrm>
            <a:off x="179280" y="892080"/>
            <a:ext cx="87138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iacjednotkový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hladký sv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utonómnym nervovým systémom sú inervované jednotlivé bunk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jemná kontrol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 gradu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vaná odpoveď podobne ako pri skeletálnom sva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- trachea, elastic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t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éri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ris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k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Žiadn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opon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le namiesto neho j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modul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gula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čný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ín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 hladkom sva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taktiež tropomyozín nemá regulačnú funkciu, ako v priečne pruhovaných svalo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tra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a začí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-regu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vano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y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ácio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o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ín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i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-a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tivovaný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opon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ínový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yst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ém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Tenké filamen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hladkého sval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bsahuj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ajmä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tí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opomyo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í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desm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MuscleCardiacCells"/>
          <p:cNvPicPr/>
          <p:nvPr/>
        </p:nvPicPr>
        <p:blipFill>
          <a:blip r:embed="rId1"/>
          <a:stretch/>
        </p:blipFill>
        <p:spPr>
          <a:xfrm>
            <a:off x="0" y="512640"/>
            <a:ext cx="6095880" cy="507708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3394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000000"/>
                </a:solidFill>
                <a:latin typeface="Arial"/>
              </a:rPr>
              <a:t>Srdcový sv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292720" y="189000"/>
            <a:ext cx="3672000" cy="48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rdcov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veľa kratšie bunky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e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ostrový s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bunky srdcového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valu sa vetvia 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pájajú spojeniam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p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ctions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alárnym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am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ochemic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u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echádzaj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a všetk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epojen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bunky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čná sie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ncyti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bunk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acujú ako celo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395280" y="5141880"/>
            <a:ext cx="842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Mier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priečne pruhovani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odobn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le nie totožné usporiadanie myofilamentov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o má kostrový sv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ohé bunky srdcového svalu s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og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én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impu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znikajú vo svale, neprichádzajú z nervového systém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rdcový rytm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108000" y="1268280"/>
            <a:ext cx="2160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Interkalárne dis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8"/>
          <p:cNvSpPr/>
          <p:nvPr/>
        </p:nvSpPr>
        <p:spPr>
          <a:xfrm>
            <a:off x="2268360" y="1268280"/>
            <a:ext cx="2305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Priečne pruhova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9"/>
          <p:cNvSpPr/>
          <p:nvPr/>
        </p:nvSpPr>
        <p:spPr>
          <a:xfrm>
            <a:off x="4572000" y="1341360"/>
            <a:ext cx="1295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yocy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3635280" y="1700280"/>
            <a:ext cx="936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Jadr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94920" y="260280"/>
            <a:ext cx="82090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Schém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nter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kalárneh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dis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ku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srdcového sva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4" descr=""/>
          <p:cNvPicPr/>
          <p:nvPr/>
        </p:nvPicPr>
        <p:blipFill>
          <a:blip r:embed="rId1"/>
          <a:stretch/>
        </p:blipFill>
        <p:spPr>
          <a:xfrm>
            <a:off x="611280" y="1130400"/>
            <a:ext cx="7273800" cy="307008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5"/>
          <p:cNvSpPr/>
          <p:nvPr/>
        </p:nvSpPr>
        <p:spPr>
          <a:xfrm>
            <a:off x="0" y="2171880"/>
            <a:ext cx="18352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p junctions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vytváraj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ytopl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c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k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mostí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7814160" y="1346040"/>
            <a:ext cx="891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yto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7812000" y="1851120"/>
            <a:ext cx="12589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x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prote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8"/>
          <p:cNvSpPr/>
          <p:nvPr/>
        </p:nvSpPr>
        <p:spPr>
          <a:xfrm>
            <a:off x="7451640" y="3003480"/>
            <a:ext cx="1692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medzibunkov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ries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9"/>
          <p:cNvSpPr/>
          <p:nvPr/>
        </p:nvSpPr>
        <p:spPr>
          <a:xfrm>
            <a:off x="7740720" y="3795840"/>
            <a:ext cx="1403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bunkov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mbr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á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0"/>
          <p:cNvSpPr/>
          <p:nvPr/>
        </p:nvSpPr>
        <p:spPr>
          <a:xfrm>
            <a:off x="395280" y="4724280"/>
            <a:ext cx="828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 myocytoch srdcového sval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nflux Na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pust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indu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ovan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Ca uvolneni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flux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ez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apätí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riaden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aná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 sarkoleme, čo vedie k uvolneni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r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la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matickéh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ti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5" descr="634544_xlarg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3"/>
          <p:cNvSpPr/>
          <p:nvPr/>
        </p:nvSpPr>
        <p:spPr>
          <a:xfrm>
            <a:off x="1476360" y="260280"/>
            <a:ext cx="6624720" cy="129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Monofázický akčný potenciál (srdcový sva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142920" y="3233880"/>
            <a:ext cx="19080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Fáza 0 depolarizácia - Na</a:t>
            </a:r>
            <a:r>
              <a:rPr b="1" lang="sk-SK" sz="1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do bun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4716360" y="1844640"/>
            <a:ext cx="2951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Fáza 2 Ca</a:t>
            </a:r>
            <a:r>
              <a:rPr b="1" lang="sk-SK" sz="18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do bunky inicializácia kontrak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6372360" y="3500280"/>
            <a:ext cx="18716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Fáza 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sk-SK" sz="1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von z bunky repolarizá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8"/>
          <p:cNvSpPr/>
          <p:nvPr/>
        </p:nvSpPr>
        <p:spPr>
          <a:xfrm>
            <a:off x="7236000" y="4732200"/>
            <a:ext cx="1728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Kľudový potenciá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9"/>
          <p:cNvSpPr/>
          <p:nvPr/>
        </p:nvSpPr>
        <p:spPr>
          <a:xfrm>
            <a:off x="179280" y="5726160"/>
            <a:ext cx="2160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depolarizá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0"/>
          <p:cNvSpPr/>
          <p:nvPr/>
        </p:nvSpPr>
        <p:spPr>
          <a:xfrm>
            <a:off x="3780000" y="5726160"/>
            <a:ext cx="1584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repolarizá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5" descr="File:Pacemaker potential annotated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4"/>
          <p:cNvSpPr/>
          <p:nvPr/>
        </p:nvSpPr>
        <p:spPr>
          <a:xfrm>
            <a:off x="324000" y="1197000"/>
            <a:ext cx="1081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Fáza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2484360" y="4508640"/>
            <a:ext cx="1582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Prepotenciá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3059280" y="1052640"/>
            <a:ext cx="4537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Pace-makerový“ akčný potenciá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4859280" y="4581360"/>
            <a:ext cx="1081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Fáza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8"/>
          <p:cNvSpPr/>
          <p:nvPr/>
        </p:nvSpPr>
        <p:spPr>
          <a:xfrm>
            <a:off x="7164360" y="4646520"/>
            <a:ext cx="1081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Fáza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60" descr="634540_xlarge"/>
          <p:cNvPicPr/>
          <p:nvPr/>
        </p:nvPicPr>
        <p:blipFill>
          <a:blip r:embed="rId1"/>
          <a:stretch/>
        </p:blipFill>
        <p:spPr>
          <a:xfrm>
            <a:off x="0" y="0"/>
            <a:ext cx="9144000" cy="645336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76000" y="1123560"/>
            <a:ext cx="626436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b66"/>
                </a:solidFill>
                <a:latin typeface="Arial"/>
              </a:rPr>
              <a:t>and its relation to the ECG wave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61"/>
          <p:cNvSpPr/>
          <p:nvPr/>
        </p:nvSpPr>
        <p:spPr>
          <a:xfrm>
            <a:off x="0" y="5950080"/>
            <a:ext cx="914400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Dlhotrvajúci akčný potenciál – dlhá refraktórna perió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žiadna časová sumácia - žiadna tetanická kontrak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1476360" y="115920"/>
            <a:ext cx="6696000" cy="165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Monofázický akčný potenciál (srdcový sva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a jeho vzťah k EKG kriv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971640" y="3017880"/>
            <a:ext cx="17287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Fáza 0 depolarizácia - Na</a:t>
            </a:r>
            <a:r>
              <a:rPr b="1" lang="sk-SK" sz="1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infl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8"/>
          <p:cNvSpPr/>
          <p:nvPr/>
        </p:nvSpPr>
        <p:spPr>
          <a:xfrm>
            <a:off x="5940360" y="3357720"/>
            <a:ext cx="17272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Fáza 3 repolarizácia K</a:t>
            </a:r>
            <a:r>
              <a:rPr b="1" lang="sk-SK" sz="1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efl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9"/>
          <p:cNvSpPr/>
          <p:nvPr/>
        </p:nvSpPr>
        <p:spPr>
          <a:xfrm>
            <a:off x="3059280" y="1844640"/>
            <a:ext cx="1081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Fáz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0"/>
          <p:cNvSpPr/>
          <p:nvPr/>
        </p:nvSpPr>
        <p:spPr>
          <a:xfrm>
            <a:off x="4284720" y="2060640"/>
            <a:ext cx="1081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Fáza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7" descr="waves"/>
          <p:cNvPicPr/>
          <p:nvPr/>
        </p:nvPicPr>
        <p:blipFill>
          <a:blip r:embed="rId1"/>
          <a:stretch/>
        </p:blipFill>
        <p:spPr>
          <a:xfrm>
            <a:off x="0" y="843120"/>
            <a:ext cx="9144000" cy="60148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Vzťa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ele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ktrickýc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 mechanic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kýc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hara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rist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ík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srdcovej akc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6156360" y="1773360"/>
            <a:ext cx="1801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tlak v a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6"/>
          <p:cNvSpPr/>
          <p:nvPr/>
        </p:nvSpPr>
        <p:spPr>
          <a:xfrm>
            <a:off x="4859280" y="2852640"/>
            <a:ext cx="2808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tlak v ľavej kom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7"/>
          <p:cNvSpPr/>
          <p:nvPr/>
        </p:nvSpPr>
        <p:spPr>
          <a:xfrm>
            <a:off x="5221440" y="3500280"/>
            <a:ext cx="2879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akčný potenciál ľavej ko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8"/>
          <p:cNvSpPr/>
          <p:nvPr/>
        </p:nvSpPr>
        <p:spPr>
          <a:xfrm>
            <a:off x="4572000" y="5149800"/>
            <a:ext cx="2808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E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3995640" y="6375240"/>
            <a:ext cx="1800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čas 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Image:ECG Principle fast.gif"/>
          <p:cNvPicPr/>
          <p:nvPr/>
        </p:nvPicPr>
        <p:blipFill>
          <a:blip r:embed="rId1"/>
          <a:stretch/>
        </p:blipFill>
        <p:spPr>
          <a:xfrm>
            <a:off x="-36360" y="0"/>
            <a:ext cx="6000480" cy="685800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3"/>
          <p:cNvSpPr/>
          <p:nvPr/>
        </p:nvSpPr>
        <p:spPr>
          <a:xfrm>
            <a:off x="5580000" y="333360"/>
            <a:ext cx="338472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Šírenie s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e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ic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kej akt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kčného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poten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ciálu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zo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noatri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neho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uzl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 t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kaniv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srdcových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predsiení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atrioventri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l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neho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uzl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pot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tkaniva srdcových komô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so záznamom príslušného EKG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95280" y="18864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000000"/>
                </a:solidFill>
                <a:latin typeface="Arial"/>
              </a:rPr>
              <a:t>Kostrový sv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upevnený ku kostiam šľacha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niekoľko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p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ov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vláki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rýchlos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výdrž, únav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sila, veľkosť motorickej jednotk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štruktúr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bunk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dlh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viacjadrov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ylind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rick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dĺžka niekoľk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m (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bunka ľudského kostrového sval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rieme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k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00 - 150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cytoskelet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odporuje tvar bun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ZHRNUT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1280" y="909360"/>
            <a:ext cx="8893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Základné vlastnosti svalov a svalového tkan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ostrový, srdcový, hladký sval a rozdiely medzi ni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Štruktúra svalu a svalovej bunky (myofibrila, sarkomera, aktín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zín, 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or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ická jednotk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ner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-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svalová platničk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acetylchol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platničkový potenciá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ubul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sar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la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zmatick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ti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lum,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akčný potenciál svalového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lák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ontrakcia svalu, jej kontrol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tropomyo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z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),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úloh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1" lang="sk-SK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ónov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alové trhnuti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superpozícia, sumácia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tanus (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lnit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hladk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gor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rt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Jednotkový a viacjednotkový hladký sval, spojenie 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p junction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ncyt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Štruktúra tkaniva srdcového svalu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inter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alár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is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Ca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yvolané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uvolneni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Akčný potenciál srdcového svalu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jeh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rvani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m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ác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tra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ci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1551960" y="6237360"/>
            <a:ext cx="639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entochem.tamu.edu/MuscleStrucContractswf/ind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280" y="115920"/>
            <a:ext cx="896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proti sebe pôsobiace svaly s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onist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tagonist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ap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xi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kťa 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iceps brachi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l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onist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riceps brachi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l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agonist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muscles-voluntary1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5180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6"/>
          <p:cNvSpPr/>
          <p:nvPr/>
        </p:nvSpPr>
        <p:spPr>
          <a:xfrm>
            <a:off x="5214960" y="5083200"/>
            <a:ext cx="3929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agonist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 nie j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kdy úpl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lax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van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tro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mierneni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ohybu udržovaní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n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us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ot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gonist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v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ntric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ý pohy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7" descr="muscle_structure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50306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716360" y="216000"/>
            <a:ext cx="2951280" cy="40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bklopuje každý zväz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8317080" y="2492280"/>
            <a:ext cx="576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5508720" y="5157720"/>
            <a:ext cx="1368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bklopu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ažd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bun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2627280" y="5157720"/>
            <a:ext cx="27367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as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a stáva svalový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balom, ktor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echádza do šľa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755640" y="5157720"/>
            <a:ext cx="201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Šľacha - zväz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lagénových vlák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70920" y="-360"/>
            <a:ext cx="4357800" cy="66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Štruktúra kostrového sva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324000" y="765000"/>
            <a:ext cx="792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os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7380360" y="620640"/>
            <a:ext cx="1584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Ci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7236000" y="1844640"/>
            <a:ext cx="1908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valové vlák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8172360" y="2492280"/>
            <a:ext cx="97164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bun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7451640" y="4653000"/>
            <a:ext cx="122400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väz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- svalov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nop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7" descr="image001"/>
          <p:cNvPicPr/>
          <p:nvPr/>
        </p:nvPicPr>
        <p:blipFill>
          <a:blip r:embed="rId1"/>
          <a:stretch/>
        </p:blipFill>
        <p:spPr>
          <a:xfrm>
            <a:off x="142920" y="11160"/>
            <a:ext cx="8893080" cy="68468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0" y="6165360"/>
            <a:ext cx="9144000" cy="69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Hlboká štruktúra kostrového sva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4356000" y="5013360"/>
            <a:ext cx="3240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Jednotlivé svalové vlák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3780000" y="5445000"/>
            <a:ext cx="863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Jad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79280" y="3573360"/>
            <a:ext cx="1800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arkoplaz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"/>
          <p:cNvSpPr/>
          <p:nvPr/>
        </p:nvSpPr>
        <p:spPr>
          <a:xfrm>
            <a:off x="0" y="4076640"/>
            <a:ext cx="1258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Myofibri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1763640" y="3068640"/>
            <a:ext cx="1800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arkol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0"/>
          <p:cNvSpPr/>
          <p:nvPr/>
        </p:nvSpPr>
        <p:spPr>
          <a:xfrm>
            <a:off x="2556000" y="2421000"/>
            <a:ext cx="1800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medzi vlákn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000000"/>
                </a:solidFill>
                <a:latin typeface="Arial"/>
              </a:rPr>
              <a:t>Svalové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4000" spc="-1" strike="noStrike">
                <a:solidFill>
                  <a:srgbClr val="000000"/>
                </a:solidFill>
                <a:latin typeface="Arial"/>
              </a:rPr>
              <a:t>vlákno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= s</a:t>
            </a:r>
            <a:r>
              <a:rPr b="1" lang="sk-SK" sz="4000" spc="-1" strike="noStrike">
                <a:solidFill>
                  <a:srgbClr val="000000"/>
                </a:solidFill>
                <a:latin typeface="Arial"/>
              </a:rPr>
              <a:t>valová bunk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9647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le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membr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valovej bunk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k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strovéh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rdcového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hladkého sval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–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edie signá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kutočná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br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la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tick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mbr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onkajší ob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tenká vrst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lysacharid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v s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ag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énovými vláknam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, ktorý prechádza do vlákien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šľa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arkoplaz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cytopla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 organela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yofibril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cylindric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ganel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ra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tiln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lement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y (myofilamenty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tínov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yo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ínov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lák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špecifická    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onštantn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ĺžk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iekoľký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)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ované do opakujúcich sa podjednotiek pozdĺ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ofibril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arkomé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l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c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ti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l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-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bul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árnym systém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nútorný vodivý systé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587640" y="484200"/>
            <a:ext cx="230508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u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valove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bun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Muscle fibres"/>
          <p:cNvPicPr/>
          <p:nvPr/>
        </p:nvPicPr>
        <p:blipFill>
          <a:blip r:embed="rId1"/>
          <a:stretch/>
        </p:blipFill>
        <p:spPr>
          <a:xfrm>
            <a:off x="0" y="0"/>
            <a:ext cx="6804000" cy="5695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File:Myofibril.svg"/>
          <p:cNvPicPr/>
          <p:nvPr/>
        </p:nvPicPr>
        <p:blipFill>
          <a:blip r:embed="rId2"/>
          <a:stretch/>
        </p:blipFill>
        <p:spPr>
          <a:xfrm>
            <a:off x="2411280" y="4941720"/>
            <a:ext cx="6301080" cy="185292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6"/>
          <p:cNvSpPr/>
          <p:nvPr/>
        </p:nvSpPr>
        <p:spPr>
          <a:xfrm>
            <a:off x="3780000" y="511200"/>
            <a:ext cx="23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Svalové vlák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108000" y="871560"/>
            <a:ext cx="2663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Sarkoplazmat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395280" y="1268280"/>
            <a:ext cx="1655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retikul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9"/>
          <p:cNvSpPr/>
          <p:nvPr/>
        </p:nvSpPr>
        <p:spPr>
          <a:xfrm>
            <a:off x="0" y="2168640"/>
            <a:ext cx="1763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Myofibr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0"/>
          <p:cNvSpPr/>
          <p:nvPr/>
        </p:nvSpPr>
        <p:spPr>
          <a:xfrm>
            <a:off x="5364000" y="2492280"/>
            <a:ext cx="1872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Myozí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1"/>
          <p:cNvSpPr/>
          <p:nvPr/>
        </p:nvSpPr>
        <p:spPr>
          <a:xfrm>
            <a:off x="684360" y="4581360"/>
            <a:ext cx="23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Sarkomé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2"/>
          <p:cNvSpPr/>
          <p:nvPr/>
        </p:nvSpPr>
        <p:spPr>
          <a:xfrm>
            <a:off x="4788000" y="4437000"/>
            <a:ext cx="1008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Aktí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3"/>
          <p:cNvSpPr/>
          <p:nvPr/>
        </p:nvSpPr>
        <p:spPr>
          <a:xfrm>
            <a:off x="2843280" y="5013360"/>
            <a:ext cx="1368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Sarkomé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4"/>
          <p:cNvSpPr/>
          <p:nvPr/>
        </p:nvSpPr>
        <p:spPr>
          <a:xfrm>
            <a:off x="5292720" y="4797360"/>
            <a:ext cx="6476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H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p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5"/>
          <p:cNvSpPr/>
          <p:nvPr/>
        </p:nvSpPr>
        <p:spPr>
          <a:xfrm>
            <a:off x="6300720" y="4797360"/>
            <a:ext cx="6476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I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p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6"/>
          <p:cNvSpPr/>
          <p:nvPr/>
        </p:nvSpPr>
        <p:spPr>
          <a:xfrm>
            <a:off x="3276720" y="6093000"/>
            <a:ext cx="6476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A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p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7"/>
          <p:cNvSpPr/>
          <p:nvPr/>
        </p:nvSpPr>
        <p:spPr>
          <a:xfrm>
            <a:off x="2124000" y="6237360"/>
            <a:ext cx="10796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Z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doštič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8"/>
          <p:cNvSpPr/>
          <p:nvPr/>
        </p:nvSpPr>
        <p:spPr>
          <a:xfrm>
            <a:off x="4140360" y="6232680"/>
            <a:ext cx="1079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Z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doštič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9"/>
          <p:cNvSpPr/>
          <p:nvPr/>
        </p:nvSpPr>
        <p:spPr>
          <a:xfrm>
            <a:off x="5219640" y="6237360"/>
            <a:ext cx="7923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M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čia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6T09:11:00Z</dcterms:created>
  <dc:creator>Ivan Poliacek</dc:creator>
  <dc:description/>
  <dc:language>en-US</dc:language>
  <cp:lastModifiedBy>Veronika Slováček Hagenová</cp:lastModifiedBy>
  <dcterms:modified xsi:type="dcterms:W3CDTF">2021-03-04T08:45:03Z</dcterms:modified>
  <cp:revision>264</cp:revision>
  <dc:subject/>
  <dc:title>Snímka 1</dc:title>
</cp:coreProperties>
</file>