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wmf" ContentType="image/x-wmf"/>
  <Override PartName="/ppt/media/image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C97B-EFD4-4095-AA82-C2699712906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D2AD-CE56-495D-9BD0-421237B0577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8CE6-D653-4B4F-9537-FC2AD21CC52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0393-B859-44A1-B33C-B79B9A6FA4F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41CC-DE2C-4DD2-A1F7-DF9FD7846EB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BD26-5135-4935-A0C1-F1051136082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E05D-5901-43E7-8C7C-0D9687CDC6D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D016-1CFE-40F1-B3D5-8F788AFB02D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CAA0-5325-44A7-8113-1AB8CF9E524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7F12-08D7-4AA1-8AA6-08058CBA90D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89F1-890A-41CF-98DB-A14433DBFF3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0501-2FBF-40B3-97F7-217538159D4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0691-65AE-48D7-A975-73621FCCA4A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F721-6B7C-463C-91BA-7DDAFFC0644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7231-F3C6-46C6-8896-68ACA4494C3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E5E9-CCC0-432D-91D3-564E3591BE3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67A-36AD-4D1D-8F79-73766D86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976-DABD-4DF9-AE63-F9752993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4C2-8F6D-4864-AC15-9184D2A6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E900-6227-4A07-9B97-CD486474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521D-566B-420E-9C3A-884B7423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6AAC-8DF2-474E-9CE6-D16D28CF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BAF8-6C7C-46A8-AF14-A8CF5B06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3451-45EC-49E2-BA0B-D8C22B18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F153-D5DA-47CC-8127-B0DCF51C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5D00-C8D5-4921-B846-6035EF8A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5FD6-56D1-4738-827F-2CDB35BB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3AA6-C804-4349-A7F2-C6AB87E0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DBB0-1C57-48AE-B483-FA789C2C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AA98-EA83-43F5-AAA1-E5933560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AF06-78F5-414A-A8BD-2D36A2AA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3D9D-F958-44EC-BD8C-4F14D10F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2F6F-82B4-4343-8D28-B0998FAF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CBC-2D76-412E-A2D7-A7C6F10B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B94-937B-45D2-804C-8FCAD683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DCE-486C-4630-91C8-DA818A55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24E-66FF-49D5-AEAE-5682E42F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5873-F4EE-4324-8B02-97AEC4F4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A189-E19C-47F7-9F9F-DF2C8DF5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F5E-603D-4A21-9108-07500A2C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BFF4-77B3-493B-9EA8-8AD5DDC5FF04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E571-5BB6-4FFE-A242-CBF44C609333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yziologia zraku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27" descr="lens"/>
          <p:cNvPicPr/>
          <p:nvPr/>
        </p:nvPicPr>
        <p:blipFill>
          <a:blip r:embed="rId1"/>
          <a:stretch/>
        </p:blipFill>
        <p:spPr>
          <a:xfrm>
            <a:off x="3780000" y="0"/>
            <a:ext cx="2592360" cy="2276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29"/>
          <p:cNvSpPr/>
          <p:nvPr/>
        </p:nvSpPr>
        <p:spPr>
          <a:xfrm>
            <a:off x="3773520" y="3612240"/>
            <a:ext cx="6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r>
              <a:rPr b="1" lang="sk-SK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Lens</a:t>
            </a:r>
            <a:r>
              <a:rPr b="1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1030"/>
          <p:cNvSpPr/>
          <p:nvPr/>
        </p:nvSpPr>
        <p:spPr>
          <a:xfrm>
            <a:off x="3740040" y="3613320"/>
            <a:ext cx="339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0"/>
          <a:ext cx="8244000" cy="1401840"/>
        </p:xfrm>
        <a:graphic>
          <a:graphicData uri="http://schemas.openxmlformats.org/drawingml/2006/table">
            <a:tbl>
              <a:tblPr/>
              <a:tblGrid>
                <a:gridCol w="82440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ošovka</a:t>
                      </a:r>
                      <a:endParaRPr b="1" lang="en-US" sz="3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043"/>
          <p:cNvSpPr/>
          <p:nvPr/>
        </p:nvSpPr>
        <p:spPr>
          <a:xfrm>
            <a:off x="0" y="255852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A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LENS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je priehľadná a uložená za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úhovkou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IRIS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á úlohu ohýbať svetelné lúče do jedného miesta na sietnici 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ochorení ok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-sobených teplom alebo UV žiarením, vzniká  ZÁKAL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y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tar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0" name="Picture 1054" descr="NoCataractPhoto"/>
          <p:cNvPicPr/>
          <p:nvPr/>
        </p:nvPicPr>
        <p:blipFill>
          <a:blip r:embed="rId2"/>
          <a:stretch/>
        </p:blipFill>
        <p:spPr>
          <a:xfrm>
            <a:off x="395280" y="5157720"/>
            <a:ext cx="1873080" cy="1700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55" descr="CataractPhoto"/>
          <p:cNvPicPr/>
          <p:nvPr/>
        </p:nvPicPr>
        <p:blipFill>
          <a:blip r:embed="rId3"/>
          <a:stretch/>
        </p:blipFill>
        <p:spPr>
          <a:xfrm>
            <a:off x="3132000" y="5084640"/>
            <a:ext cx="1800360" cy="177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56" descr="cats"/>
          <p:cNvPicPr/>
          <p:nvPr/>
        </p:nvPicPr>
        <p:blipFill>
          <a:blip r:embed="rId4"/>
          <a:stretch/>
        </p:blipFill>
        <p:spPr>
          <a:xfrm>
            <a:off x="5580000" y="5013360"/>
            <a:ext cx="27338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76120"/>
            <a:ext cx="8244000" cy="635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Dúh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Dúhovka 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RIS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obsahuje dva svaly- zvierač a dilatátor, reagujúce na osvit: silné svetlo vedie ku zmenšovaniu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zrenice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1" lang="sk-SK" sz="3000" spc="-1" strike="noStrike">
                <a:solidFill>
                  <a:srgbClr val="ffffff"/>
                </a:solidFill>
                <a:latin typeface="Arial"/>
              </a:rPr>
              <a:t>pupil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( mió-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  <a:ea typeface="Arial"/>
              </a:rPr>
              <a:t>,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labé svetlo ku jej rozširovaniu (mydri-á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. Tento tzv.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upilárny reflex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a využíva v anesteziológii a v neurológii na zisťovanie hĺbky anestézie a stavu bdelosti. Dúhovka obsahuje aj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ciev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igment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, ktorý podmie-ňuje farbu očí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Veľa pigmentu = tmavohnedé oči, žiadny pigment = modré oči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4" name="Picture 3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3238560" y="0"/>
            <a:ext cx="59054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4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66" name="Rectangle 7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8" name="Rectangle 5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9261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Sklovec         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Picture 4" descr="Vitreous illustration"/>
          <p:cNvPicPr/>
          <p:nvPr/>
        </p:nvPicPr>
        <p:blipFill>
          <a:blip r:embed="rId1"/>
          <a:stretch/>
        </p:blipFill>
        <p:spPr>
          <a:xfrm>
            <a:off x="3419640" y="333360"/>
            <a:ext cx="4176720" cy="2808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900000" y="3431160"/>
            <a:ext cx="82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klovec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- Corpus vitreum -  je uložený za šošovkou v zadnej očnej komore. Je tvorený priehľadnou huspeninov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klovcovou tekuti-no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humor vitreus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ktorá má viskózno-elastic-ké vlastnosti a podmieňuje okrúhly tvar a elas-ticitu očnej gule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TIN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bsahuje 2 druhy fotore-ceptotor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120 milli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ón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 a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ČAPÍK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 6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l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/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),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a po dve vrstv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PO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 GANGLION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uniek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 citlivejšie na svetlo než Čapíky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zodpovedné za nočné a čiernobiele videni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kotopick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.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Čapí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a videnie farebné a videnie počas dň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Fotopické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Žltá škrvn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- Macula lutea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je miesto najostrejšieho videnia s obsahom len čapíkov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Slepá škrvna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ptický disk- - tu vychádza z očnej gule optický  nerv a vstupu-jú a vystupujú cievy. Nie sú tu žiadne receptor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Picture 1028" descr="http://www.stlukeseye.com/images/illustrations/retina.jpg"/>
          <p:cNvPicPr/>
          <p:nvPr/>
        </p:nvPicPr>
        <p:blipFill>
          <a:blip r:embed="rId1"/>
          <a:stretch/>
        </p:blipFill>
        <p:spPr>
          <a:xfrm>
            <a:off x="3276720" y="0"/>
            <a:ext cx="2590560" cy="191628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029"/>
          <p:cNvGrpSpPr/>
          <p:nvPr/>
        </p:nvGrpSpPr>
        <p:grpSpPr>
          <a:xfrm>
            <a:off x="266760" y="685800"/>
            <a:ext cx="1539360" cy="1533600"/>
            <a:chOff x="266760" y="685800"/>
            <a:chExt cx="1539360" cy="1533600"/>
          </a:xfrm>
        </p:grpSpPr>
        <p:sp>
          <p:nvSpPr>
            <p:cNvPr id="176" name="Rectangle 1033"/>
            <p:cNvSpPr/>
            <p:nvPr/>
          </p:nvSpPr>
          <p:spPr>
            <a:xfrm>
              <a:off x="1436400" y="163188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7" name="Rectangle 1032"/>
            <p:cNvSpPr/>
            <p:nvPr/>
          </p:nvSpPr>
          <p:spPr>
            <a:xfrm>
              <a:off x="266760" y="1244520"/>
              <a:ext cx="500040" cy="1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8" name="Rectangle 1031"/>
            <p:cNvSpPr/>
            <p:nvPr/>
          </p:nvSpPr>
          <p:spPr>
            <a:xfrm>
              <a:off x="820440" y="2119680"/>
              <a:ext cx="959040" cy="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9" name="Rectangle 1030"/>
            <p:cNvSpPr/>
            <p:nvPr/>
          </p:nvSpPr>
          <p:spPr>
            <a:xfrm>
              <a:off x="458640" y="685800"/>
              <a:ext cx="4507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80" name="Rectangle 1034"/>
          <p:cNvSpPr/>
          <p:nvPr/>
        </p:nvSpPr>
        <p:spPr>
          <a:xfrm>
            <a:off x="0" y="20736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00"/>
              </a:solidFill>
              <a:latin typeface="Arial"/>
              <a:ea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0"/>
            <a:ext cx="86756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Očné pozadi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isťované oftalmoskopicky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Picture 4" descr="scan0007"/>
          <p:cNvPicPr/>
          <p:nvPr/>
        </p:nvPicPr>
        <p:blipFill>
          <a:blip r:embed="rId1"/>
          <a:stretch/>
        </p:blipFill>
        <p:spPr>
          <a:xfrm>
            <a:off x="395280" y="1413000"/>
            <a:ext cx="8497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i prechode lúčov okom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iet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 sietnic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pre-chádzajú najs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 cez vrstvy ganglionárnych a bipo-lárnych buniek a až nakoniec  sa dostávajú k tyčin-kám a k čapík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Fotopigmenty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uložené v tyčinkách a v čapíkoch  podliehajú vplyvom svetla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hemickému rozpa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pri ktorom sa uvoľňu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ektrón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ieto elektróny sú zodpovedné za vzni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GP vo vnútri Ganglionárnych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uniek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P na  axónoch opúšťajúcich Ganglionárne bunk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eda GP a AP nevznikajú v tyčinkách a v ča-píkoch (tieto sú hyperpolarizované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2700360" y="0"/>
            <a:ext cx="126014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Rozpad fotopigmentov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dopsin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( 11 ci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-opsin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urpurovej farby.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Svetlo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ho rozkladá n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p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 ( all-tran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 opsine) +  1 el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r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ó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, a pigment bledn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V  noci alebo pri zavretých očiach, sa 11 cis forma pigmentu obnovuje za katalytického účinku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ita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T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je potrebný pre resyntézu rodopsínu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k Vit. A chýba v potrave vzniká Šerosleposť 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MERALOP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I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ri druhy Čapíkov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y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Erytrolab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 červená farb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hlorolab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zelen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yanolab</a:t>
            </a:r>
            <a:r>
              <a:rPr b="1" lang="sk-SK" sz="32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modr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arebné videni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LMHOLT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VA-YAUNGOV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Ó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ud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ercipujú 3 základné farby (zelenú, červenú, modrú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 množstvo farebných odtieňov. Je to preto, lebo sietnica obsahuje 3 druhy čapíkov s 3 druhmi fotoreceptorov. Normálne farebné videnie nazýva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A a ľudí TRICHROMATI.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k chýba jeden z 3 čapíkov, hovoríme o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 a Dichromatoch.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ýchto delíme n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oanopov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lná strata citlivosti na zelenú farb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protanopov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(strata červenej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itanopov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strata modrej  a žltej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alebo anomálov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(čiastočná strata citlivosti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Ak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chýbajú všetky čapíky  hovorí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NO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. Farbosleposť je dedičné ochorenie -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matky ho pren-šajú na svojich synov, dcéry sú zdravé. Najčastejšie - až v 8% sa v populácii stretáme s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anopiou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63080"/>
            <a:ext cx="9144000" cy="646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omod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je proces zaostrenia oka na blízke predmety.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komodácia umožňuje zaostriť pohľad z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lené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 nad 6 m od ok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lízke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(do vzdialenosti niekoľkých cm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tak aby sme videli predmet ostro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očas akomodácie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ťah m. ciliáris vedie k relaxácii ligament , ktoré držia šošovku. Šošovka sa tak vlastnou elasticitou akoby “ pohne do strán“, zhrubne a nadobud-ne okrúhly tvar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Čím bližšie je predmet pri oku, tým 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čšia musí byť akomodácia.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Tzv.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k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lomivosť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sa meria v jednotkách 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DIOPTR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br>
              <a:rPr sz="2800"/>
            </a:b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= 1 / f (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elého oka je cc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 toho na rohovku pripadá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3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šošovku asi 16-2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 1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4600440" y="3795840"/>
          <a:ext cx="4762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0440" y="3795840"/>
                    <a:ext cx="476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Zrak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 je naj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ô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ležitejší ľudský zmysel, ktorý zabezpečuje príjem viac než 80% informácií z okolia.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dekvátny zrakový podnet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le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romag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tic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é vlnenie fotónov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(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iditeĺné svetlo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= 380 – 780 nm)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ltr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fialové svetlo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je po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380 nm,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f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ačerven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vetlo je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iac než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780 nm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ýchlosť svetla vo vákuu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cca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300 000 km/s.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186 000 m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íl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/s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</a:t>
            </a:r>
            <a:r>
              <a:rPr b="1" lang="sk-SK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4400640" y="3795840"/>
          <a:ext cx="876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0640" y="3795840"/>
                    <a:ext cx="876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é chyby: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metropie sféric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YPER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MET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 PRESBYOP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Ametropie asféric-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(ASTIGMATIZMU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málne oko j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EMETROPIC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É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 priemero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= 2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Svetelné lúče sú ohýbané rohovkou a šošovkou a fokusované do žltej škrvny na sietnici. Tam sa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kutočný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, zmenšený  a obrátený obra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predmet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eye_emmetrop"/>
          <p:cNvPicPr/>
          <p:nvPr/>
        </p:nvPicPr>
        <p:blipFill>
          <a:blip r:embed="rId1"/>
          <a:stretch/>
        </p:blipFill>
        <p:spPr>
          <a:xfrm>
            <a:off x="2124000" y="3716280"/>
            <a:ext cx="5256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YOPIA 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rátkozrakosť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emer oka j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2,5 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omivosť  oka (rohovky a/alebo šošovk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je v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čši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s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obraz predmetu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ed sietnico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Obraz j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ozmazaný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a problém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idieť ostr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-ené predmet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ostihnutí sa snažia korigovať chybu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žmúrením viečo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lná korekcia je možná použití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šošoviek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ozptyliek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ktoré usmernia svetelné lúče do žltej škrvny na sietnici, alebo laserovou operáciou. S pribúdajúcim vekom sa myopia 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že upraviť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Myopia - Nearsightedness"/>
          <p:cNvPicPr/>
          <p:nvPr/>
        </p:nvPicPr>
        <p:blipFill>
          <a:blip r:embed="rId1"/>
          <a:stretch/>
        </p:blipFill>
        <p:spPr>
          <a:xfrm>
            <a:off x="4464000" y="4581360"/>
            <a:ext cx="4680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Hypermetropia - ďalekozrakosť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bu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2.5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lomivosť rohov-ky a /šošovky je malá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s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braz predmetu vytvára za sietnicou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á problém vidieť ostr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e predmety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asto sa počas čítania vys-kytuje aj únava očí a bolesti hlavy v záhlaví. Korekcia chyby sa robí nasadením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CH ŠOŠOVIE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ktoré usmernia svetelné lúče do žltej škvrny sietni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Fasighted eye - Hyperopia"/>
          <p:cNvPicPr/>
          <p:nvPr/>
        </p:nvPicPr>
        <p:blipFill>
          <a:blip r:embed="rId1"/>
          <a:stretch/>
        </p:blipFill>
        <p:spPr>
          <a:xfrm>
            <a:off x="3995640" y="4005360"/>
            <a:ext cx="3888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352080"/>
            <a:ext cx="8001000" cy="608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SBYOPIA- Starecké videnie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je druhom ďalekozrakosti - hypermetrop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tiež známa ako Syndróm“ krátkych rúk“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Podstatou chyby je, ž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asticita Šošovky s vekom postupne  klesá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Preto u ľudí nad 45 rokov, klesá akomodačná sila oka, z dôvodu poklesu  eleasticity šošovky. Takto sa pos-tupn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y bod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vzďaľuje viac a viac od oka a dosiahne hodnoty 45 - 100 - 400 cm. (viď praktiká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hyba sa korigu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mi šošov-kami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stigmatizmu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1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trí medzi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sférické ametropi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ríčin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nerovný povrch rohovk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-rá nie je dokonale hladká, ale „hrboľa-tá“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Človek buď nevidí ostro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iaľky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n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blízk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Chyba sa korig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cylindrickými šošov-kami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operačn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excimerový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aser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696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efrakčné sférické chyby oka 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8" name="Picture 3" descr="scan0008"/>
          <p:cNvPicPr/>
          <p:nvPr/>
        </p:nvPicPr>
        <p:blipFill>
          <a:blip r:embed="rId1"/>
          <a:stretch/>
        </p:blipFill>
        <p:spPr>
          <a:xfrm>
            <a:off x="755640" y="907920"/>
            <a:ext cx="80643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1027"/>
          <p:cNvGraphicFramePr/>
          <p:nvPr/>
        </p:nvGraphicFramePr>
        <p:xfrm>
          <a:off x="4281480" y="3186000"/>
          <a:ext cx="58104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186000"/>
                    <a:ext cx="58104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6" descr="Winter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natómia oka zvonka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úhovka, zrenica, bielko, spojiv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chopnosť vidieť zabezpečuje systém tzv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ého analyzátor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rý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zostáva z 3 častí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Očná guľa, Optické nervy (a nervové dráhy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)</a:t>
            </a:r>
            <a:r>
              <a:rPr b="1" lang="sk-SK" sz="4000" spc="-1" strike="noStrike">
                <a:solidFill>
                  <a:srgbClr val="cc9900"/>
                </a:solidFill>
                <a:latin typeface="Arial"/>
              </a:rPr>
              <a:t>,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zrakový kortex v záhlavovom laloku mozg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684360" y="1052640"/>
            <a:ext cx="4176720" cy="273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22" name="Rectangle 8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4" name="Rectangle 6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6" name="Group 11"/>
          <p:cNvGrpSpPr/>
          <p:nvPr/>
        </p:nvGrpSpPr>
        <p:grpSpPr>
          <a:xfrm>
            <a:off x="0" y="85680"/>
            <a:ext cx="3762360" cy="1647720"/>
            <a:chOff x="0" y="85680"/>
            <a:chExt cx="3762360" cy="1647720"/>
          </a:xfrm>
        </p:grpSpPr>
        <p:sp>
          <p:nvSpPr>
            <p:cNvPr id="127" name="Rectangle 22"/>
            <p:cNvSpPr/>
            <p:nvPr/>
          </p:nvSpPr>
          <p:spPr>
            <a:xfrm>
              <a:off x="3171960" y="1457280"/>
              <a:ext cx="380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3162240" y="1162080"/>
              <a:ext cx="4474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3171960" y="866520"/>
              <a:ext cx="5904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3171960" y="542880"/>
              <a:ext cx="4377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1" name="Rectangle 18"/>
            <p:cNvSpPr/>
            <p:nvPr/>
          </p:nvSpPr>
          <p:spPr>
            <a:xfrm>
              <a:off x="3171960" y="247680"/>
              <a:ext cx="4572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2" name="Rectangle 17"/>
            <p:cNvSpPr/>
            <p:nvPr/>
          </p:nvSpPr>
          <p:spPr>
            <a:xfrm>
              <a:off x="0" y="1600200"/>
              <a:ext cx="618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323640" y="1285920"/>
              <a:ext cx="2761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314280" y="990360"/>
              <a:ext cx="3045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199800" y="685800"/>
              <a:ext cx="428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428400" y="371520"/>
              <a:ext cx="218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257040" y="85680"/>
              <a:ext cx="3520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3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" name="Picture 24" descr="Conjunctiva - eye anatomy"/>
          <p:cNvPicPr/>
          <p:nvPr/>
        </p:nvPicPr>
        <p:blipFill>
          <a:blip r:embed="rId2"/>
          <a:stretch/>
        </p:blipFill>
        <p:spPr>
          <a:xfrm>
            <a:off x="5219640" y="1052640"/>
            <a:ext cx="352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Časti o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1" name="Object 7"/>
          <p:cNvGraphicFramePr/>
          <p:nvPr/>
        </p:nvGraphicFramePr>
        <p:xfrm>
          <a:off x="4427640" y="3807000"/>
          <a:ext cx="7714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807000"/>
                    <a:ext cx="7714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07084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TAVBA OKA- schém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6" descr="scan4"/>
          <p:cNvPicPr/>
          <p:nvPr/>
        </p:nvPicPr>
        <p:blipFill>
          <a:blip r:embed="rId1"/>
          <a:stretch/>
        </p:blipFill>
        <p:spPr>
          <a:xfrm>
            <a:off x="395280" y="981000"/>
            <a:ext cx="8532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9332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čná guľa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(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okrúhly tvar s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 = 2.5 cm)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Pozostáva z 3 častí (zvonka dovnútra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bielko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cievovk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chorioide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retin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a z 2 druhov tekutín: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komorový mok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umor aquens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, vypľňuje prednú očnú komoru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sklovcová tekutina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itreus humor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, vyplňuje zadnú očnú komoru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82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Bielk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léra: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tenká v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ä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zivová vrstva, ktorá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vpredu prechádza v priehľadnú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Rohovku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NE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 Má najvyšiu schop-nosť ohýbať svetelné lúče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ú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omi-vosť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, obsahuje receptory bolesti, neobsa-huje cievy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Za rohovk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edná očná komor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yplnená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odnatým komorovým moko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humor aquen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. Tento vytvára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vnútroočný tlak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 hodnotou cca 2,66 kP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Picture 1027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2124000" y="333360"/>
            <a:ext cx="42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617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chorioide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je medzi sklérou a retinou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Obsahuje početné cievy s fun-ciou vyživovacou. Vpredu prechádza cievovka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ráskovcového teles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1028" descr="Choroid illustration"/>
          <p:cNvPicPr/>
          <p:nvPr/>
        </p:nvPicPr>
        <p:blipFill>
          <a:blip r:embed="rId1"/>
          <a:stretch/>
        </p:blipFill>
        <p:spPr>
          <a:xfrm>
            <a:off x="3492360" y="0"/>
            <a:ext cx="3816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27" descr="CiliaryBody"/>
          <p:cNvPicPr/>
          <p:nvPr/>
        </p:nvPicPr>
        <p:blipFill>
          <a:blip r:embed="rId1"/>
          <a:stretch/>
        </p:blipFill>
        <p:spPr>
          <a:xfrm>
            <a:off x="539640" y="333360"/>
            <a:ext cx="7740720" cy="2852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030"/>
          <p:cNvSpPr/>
          <p:nvPr/>
        </p:nvSpPr>
        <p:spPr>
          <a:xfrm>
            <a:off x="765000" y="5838840"/>
            <a:ext cx="2857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3" name="Picture 1028" descr="CiliaryBody"/>
          <p:cNvPicPr/>
          <p:nvPr/>
        </p:nvPicPr>
        <p:blipFill>
          <a:blip r:embed="rId2"/>
          <a:stretch/>
        </p:blipFill>
        <p:spPr>
          <a:xfrm>
            <a:off x="-3571920" y="-382680"/>
            <a:ext cx="2228760" cy="13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0" y="3429000"/>
          <a:ext cx="9144000" cy="43592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078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áskovcové teleso-</a:t>
                      </a:r>
                      <a:r>
                        <a:rPr b="1" lang="sk-SK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pus ciliare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a-huje akomodačný SVAL -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. ciliaris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sk-SK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podpor-né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GAMENT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Zonul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,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toré fixujú ŠOŠOV-KU 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NS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r>
                        <a:rPr b="0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e štruktúry su významné pre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KOMODÁCIU oka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.j. schopnosť oka zaostriť na blízke predmety.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1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48Z</dcterms:modified>
  <cp:revision>609</cp:revision>
  <dc:subject/>
  <dc:title>Úvod</dc:title>
</cp:coreProperties>
</file>