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4.gif" ContentType="image/gi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jpeg" ContentType="image/jpeg"/>
  <Override PartName="/ppt/media/image8.wmf" ContentType="image/x-wmf"/>
  <Override PartName="/ppt/media/image9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DE4A-CFDE-4284-B309-80C2AA7A895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C4F7-1B87-4401-9A14-F18F3103725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3C91-4167-4418-AD18-9F67E0BD5D7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0613-CE70-4B84-A2F4-F9EA2D7B53A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7FAC-0B57-43A0-82D1-26592AF116E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8C0C-C1CD-4466-B53E-F9170EFEABF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444E-E23E-4DC7-A8B4-201B3C296F5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24D9-4DE5-46D7-845B-D09890E9D00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AEEE-15FA-40C6-9F8F-407C79AA697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E3D5-227C-4241-B352-FECB6ED3ADB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FDE8-78F6-4499-99D4-0AE8016DDD3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38C3-189E-4F49-8756-ED41F9B774D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D2AF-F59D-4BED-9248-77ED24D4405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47CC-6C54-4D1B-8A1F-57AB1574CA5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8256-EF3B-45A1-B0F8-C46EFA77A3E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4205-B7E3-48CE-96F5-861AF32DF2D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09B1-CB0F-4B7D-8D44-A5A66806E2F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8142-0137-4000-BCBF-9ED67536B96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DDAA-D721-4F14-9D32-F40CC045278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1B90-A65D-4D41-9535-793F7DC1D95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F82E-E0A7-4E9C-B529-91F0B899E16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87A8-024E-4089-8BC3-4B61DCB19E9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70EF-4D18-442B-A018-B5AB4A31B43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C447-7F28-4AF0-BCE7-0DFE3A85943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02C7-C1EB-4745-BE56-D2986BD291F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FC79-93D8-47C1-B7FD-B2B76C3FEE0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D271-8375-4667-8836-3E45B775B77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6EED-A456-46CB-A16E-F300FD047EE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5600-D0BC-44D3-AEE8-9F985A49835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A641-0D60-4FAE-9924-9AF1E3F44BD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C516-D2E2-49DB-B221-5C4D4DBEF26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38B-4399-4C8C-A219-0C59FD2E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FCF-EC91-476F-A6E6-62722153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723-EAB1-437E-9A1D-3E584C72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4DF-AFE7-4511-BE29-3EE94A2D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E8F-6412-46C2-A943-3232BFD1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09A-0A67-4E65-974D-8B91116E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9D4-A8F9-4FBA-BCFF-834B3AF1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D37-235A-4494-BA53-50E2D869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6AD-8E2B-4B9D-BED2-99DA235F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417-A2F6-444D-BEC6-62075B6A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970-878B-4333-963B-93D476DA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825-7D25-4155-8DE4-E7B29181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259D-E86D-44EE-9010-E411524B62DD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</a:t>
            </a: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</a:rPr>
              <a:t>dýchacieho systému</a:t>
            </a:r>
            <a:br>
              <a:rPr sz="4400"/>
            </a:br>
            <a:br>
              <a:rPr sz="2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Ján Jakuš</a:t>
            </a:r>
            <a:br>
              <a:rPr sz="4000"/>
            </a:b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3508200" y="709560"/>
            <a:ext cx="48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Dum spiro, spero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Úloha bránice, medzirebrových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a prídatných dýchacích svalov 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(model-Paralelogra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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bránica </a:t>
            </a:r>
            <a:br>
              <a:rPr sz="24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prídatné svaly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medzirebrové (interkostálne) sval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(auxiliárne)                                  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vonkajšie -inspiračné           </a:t>
            </a:r>
            <a:br>
              <a:rPr sz="2400"/>
            </a:b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vnútorné  - exspiračné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3" descr="lungs"/>
          <p:cNvPicPr/>
          <p:nvPr/>
        </p:nvPicPr>
        <p:blipFill>
          <a:blip r:embed="rId1"/>
          <a:stretch/>
        </p:blipFill>
        <p:spPr>
          <a:xfrm>
            <a:off x="1042920" y="1700280"/>
            <a:ext cx="2819520" cy="350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052880" cy="33544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5"/>
          <p:cNvSpPr/>
          <p:nvPr/>
        </p:nvSpPr>
        <p:spPr>
          <a:xfrm>
            <a:off x="7667640" y="105264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867280" y="1341360"/>
            <a:ext cx="50508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956720" y="98100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8893080" y="1484280"/>
            <a:ext cx="250920" cy="504720"/>
          </a:xfrm>
          <a:custGeom>
            <a:avLst/>
            <a:gdLst>
              <a:gd name="textAreaLeft" fmla="*/ 35640 w 250920"/>
              <a:gd name="textAreaRight" fmla="*/ 215280 w 250920"/>
              <a:gd name="textAreaTop" fmla="*/ 288360 h 504720"/>
              <a:gd name="textAreaBottom" fmla="*/ 432720 h 504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Bránica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lavný inspiračný sval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dpovedá za 60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% zmeny objem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hrudníka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Počas pokojného dýchania klesá kaudálnym smerom asi o 1,5 cm, pri hlbokom nádychu však až o 7-13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m.intercostales externi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äčšenie predozadného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prieč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dych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. intercostales interni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-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kles rebier a zmenšenie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ýdyc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n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kt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 dej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xspírium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evažn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as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Pokoj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spôsobený pasívnym vytláčaním bránice smerom nahor a retrakčnou silou hrudného koša a pľúc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ánice </a:t>
            </a:r>
            <a:br>
              <a:rPr sz="40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. Intercostales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ext. a prídatných inspiračných svalov (krku a hrudník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).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ušných svalov (brušný lis) a mm.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intercostales interni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Mechanizmus pľúcnej ventilácie: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INSPÍRIU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kontrakcia bránice a  vonkajších medzir.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onka-dovnútra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inspiračný prietok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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inspiračný pľúcny objem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EXSPÍRIUM:</a:t>
            </a:r>
            <a:br>
              <a:rPr sz="32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sívny pohyb bránice nahor a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retrakčná sila pľúc a hrudníka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ľahko pozitívny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pri malej negativite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nútra-navonok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exspiračný prietok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exspiračný pľúcny objem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ÚSILNÉ INSPÍRIU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 (práca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vičenie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:</a:t>
            </a:r>
            <a:br>
              <a:rPr sz="32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silnenie sťahu bránice spolu s kontrakciou tzv. auxiliárnych inspiračných svalov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äčšia 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ýšenie inspiračného prietoku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výšenie množstva vdýchnutého pľúcneho objemu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ÚSILNÉ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EXSPÍRIUM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kašeľ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Kontrakci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brušných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nútorných medzir.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alov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zitívne hodnoty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Abd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,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eľký exspiračný prietok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veľký exspirovaný obje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ázn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pleurálneho tlaku, intrapulmonálneho tlaku, prietoku vzduchu a dychového objemu počas pokojného inspíria (insp) a exspíria (exsp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objemy</a:t>
            </a: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dychový objem (tidal volume V</a:t>
            </a:r>
            <a:r>
              <a:rPr b="1" i="1" lang="sk-SK" sz="28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T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= 0,5 l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in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I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= 2,5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x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E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= 1,0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eziduálny objem (RV)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                = 1,2 l</a:t>
            </a: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 Narrow"/>
              </a:rPr>
              <a:t> (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kolapsový vzduch 0,4 l + minimálny vzduch 0,8 l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050920" y="3141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3348000" y="38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a4"/>
                </a:solidFill>
                <a:latin typeface="Times New Roman"/>
              </a:rPr>
              <a:t>IR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18" descr="Obrázok2"/>
          <p:cNvPicPr/>
          <p:nvPr/>
        </p:nvPicPr>
        <p:blipFill>
          <a:blip r:embed="rId1"/>
          <a:stretch/>
        </p:blipFill>
        <p:spPr>
          <a:xfrm>
            <a:off x="468360" y="2997360"/>
            <a:ext cx="7920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 kapacity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itálna kapacita p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úc (V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+ IRV + ERV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nspir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kapacita (I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   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Fun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reziduá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a (FR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R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lk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pľúc (TL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vš. o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bjem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br>
              <a:rPr sz="3100"/>
            </a:br>
            <a:br>
              <a:rPr sz="31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87480" y="2399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6" descr="Obrázok2"/>
          <p:cNvPicPr/>
          <p:nvPr/>
        </p:nvPicPr>
        <p:blipFill>
          <a:blip r:embed="rId1"/>
          <a:stretch/>
        </p:blipFill>
        <p:spPr>
          <a:xfrm>
            <a:off x="539640" y="2781360"/>
            <a:ext cx="80647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oddajnosť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pľú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 (complianc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- 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je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zmena objem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(v l) sp</a:t>
            </a:r>
            <a:r>
              <a:rPr b="1" i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ô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sobená  zmenou tlaku (v kPa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:</a:t>
            </a:r>
            <a:br>
              <a:rPr sz="4000"/>
            </a:br>
            <a:br>
              <a:rPr sz="40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N = 2l /kP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dosp.človek</a:t>
            </a:r>
            <a:br>
              <a:rPr sz="2800"/>
            </a:br>
            <a:br>
              <a:rPr sz="28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Fibróza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 </a:t>
            </a:r>
            <a:br>
              <a:rPr sz="2800"/>
            </a:b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Emfyzém</a:t>
            </a: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           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a dynamickej poddajnost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743200" y="2025720"/>
            <a:ext cx="5867280" cy="36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ka celkového prúdového odporu dýchacích ciest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(počítame ako pomer tlaku a prietoku)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(kPa .l .s</a:t>
            </a:r>
            <a:r>
              <a:rPr b="1" i="1" lang="sk-SK" sz="36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1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astma bronchiale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rozšírenie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dýchacích ciest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41148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Fyziologia vonkajšie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 vnútorné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ýchania</a:t>
            </a:r>
            <a:br>
              <a:rPr sz="4000"/>
            </a:br>
            <a:br>
              <a:rPr sz="4000"/>
            </a:b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Definícia: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Dýchanie (respirác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jedna z troch základných „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vitálnych“ funkcií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vého organizmu. Je to pe-riodický a rytmický proces vdycho-vania vzduchu (inspírium) a jeho vy-dychovania (exspírium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z dýchacích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iest a  z  p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úc, ktorý za 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dú minú-tu zabezpe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dospelému organiz-mu v kľude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rísun 250 ml 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dsun 200 ml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, potrebných na pokrytie jeho metabolických p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adavie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entilácia pľúc a distribúcia vzduchu</a:t>
            </a:r>
            <a:br>
              <a:rPr sz="4000"/>
            </a:br>
            <a:br>
              <a:rPr sz="40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MV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 f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Alveolárna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AV = M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 –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 f)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= 150 ml – mŕtvy objem)</a:t>
            </a:r>
            <a:br>
              <a:rPr sz="3100"/>
            </a:b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U dosp. človeka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pri  dychovom  objeme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500 ml a  frekvencii  dýchania  (f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12 dychov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edstavu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6  l.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, z čoho n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lveolárnu ventiláciu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ipadá 4,2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aximálna voluntárna ventilácia  (MMV )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je najväčší objem vzduchu preventilovaný pľú-cami za 1 minútu (120-170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5268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a -Placeov zákon a úloha surfaktantu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2" descr="F:\ OPAVA obr. Fyziol\aplikacia Laplaceovho zakona ....jpg"/>
          <p:cNvPicPr/>
          <p:nvPr/>
        </p:nvPicPr>
        <p:blipFill>
          <a:blip r:embed="rId1"/>
          <a:stretch/>
        </p:blipFill>
        <p:spPr>
          <a:xfrm>
            <a:off x="611280" y="2781360"/>
            <a:ext cx="8281800" cy="367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 OPAVA obr. Fyziol\Laplaceov zakon.jpg"/>
          <p:cNvPicPr/>
          <p:nvPr/>
        </p:nvPicPr>
        <p:blipFill>
          <a:blip r:embed="rId2"/>
          <a:stretch/>
        </p:blipFill>
        <p:spPr>
          <a:xfrm>
            <a:off x="2484360" y="1197000"/>
            <a:ext cx="41036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tmosferický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vzduch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zmes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20,93%), 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C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(0,03 %), N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78,06 %), He a i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stop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ly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0,92%) a vod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á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r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ch v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závisia od atmosférického tlaku (P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B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Tento tlak klesá pri výstupe do výšok a s nim klesajú aj parciál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ri atmosferickom tlaku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101,3 kPa (760 torr ,1 atm,) a 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tlaku vodných pár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0,8 kPa (suchý vzduch)  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ny tlak  P0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21,06 kP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</a:rPr>
              <a:t>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0,04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kPa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altonov zákon</a:t>
            </a:r>
            <a:br>
              <a:rPr sz="40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latí</a:t>
            </a:r>
            <a:r>
              <a:rPr b="1" lang="sk-S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re v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ýpočet parciálnych tlakov dýchacích plynov v zmesi plynov : „čím vyššia je koncentrácia  plynu v zmesi plynov, tým väčší je jeho parciálny tlak“</a:t>
            </a:r>
            <a:br>
              <a:rPr sz="3200"/>
            </a:b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= V% 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x ( P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B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- PH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) / 100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pr. PO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v atmosferickom vzduchu pri hladine mora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j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e :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= 20,93 x (101,3 – 0,8) / 100 = 21,06 (kP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Obdobne počítam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0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P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,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N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j v alve-olárnom príp. v exspirovanom vzduchu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Zastúpenie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(v ob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%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a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ich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y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 kPa), spolu s 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om H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O, N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tm, v exspir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lveol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, ako aj v artério-ve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 venóznej krvi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828800"/>
          <a:ext cx="8686800" cy="4883040"/>
        </p:xfrm>
        <a:graphic>
          <a:graphicData uri="http://schemas.openxmlformats.org/drawingml/2006/table">
            <a:tbl>
              <a:tblPr/>
              <a:tblGrid>
                <a:gridCol w="1514520"/>
                <a:gridCol w="1058760"/>
                <a:gridCol w="1060560"/>
                <a:gridCol w="1060560"/>
                <a:gridCol w="1058760"/>
                <a:gridCol w="1257120"/>
                <a:gridCol w="1676520"/>
              </a:tblGrid>
              <a:tr h="87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H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N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a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mosf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(suchý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0,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0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9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0,04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spir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4,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5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7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lveolár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3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,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1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3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rtériov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9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0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2,7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enóz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4-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5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2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6,1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Line 199"/>
          <p:cNvSpPr/>
          <p:nvPr/>
        </p:nvSpPr>
        <p:spPr>
          <a:xfrm flipV="1">
            <a:off x="8317080" y="4581000"/>
            <a:ext cx="0" cy="205740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234"/>
          <p:cNvSpPr/>
          <p:nvPr/>
        </p:nvSpPr>
        <p:spPr>
          <a:xfrm>
            <a:off x="6300720" y="4581360"/>
            <a:ext cx="0" cy="190512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ýmena dýchacích plynov</a:t>
            </a:r>
            <a:r>
              <a:rPr b="1" i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cez alve-olokapilárnu membránu prebieha formou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difúzie,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ktorá závisí od parciálnych tlakov jednotlivých plynov (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C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) v alveolárnom vzduchu a v kapilárnom pľúcnom riečišti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100"/>
            </a:br>
            <a:br>
              <a:rPr sz="31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i difúzii: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pre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13,4 – 5,2 =  8 (kPa)  t.j.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100 – 40 = 60 (torr)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e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6,13–5,33 = 0,8 (kPa)  t.j.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C0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46 - 40 = 6 (torr)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 pľúcach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- morfológia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4" descr="fig15-3"/>
          <p:cNvPicPr/>
          <p:nvPr/>
        </p:nvPicPr>
        <p:blipFill>
          <a:blip r:embed="rId1"/>
          <a:stretch/>
        </p:blipFill>
        <p:spPr>
          <a:xfrm>
            <a:off x="304920" y="114300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cez alveolokapilárnu membránu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Picture 3" descr="diffusion"/>
          <p:cNvPicPr/>
          <p:nvPr/>
        </p:nvPicPr>
        <p:blipFill>
          <a:blip r:embed="rId1"/>
          <a:stretch/>
        </p:blipFill>
        <p:spPr>
          <a:xfrm>
            <a:off x="684360" y="1341360"/>
            <a:ext cx="815328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fúzi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a C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cez alveolokapilár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(AK)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embrá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a riadi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ickov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y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zákon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 =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(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1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– 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2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) .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</a:rPr>
              <a:t>A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. k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s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kd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a 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ú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arciál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tla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y plynov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difúzna p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loch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(70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</a:rPr>
              <a:t>)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 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rúbka membrány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0,8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um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 -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závisí od zloženia mem-brány a druhu difundujúceho plynu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je rýchlosť difúzie 20-krát väčšia ako 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napr.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V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= 15 – 20 ml / min.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a VCO2=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350 – 400 ml/ min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ynamika difúzie cez AK membrán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Picture 3" descr="alveoli"/>
          <p:cNvPicPr/>
          <p:nvPr/>
        </p:nvPicPr>
        <p:blipFill>
          <a:blip r:embed="rId1"/>
          <a:stretch/>
        </p:blipFill>
        <p:spPr>
          <a:xfrm>
            <a:off x="1066680" y="121932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290520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natómia dýchacieho systému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476360" y="836640"/>
            <a:ext cx="633564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s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5" descr="Cardiorespiratory system"/>
          <p:cNvPicPr/>
          <p:nvPr/>
        </p:nvPicPr>
        <p:blipFill>
          <a:blip r:embed="rId1"/>
          <a:stretch/>
        </p:blipFill>
        <p:spPr>
          <a:xfrm>
            <a:off x="1619280" y="1125360"/>
            <a:ext cx="6048360" cy="50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-316440"/>
            <a:ext cx="8915400" cy="686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Rozpustnosť plynov v krvnej plazme</a:t>
            </a:r>
            <a:br>
              <a:rPr sz="36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enryho záko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množstvo plynu fyzikálne rozpustného v kvapaline je úmerné parciál-nemu tlaku plynu nad kvapalinou a jeho koe-ficientu rozpustnosti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Množstv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rozpusten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é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v 1 l krvi: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 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   = 3,0 ml/l krvi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nožstv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 1l krvi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: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27ml/l krvi.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kde </a:t>
            </a:r>
            <a:r>
              <a:rPr b="1" i="1" lang="sk-SK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koeficient rozpustnosti,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parciálny  tlak  plynu  a  P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celkový  barometrický  tlak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Koeficient rozpustnosti </a:t>
            </a:r>
            <a:r>
              <a:rPr b="1" lang="sk-SK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re 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= 0,024 a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re 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= 0,57.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ozpustnosť CO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v krvi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cca 24x väčšia ako kyslíka.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ERFÚZIA - transport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a 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rvo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fyzikálne rozpustený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 plazm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 che-micky viazaný na hemoglobín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3100"/>
            </a:br>
            <a:br>
              <a:rPr sz="28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1 l artériovej krvi  je  200 m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ho 3 ml pripadajú na fyzikálne rozpustený 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197 ml je chemicky viazané na hemoglobín. 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Fyzikálne rozpustený O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1" i="1" lang="sk-SK" sz="4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→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parciálny tlak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ystupuje ak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fyzikálne rozpustený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v plazme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chemicky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viazaný vo forme bikar-bonátov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arbamin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hemoglobín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V 1 l venóznej krvi je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ml fyzikálne rozpust. C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(v plazme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byto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cc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520 ml je viazaný v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statných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dvoch formách. 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49040"/>
            <a:ext cx="876312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Hlavn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á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funkci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dýchani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roces výmeny plynov medzi bunkami a vonkaj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ím prostredím, t.j. transport kyslíka z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vonkajšieho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vzduchu do buniek tela a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odvod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oxidu uhli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itého z buniek do atmosféry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ýchanie  vonkajšie a vnútorné 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héma respirácie</a:t>
            </a: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820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341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onkajšie dýchanie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zahrňuje 4 hlavné procesy: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pľúcnu ventiláci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stribúc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vzduchu(miešanie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fúz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plynov</a:t>
            </a:r>
            <a:br>
              <a:rPr sz="4000"/>
            </a:br>
            <a:r>
              <a:rPr b="0" lang="sk-SK" sz="40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erfúziu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pľúc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transport dýcha- </a:t>
            </a:r>
            <a:br>
              <a:rPr sz="4000"/>
            </a:b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                         cích plynov krvo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0480"/>
            <a:ext cx="8915400" cy="67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entilá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yklick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ýme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zduchu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ľúcach počas v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inspíria) a vý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exspír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abezpečená kontrakciou dýchacích svalov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stribú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iešanie inspirovaného vzduchu so vzduchom, ktorý zostal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 dýchacích cestách a v pľúcach 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 výdych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150 ml = anatomický mŕtvy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iestor u dospelého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stup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 smere tlakového gradientu cez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alveo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lokapilár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embrán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(Fickov zákon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er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cirkulác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krvi pľúcnym riečišťom –transport plynov krvou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nútorné dýchanie, resp. tkanivová respiráci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dstavuje difúzi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medzi krvou a tkanivami v smere gradientu parciálnych tlakov na urovni kapilár.</a:t>
            </a:r>
            <a:br>
              <a:rPr sz="3600"/>
            </a:b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</a:rPr>
              <a:t>Vonkajšie (pľúcne) a vnútorné (tkanivové)</a:t>
            </a: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s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yžaduj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ormál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funkciu kardiovaskulár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(KV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aparát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entrál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nervo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é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systé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– CNS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mozog a miech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24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echanika dýchani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odnotí činnosť dých. svalov, hrudného koša a pľúc pre dýchaní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</a:rPr>
              <a:t>Pľúca nemajú svaly!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úden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v dý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estách j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dmienené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ový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rozdiel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medzi atmosférou a alveolami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Inspírium -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nych je n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í ako v atmosfére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x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 prevy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atmosferický tla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spontánne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je „podtlakové“.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Umelé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je „pretlakové“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dtlak a pretlak v hrudník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– s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ýsledkom kontrakcie dých. svalov : bránice (diaphragma) a svalov medzi-rebrových (vonkajších a vnútorných)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10Z</dcterms:modified>
  <cp:revision>334</cp:revision>
  <dc:subject/>
  <dc:title>Úvod</dc:title>
</cp:coreProperties>
</file>