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B994-1256-44F6-A597-370307B63518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A548-A43E-4903-B59E-2DCE38D0C186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D9E3-B626-4B6E-87D5-69E6D1CC4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78D6-C92C-4FD4-9AB8-1E015B05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0EDE-A293-4135-9D48-43A18FEDB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88C2-3253-4570-9C42-2C3D84809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1765-2771-4770-9496-D1C66FA96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AC66-8BA0-477D-915B-C4D222FC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9959-F548-4B72-B896-D1E126F0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9752-FFD8-4DEA-B462-A76CB8AC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EF6C-E91D-4DF1-9B6D-5A736204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ADDE6-D310-4AA2-922B-A85FA942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984D-6B4E-442F-A499-DEAF7D2D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500D-01BE-49AC-B666-94209DB8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ED5E-AF44-4EDF-B7EA-28E430FE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B4192-B4FC-45F2-86B3-F31EAE9C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5877-73FB-449E-857E-E6F1BBD9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DF20-09F2-4513-AE6C-9688C84CB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880F-3CDB-4518-9170-CE93F7908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9BC7-F9BD-4FDE-BB9E-F844681D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3782-ADD3-441C-9872-F20A3CD8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460B-FB15-47F3-BA74-336FDDAD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8B0A-8450-42D8-A8CC-5839C99D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2D70-AFAC-4F66-8C8D-365D8F91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81D9-3859-4A71-A159-EE3FA135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2067-0DB1-459F-A537-73B5268E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AA77-78E2-4759-BD02-91E1DC9D72E5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CEA5-B072-4AF4-8142-BB5A8C05526E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84464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Funkcie gastrointestinálneho traktu</a:t>
            </a:r>
            <a:br>
              <a:rPr sz="2800"/>
            </a:br>
            <a:br>
              <a:rPr sz="28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Ján Jakuš</a:t>
            </a:r>
            <a:br>
              <a:rPr sz="3600"/>
            </a:br>
            <a:br>
              <a:rPr sz="2800"/>
            </a:br>
            <a:br>
              <a:rPr sz="28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54380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Tráviaci trakt morfológia a funkcie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820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Tráviaca trubic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Dutina ústna,Hltan, Jazyk, Zuby,Jícen, Žalúdok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Dvanástnik,Tenké črevo, Hrubé črevo, rektu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Prídatné orgány trávenia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slinné žlazy(3 páry), játra, žlčník,slinivka brušná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Stavba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sliznica, podslizničná vrstva,hladká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svalovina, pobrušnic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svalovin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(vid obr.s.91 Michalský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Funkci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Príjem potrav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Spracovanie potrav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Vstrebávanie živín z potrav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Premena vstrebaných živí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Skladovanie metabolitov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Vylučovanie odpadových láto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4" descr="F:\ OPAVA obr. Fyziol\transport potravy v gastrointestinalnom systeme.jpg"/>
          <p:cNvPicPr/>
          <p:nvPr/>
        </p:nvPicPr>
        <p:blipFill>
          <a:blip r:embed="rId1"/>
          <a:stretch/>
        </p:blipFill>
        <p:spPr>
          <a:xfrm>
            <a:off x="5940360" y="2637000"/>
            <a:ext cx="32400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675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eaeaea"/>
                </a:solidFill>
                <a:latin typeface="Tahoma"/>
              </a:rPr>
              <a:t>     </a:t>
            </a:r>
            <a:br>
              <a:rPr sz="4000"/>
            </a:b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Dutina ústna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umožňuje  príjem potravy, jej odhryznutie a rozdrobenie pomocou zubov, premiešavanie jazykom so slinami (hlen-mucín), chemické  tráveni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škrobu: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slinnou alfa – amylázou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 a kontrolu fyzikálnych a chemických vlastností ( chuťové receptory jazyka)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Množstvo slín: 2l/deň , pH= 6-7    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37760" y="1700280"/>
            <a:ext cx="86756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Polykací reflex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podráždením korena jazyka je sústo potravy  zatlačené do jícnu a pohybom priecnej aj pozdĺžnej svaloviny jícnu sa dostane do žalúdka.Centrum reflexu-predlžená miecha, n. IX a X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(Žvýkací reflex, sací reflex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.Žalúdok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–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obsah 1,5-2 l ,časti :kardia, fundus , pylorus - skladovanie, peristaltické pohyby, mechanické premiešavanie a chemické trávenie potravy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žal. šťavou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(2-3l/deň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Funkcie žal.šťavy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HCl, denaturuje bielkoviny,ničí baktéri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mení Fe 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3+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na Fe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+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viaže Ca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+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ako CaCl</a:t>
            </a:r>
            <a:r>
              <a:rPr b="1" lang="sk-SK" sz="20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,aktivuje Pepsino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gen na Pepsín ( tento rozkladá  biekoviny na peptidy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Vyprázdňovanie žalúdk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–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tzv.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Pylorickou pumpou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, vylučovanie natráveniny ( chymusu) do dvanástnika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Enterogastrický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reflexom 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pylorus sa nakrátko uzavrie ,ked sa chymu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dostane do dvanástnika a posunie do jejuna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5" descr="F:\ OPAVA obr. Fyziol\absorpcia zeleza prijateho v potrave.jpg"/>
          <p:cNvPicPr/>
          <p:nvPr/>
        </p:nvPicPr>
        <p:blipFill>
          <a:blip r:embed="rId1"/>
          <a:stretch/>
        </p:blipFill>
        <p:spPr>
          <a:xfrm>
            <a:off x="7524720" y="3716280"/>
            <a:ext cx="17067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</a:t>
            </a:r>
            <a:br>
              <a:rPr sz="3600"/>
            </a:br>
            <a:br>
              <a:rPr sz="24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</a:rPr>
              <a:t>Duodenum (dvanástnik)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je na začiatku tenkého čreva,pokračzje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jejunom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a konči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ileom.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Do duodena v miest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Vaterskej papil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 4) sa vlieva žlč cez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ductus choledochus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5) a pankreatická štava  cez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ductus pancrea-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ticus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6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).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 I.  Žlč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tvori sa v  jatrech  0.8-1 l/den, žlutohnedej farby  usklad-ňuje v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žlčníku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7), obsahuje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žlčové kyseliny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cholová, deoxycholová), vyzrážajú tuky v (emulgácia).</a:t>
            </a:r>
            <a:br>
              <a:rPr sz="2000"/>
            </a:b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24360" y="1773000"/>
            <a:ext cx="945036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ahoma"/>
              </a:rPr>
              <a:t>                     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2) Bilirubín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produkt žltej farby  z rozpadu Hemoglobínu) ak sa dostane do krvi vzniká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Icteru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                              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3) Bikarbonát, voda, ión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(pH=8,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                  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II. Pankreatická štava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: 1-2 l/den, bezfarebná,pH =8,2), obsahuje: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I.Proteolytické enzým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( trypsinogén→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trypsín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, chymotrypsinogén→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chy-motrypsin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),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karboxipeptidáz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a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elastáza-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všetky štiepia bielkovin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a peptidy na aminokyselin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II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  <a:ea typeface="Tahoma"/>
              </a:rPr>
              <a:t>.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Alfa amyláza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-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štiepi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škrob 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glykogé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III. Pankreatická lipáza-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štiepi tuk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 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na glycerol + Mastné kysel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IV. DNK-áza a RNA-áza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-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štiepia N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+ hlien, alkalická fosfatáza, bikarbo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nát etc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4" descr="F:\ OPAVA obr. Fyziol\pankreas, duodenum a zlcove cesty.jpg"/>
          <p:cNvPicPr/>
          <p:nvPr/>
        </p:nvPicPr>
        <p:blipFill>
          <a:blip r:embed="rId1"/>
          <a:stretch/>
        </p:blipFill>
        <p:spPr>
          <a:xfrm>
            <a:off x="4356000" y="3357720"/>
            <a:ext cx="4788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02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</a:rPr>
              <a:t>C.</a:t>
            </a: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</a:rPr>
              <a:t>Tenké črevo (duodenum,jejunum,ileum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) - klky obsahujú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črevné bunk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enterocyty), ktoré tvori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črevnú šťavu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3l/den, pH =8) s obsahom enzýmov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 peptidáz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štiepia peptidy na AK) 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sacharázy, maltázy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štiepia oligo- na monosacharidy)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črevnú lipázu. 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Rezorbcia: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cukrov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,( v duodene a jejune),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tukov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v jejune)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bielkovín , AK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vod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 v ileu a v hrubom čreve) , minerálov a vitamínov.- rezorbované látky  idú do jater na resyntézu  a vznik stavebných látok)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Pohyby čreva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premiešavajú  a posúvajú tekutý chýmus . Sú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miestne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tam a spat) 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peristaltické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pohyby ( asi 12/min dopredu ku hrubému črevu) .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Aktivácia sympatikovej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časti vegetatívneho NS ( a podanie mediátorov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adrenalínu a noradrenalínu) </a:t>
            </a:r>
            <a:r>
              <a:rPr b="1" i="1" lang="sk-SK" sz="2000" spc="-1" strike="noStrike">
                <a:solidFill>
                  <a:srgbClr val="ffffff"/>
                </a:solidFill>
                <a:latin typeface="Arial"/>
              </a:rPr>
              <a:t>spomaľujú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pohyby čreva .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Aktivácia parasympatikovej čast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i VNS, 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a podanie mediátora Acetylcholínu) </a:t>
            </a:r>
            <a:br>
              <a:rPr sz="2000"/>
            </a:br>
            <a:r>
              <a:rPr b="1" i="1" lang="sk-SK" sz="2000" spc="-1" strike="noStrike">
                <a:solidFill>
                  <a:srgbClr val="ffffff"/>
                </a:solidFill>
                <a:latin typeface="Arial"/>
              </a:rPr>
              <a:t>zrýchľujú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pohyby čreva.</a:t>
            </a:r>
            <a:br>
              <a:rPr sz="2000"/>
            </a:br>
            <a:r>
              <a:rPr b="1" lang="sk-SK" sz="2200" spc="-1" strike="noStrike" u="sng">
                <a:solidFill>
                  <a:srgbClr val="ffff00"/>
                </a:solidFill>
                <a:uFillTx/>
                <a:latin typeface="Arial"/>
              </a:rPr>
              <a:t>D. Hrubé črevo ( colon</a:t>
            </a:r>
            <a:br>
              <a:rPr sz="2200"/>
            </a:br>
            <a:r>
              <a:rPr b="1" lang="sk-SK" sz="2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reservoar stolice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- rezorbcia </a:t>
            </a:r>
            <a:r>
              <a:rPr b="1" lang="sk-SK" sz="2200" spc="-1" strike="noStrike">
                <a:solidFill>
                  <a:srgbClr val="ffffff"/>
                </a:solidFill>
                <a:latin typeface="Arial"/>
              </a:rPr>
              <a:t>vody</a:t>
            </a:r>
            <a:br>
              <a:rPr sz="2200"/>
            </a:br>
            <a:r>
              <a:rPr b="1" lang="sk-SK" sz="2200" spc="-1" strike="noStrike">
                <a:solidFill>
                  <a:srgbClr val="ffff00"/>
                </a:solidFill>
                <a:latin typeface="Arial"/>
              </a:rPr>
              <a:t>E. Rektum- </a:t>
            </a:r>
            <a:r>
              <a:rPr b="1" i="1" lang="sk-SK" sz="2200" spc="-1" strike="noStrike">
                <a:solidFill>
                  <a:srgbClr val="ffffff"/>
                </a:solidFill>
                <a:latin typeface="Arial"/>
              </a:rPr>
              <a:t>defekačný reflex</a:t>
            </a:r>
            <a:br>
              <a:rPr sz="2200"/>
            </a:br>
            <a:r>
              <a:rPr b="1" lang="sk-SK" sz="2200" spc="-1" strike="noStrike">
                <a:solidFill>
                  <a:srgbClr val="ffff00"/>
                </a:solidFill>
                <a:latin typeface="Arial"/>
              </a:rPr>
              <a:t>Funkce jater- </a:t>
            </a:r>
            <a:r>
              <a:rPr b="1" i="1" lang="sk-SK" sz="2200" spc="-1" strike="noStrike">
                <a:solidFill>
                  <a:srgbClr val="ffffff"/>
                </a:solidFill>
                <a:latin typeface="Arial"/>
              </a:rPr>
              <a:t>pozri Michalský </a:t>
            </a:r>
            <a:br>
              <a:rPr sz="2200"/>
            </a:br>
            <a:r>
              <a:rPr b="1" i="1" lang="sk-SK" sz="2200" spc="-1" strike="noStrike">
                <a:solidFill>
                  <a:srgbClr val="ffffff"/>
                </a:solidFill>
                <a:latin typeface="Arial"/>
              </a:rPr>
              <a:t>s. 97.</a:t>
            </a:r>
            <a:endParaRPr b="1" lang="en-US" sz="2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7" name="Picture 4" descr="F:\ OPAVA obr. Fyziol\crevny klk - funkcna organizacia.jpg"/>
          <p:cNvPicPr/>
          <p:nvPr/>
        </p:nvPicPr>
        <p:blipFill>
          <a:blip r:embed="rId1"/>
          <a:stretch/>
        </p:blipFill>
        <p:spPr>
          <a:xfrm>
            <a:off x="4529160" y="3789360"/>
            <a:ext cx="459576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320" y="47592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 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Prajem Vám  pekn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a  úspešný  deň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ffff00"/>
                </a:solidFill>
                <a:latin typeface="Rockwell Extra Bold"/>
              </a:rPr>
              <a:t>        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4:42Z</dcterms:modified>
  <cp:revision>703</cp:revision>
  <dc:subject/>
  <dc:title>Úvod</dc:title>
</cp:coreProperties>
</file>