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28.jpeg" ContentType="image/jpeg"/>
  <Override PartName="/ppt/media/image7.jpeg" ContentType="image/jpe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33.png" ContentType="image/png"/>
  <Override PartName="/ppt/media/image34.jpeg" ContentType="image/jpeg"/>
  <Override PartName="/ppt/media/image37.png" ContentType="image/png"/>
  <Override PartName="/ppt/media/image38.gif" ContentType="image/gif"/>
  <Override PartName="/ppt/media/image15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78AF-B381-45ED-A68F-87689986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41CB-C528-4600-B21F-946D4D65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57CC-F367-44C8-8278-83727D13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FC16-0193-4D2A-9209-A572C654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DAD1-8976-40C2-9B62-A97C3672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DE0-321F-4EEE-997E-545FC337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5781-F70B-4C29-A72D-1704840E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8497-AC9D-4FB7-9039-F4244F80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223D-2323-4B68-B09E-A8A0D32D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C91E-967F-4DB3-837B-3EEE4C6F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E018-6979-4E9E-9A39-E0D44D4D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9BD2-F5DF-4507-9BC1-2DC8407F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DB07-BD09-409B-A120-D681D661D8C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13012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Hybnosť </a:t>
            </a:r>
            <a:r>
              <a:rPr b="1" lang="sk-SK" sz="3600" spc="-1" strike="noStrike">
                <a:solidFill>
                  <a:srgbClr val="333399"/>
                </a:solidFill>
                <a:latin typeface="Berlin Sans FB Demi"/>
              </a:rPr>
              <a:t>č</a:t>
            </a: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loveka, </a:t>
            </a:r>
            <a:br>
              <a:rPr sz="4400"/>
            </a:b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svalová kontrak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án Jaku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6788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c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fotograf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ch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 sarkomé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Sarcomere"/>
          <p:cNvPicPr/>
          <p:nvPr/>
        </p:nvPicPr>
        <p:blipFill>
          <a:blip r:embed="rId1"/>
          <a:stretch/>
        </p:blipFill>
        <p:spPr>
          <a:xfrm>
            <a:off x="179280" y="907920"/>
            <a:ext cx="8964720" cy="5905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1979640" y="3597120"/>
            <a:ext cx="1224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5580000" y="3597120"/>
            <a:ext cx="129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763640" y="630864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5940360" y="630864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3708360" y="6405480"/>
            <a:ext cx="1440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79280" y="465300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nké vlák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6300720" y="4149720"/>
            <a:ext cx="237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rubé vlák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V="1">
            <a:off x="1979640" y="4581360"/>
            <a:ext cx="71280" cy="21600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908000" y="4941720"/>
            <a:ext cx="287640" cy="71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c49x38motor-unit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67118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290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ick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jednot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920" y="981000"/>
            <a:ext cx="410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bunky sú izolované spojivovým tkaniv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žd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us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y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n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neu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ó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ická jednot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er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st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toneu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ntrahujú sa nara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äčšinou je v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m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ckých jednotiek rozličnej veľk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eľké jedno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1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i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jmä pomal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u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kol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i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re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o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rýchly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al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. okohybn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356000" y="47628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067280" y="2708280"/>
            <a:ext cx="2160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lo motoneuró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924360" y="3213000"/>
            <a:ext cx="2160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xón motoneuró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6983280" y="68400"/>
            <a:ext cx="2160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Nervo-svalová platn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6877080" y="5661000"/>
            <a:ext cx="1440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Svalové vlákna (bunk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figure0815"/>
          <p:cNvPicPr/>
          <p:nvPr/>
        </p:nvPicPr>
        <p:blipFill>
          <a:blip r:embed="rId1"/>
          <a:stretch/>
        </p:blipFill>
        <p:spPr>
          <a:xfrm>
            <a:off x="1258920" y="765000"/>
            <a:ext cx="7921440" cy="59421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5607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itment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(nábor) mot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ický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jednoti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08000" y="1484280"/>
            <a:ext cx="2035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vyšujúca s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moto-neu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v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v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i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stupn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iv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torických jednot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 vyšším prah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340000" y="386064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843280" y="5445000"/>
            <a:ext cx="576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1- nízkoprahová (aktivuje sa skô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2843280" y="5756400"/>
            <a:ext cx="2665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2843280" y="6116760"/>
            <a:ext cx="619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3- vysokoprahová (aktivuje sa neskô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protox_10_botox_alternative_info_clip_image001"/>
          <p:cNvPicPr/>
          <p:nvPr/>
        </p:nvPicPr>
        <p:blipFill>
          <a:blip r:embed="rId1"/>
          <a:stretch/>
        </p:blipFill>
        <p:spPr>
          <a:xfrm>
            <a:off x="108000" y="1125360"/>
            <a:ext cx="6408720" cy="5615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6084720" y="1052640"/>
            <a:ext cx="305928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čný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ciá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re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synapticke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aktivuje napätím riadené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kanál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flux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– ve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uly 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neuro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ransmite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etylcho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 (AC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výlučný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transmiter nervo-svalovej platničky – uvolni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 synaptic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e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štrbin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79280" y="18900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torické vlák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axó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toneu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) v motorickom nerve ved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č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iá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ej platnič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Image:Acethylcholine receptor.png"/>
          <p:cNvPicPr/>
          <p:nvPr/>
        </p:nvPicPr>
        <p:blipFill>
          <a:blip r:embed="rId1"/>
          <a:stretch/>
        </p:blipFill>
        <p:spPr>
          <a:xfrm>
            <a:off x="6496200" y="115920"/>
            <a:ext cx="2468520" cy="6021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ile:ACh-stick.png"/>
          <p:cNvPicPr/>
          <p:nvPr/>
        </p:nvPicPr>
        <p:blipFill>
          <a:blip r:embed="rId2"/>
          <a:stretch/>
        </p:blipFill>
        <p:spPr>
          <a:xfrm>
            <a:off x="169920" y="1407960"/>
            <a:ext cx="4546440" cy="4469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8920" y="2133360"/>
            <a:ext cx="298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cetylchol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File:Acetylcholine.svg"/>
          <p:cNvPicPr/>
          <p:nvPr/>
        </p:nvPicPr>
        <p:blipFill>
          <a:blip r:embed="rId3"/>
          <a:stretch/>
        </p:blipFill>
        <p:spPr>
          <a:xfrm>
            <a:off x="324000" y="4883040"/>
            <a:ext cx="4248000" cy="17146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4929120" y="5746680"/>
            <a:ext cx="37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i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ov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 re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4920" y="11592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sa viaže 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ikotínové recepto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stsynaptickej membrán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ervo-svalove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ičk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ej bunky – 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v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kanálov – depolariz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ednotkový platničkov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tenciál - 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560" y="38844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j be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ácie môže náhod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ikulus uvolni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h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naptic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ej štrbiny, čo vyvol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niatúrny EPS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iniat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úr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t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čkov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kčn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akonče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volá úpln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ičkov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tential (PP)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tor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ždy dosiah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ing level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prahovú úroveň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vol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čn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 na svalovej bun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 rozšíri pozdĺ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em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 ce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T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tubulárny systé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alovej bun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ic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um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95280" y="5516640"/>
            <a:ext cx="8569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tylchol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í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imin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ovaný (zo synaptickej štrbiny) rozkla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etylchol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er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áz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action%20potential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3059280" y="2492280"/>
            <a:ext cx="115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pr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7667640" y="2492280"/>
            <a:ext cx="115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pr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763640" y="3284640"/>
            <a:ext cx="158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5651640" y="3716280"/>
            <a:ext cx="158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506920" y="608040"/>
            <a:ext cx="1513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ačná fá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7380360" y="1398600"/>
            <a:ext cx="1512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repolarizačná fá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95280" y="4508640"/>
            <a:ext cx="41767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epolarizácia je zmena membránového potenciálu na plazmatickej membráne bunky, kedy sa stáva vnútro bunky menej negatívne (vonkajšok bunky menej pozitívne) nabi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5148360" y="4489560"/>
            <a:ext cx="39956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očas depolarizačnej fázy AP sa MP zmení z približne -85 m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na asi +20 mV. Počas fázy repolarizácie dochádza k postupnému návratu na hodnotu kľudového membránového potenciálu asi -85 m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6227640" y="4149720"/>
            <a:ext cx="1513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1619280" y="4149720"/>
            <a:ext cx="151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berger8"/>
          <p:cNvPicPr/>
          <p:nvPr/>
        </p:nvPicPr>
        <p:blipFill>
          <a:blip r:embed="rId1"/>
          <a:stretch/>
        </p:blipFill>
        <p:spPr>
          <a:xfrm>
            <a:off x="71280" y="1177920"/>
            <a:ext cx="6301080" cy="5635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8000" y="142920"/>
            <a:ext cx="896472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Sarkoplazmatické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lum 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obklopuj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myofibril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 obsahuje zásob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ónov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Priečny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 – tubul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árny systém je cestou pre akčn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potenciál, aby sa tento dostal n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atick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lu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6084720" y="1413000"/>
            <a:ext cx="3059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tubuloch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tivuj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apätím riade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Ca kaná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ýchto štruktúra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uvolnenie (prienik) – influx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a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 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 intracelul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á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neho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priestoru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valového vlák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a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 – j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i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iá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valovej kontra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11280" y="1844640"/>
            <a:ext cx="129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l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0" y="2924280"/>
            <a:ext cx="2050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rminálne cister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79280" y="3213000"/>
            <a:ext cx="1728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 - tubu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0" y="4076640"/>
            <a:ext cx="197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plazmatické retiku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395280" y="5229360"/>
            <a:ext cx="151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5292720" y="2205000"/>
            <a:ext cx="1224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yofibr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5364000" y="3213000"/>
            <a:ext cx="100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5364000" y="3860640"/>
            <a:ext cx="107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5364000" y="4797360"/>
            <a:ext cx="1154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 lí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5365800" y="5589720"/>
            <a:ext cx="1150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jad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picrend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0" y="4292640"/>
            <a:ext cx="10429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 T-tub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5516640"/>
            <a:ext cx="10429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 sarkoplaz. retik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66560" y="6323040"/>
            <a:ext cx="1729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Uvolnenie Ca ión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484360" y="4869000"/>
            <a:ext cx="1042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539640" y="3946680"/>
            <a:ext cx="2376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roteín citlivý na potenci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3132000" y="3946680"/>
            <a:ext cx="2951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Depolarizovaná membrána T-tub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4788000" y="0"/>
            <a:ext cx="1224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4932360" y="476280"/>
            <a:ext cx="934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5003640" y="1052640"/>
            <a:ext cx="935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a kan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4788000" y="1844640"/>
            <a:ext cx="12967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T-tubuly zformované z prliačenia plazmatickej membrá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4716360" y="2924280"/>
            <a:ext cx="1511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Sarkoplazmatické retikul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Image:SlidingMyofibril.svg"/>
          <p:cNvPicPr/>
          <p:nvPr/>
        </p:nvPicPr>
        <p:blipFill>
          <a:blip r:embed="rId1"/>
          <a:stretch/>
        </p:blipFill>
        <p:spPr>
          <a:xfrm>
            <a:off x="142920" y="79200"/>
            <a:ext cx="8858160" cy="66628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179280" y="3429000"/>
            <a:ext cx="608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ál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tra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c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é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e okol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0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348000" y="3141720"/>
            <a:ext cx="1152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relaxov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203640" y="3933720"/>
            <a:ext cx="1368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kontrahov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LASTNOSTI SV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85480" y="981000"/>
            <a:ext cx="86439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traktivi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men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che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j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ener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mechanickú prácu - pohy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dpove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ého tkaniva 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ciu 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cia (skráte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citabili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chopnosť odpoveda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é tkanivo môže by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a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yzikálny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lebo chemickými podnet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tici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lebo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užnos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y obsahuj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ast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, ktoré zabezpečujú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ch pružnosť (návrat do pôvodnej dĺžk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Roztiahnuteľno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 je možné natiahnuť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lhší, než je jeho kľudová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valy môžu len ťaha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ie tlači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File:Myofilament.svg"/>
          <p:cNvPicPr/>
          <p:nvPr/>
        </p:nvPicPr>
        <p:blipFill>
          <a:blip r:embed="rId1"/>
          <a:stretch/>
        </p:blipFill>
        <p:spPr>
          <a:xfrm>
            <a:off x="108000" y="2565360"/>
            <a:ext cx="8893080" cy="41036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324000" y="26028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á kontrakcia sa de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er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cio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-ov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(tenké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-ových (hrubé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láki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opomyozí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 kľu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ekrý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obné mies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n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3635280" y="2486160"/>
            <a:ext cx="25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enký fil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227640" y="2630520"/>
            <a:ext cx="251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ropomyoz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2916360" y="407052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ropon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796000" y="4508640"/>
            <a:ext cx="316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yozín hrubého filam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ScanImage95"/>
          <p:cNvPicPr/>
          <p:nvPr/>
        </p:nvPicPr>
        <p:blipFill>
          <a:blip r:embed="rId1"/>
          <a:stretch/>
        </p:blipFill>
        <p:spPr>
          <a:xfrm>
            <a:off x="0" y="2575080"/>
            <a:ext cx="9144000" cy="3878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179280" y="333360"/>
            <a:ext cx="842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sa viaže n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ení sa tv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for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po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u, ktor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dkryje väzobné mi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ktíne aktínového vlák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á kontrakcia vyžaduje aj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5690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 uvolnenie ohnut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ých hláv z väzby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 aktínu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 ich vyrovnanie je potrebn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yozín hydrolyzu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ATP (rozkladá ho na ADP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á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čim získa energi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Cycle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71280" y="71280"/>
            <a:ext cx="889344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ým 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ATP p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tom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l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a s aktín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hnut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uvolne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yrovna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lá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kraču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e neustá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mp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vané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umpou – ATP-ázou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zad do 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 (a T-tubulov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nt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 udržuje vysoká jeho uvolňovaním z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u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ďalšími akčnými potenciálm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Be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 tropomyozín vráti do tvar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for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orý bloku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ové miesta aktínového vlákna – zastavenie kontrak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eďže 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TP nevyhnutné na uvolne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u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u – be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P : RIGOR MOR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MuscleTimeGraph"/>
          <p:cNvPicPr/>
          <p:nvPr/>
        </p:nvPicPr>
        <p:blipFill>
          <a:blip r:embed="rId1"/>
          <a:stretch/>
        </p:blipFill>
        <p:spPr>
          <a:xfrm>
            <a:off x="0" y="-27000"/>
            <a:ext cx="6732720" cy="5410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64000" y="115920"/>
            <a:ext cx="3600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zvýšen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tracel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na koncentrác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(Ca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uvolnené zo 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oplazmatického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 T – tub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trvá dlhši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než akčný potenciá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št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dlhšie trvá jednotkové svalové trhnut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95280" y="4508640"/>
            <a:ext cx="842472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eďže má kostrový sval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rátku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refr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tórnu periódu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 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čný potenciál n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lem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 rozšíri z 1 nervo-svalovej platničky pozdĺž celej membrány,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T – tub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zmatického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SUM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ČASOV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to na úrovni uvolňovan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 superpozície svalových trhnut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3059280" y="620640"/>
            <a:ext cx="2736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414141"/>
                </a:solidFill>
                <a:latin typeface="Arial"/>
              </a:rPr>
              <a:t>Svalové trhnu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489564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valové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rhnuti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vlnitý </a:t>
            </a:r>
            <a:br>
              <a:rPr sz="3000"/>
            </a:b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úplný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tetan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tetanus.gif"/>
          <p:cNvPicPr/>
          <p:nvPr/>
        </p:nvPicPr>
        <p:blipFill>
          <a:blip r:embed="rId1"/>
          <a:stretch/>
        </p:blipFill>
        <p:spPr>
          <a:xfrm>
            <a:off x="216000" y="4000680"/>
            <a:ext cx="8748720" cy="2741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twitch_mc.gif"/>
          <p:cNvPicPr/>
          <p:nvPr/>
        </p:nvPicPr>
        <p:blipFill>
          <a:blip r:embed="rId2"/>
          <a:stretch/>
        </p:blipFill>
        <p:spPr>
          <a:xfrm>
            <a:off x="5153040" y="260280"/>
            <a:ext cx="3859200" cy="388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536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Tetanická kontrakcia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 – motorická jednotka je stimulovaná vysokou frekvenciou akčných potenciálov z príslušného motoneurón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Čas medzi stimulmi je kratší než svalové trhnutie – málo času na relaxáci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Sila kontrakcie sa zvyšuje – pridáva sa k predchádzajúcim trhnutiam - maximálna 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kontrakci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838920" y="765000"/>
            <a:ext cx="219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7596360" y="2276640"/>
            <a:ext cx="154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zometrické trhnu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6946920" y="3789360"/>
            <a:ext cx="180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5003640" y="189000"/>
            <a:ext cx="7923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m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5292720" y="1916280"/>
            <a:ext cx="64764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3203640" y="6345360"/>
            <a:ext cx="180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AABKEOFa"/>
          <p:cNvPicPr/>
          <p:nvPr/>
        </p:nvPicPr>
        <p:blipFill>
          <a:blip r:embed="rId1"/>
          <a:stretch/>
        </p:blipFill>
        <p:spPr>
          <a:xfrm>
            <a:off x="179280" y="189000"/>
            <a:ext cx="3672000" cy="3398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AABKEOFb"/>
          <p:cNvPicPr/>
          <p:nvPr/>
        </p:nvPicPr>
        <p:blipFill>
          <a:blip r:embed="rId2"/>
          <a:stretch/>
        </p:blipFill>
        <p:spPr>
          <a:xfrm>
            <a:off x="5148360" y="1692360"/>
            <a:ext cx="3456000" cy="3176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AABKEOFc"/>
          <p:cNvPicPr/>
          <p:nvPr/>
        </p:nvPicPr>
        <p:blipFill>
          <a:blip r:embed="rId3"/>
          <a:stretch/>
        </p:blipFill>
        <p:spPr>
          <a:xfrm>
            <a:off x="179280" y="3649680"/>
            <a:ext cx="3600720" cy="30448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0"/>
          <p:cNvSpPr/>
          <p:nvPr/>
        </p:nvSpPr>
        <p:spPr>
          <a:xfrm>
            <a:off x="3995640" y="357120"/>
            <a:ext cx="49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sokofrekvenčné stimu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kčné potenciá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volaj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p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ci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hnut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časov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ci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r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5724360" y="4941720"/>
            <a:ext cx="29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ekompletn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nit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ta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3924360" y="595008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mple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ý (hladký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ta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Image331"/>
          <p:cNvPicPr/>
          <p:nvPr/>
        </p:nvPicPr>
        <p:blipFill>
          <a:blip r:embed="rId1"/>
          <a:stretch/>
        </p:blipFill>
        <p:spPr>
          <a:xfrm>
            <a:off x="0" y="0"/>
            <a:ext cx="7812000" cy="68468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12000" y="115920"/>
            <a:ext cx="3132000" cy="1512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Zhrnuti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svalovej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kc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533520" y="180720"/>
            <a:ext cx="8142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Porovnanie vlastností kostrového, srdcového a hladkého sva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039680"/>
          <a:ext cx="9144000" cy="5747040"/>
        </p:xfrm>
        <a:graphic>
          <a:graphicData uri="http://schemas.openxmlformats.org/drawingml/2006/table">
            <a:tbl>
              <a:tblPr/>
              <a:tblGrid>
                <a:gridCol w="2560680"/>
                <a:gridCol w="2011320"/>
                <a:gridCol w="2286000"/>
                <a:gridCol w="228600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lastnos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strov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rdcov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Hladk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riečna pruhovanosť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elatívna rýchlosť 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ntrak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ých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tredná rýchlos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omal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oluntárna kontrola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efraktórna perióda membrá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rát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lh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adier v bun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eľ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ed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ed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ntrola kontrak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pontánna,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ovo modulovan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y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hormóny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atiahnu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Bunky prepojené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nterkalárnymi diskami alebo Gap Junction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ladk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ý s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123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Hladký sval (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ce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l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o vnútorných orgánoch a ciev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ne priečne pruh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rstvy pod sliznicami 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čn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rávia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é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uhové vrstvy v stenách ciev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ktery (zvierač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alové vlákna hladkých sval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retenovitý tvar (fuziformn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irší v strede a tenší na konco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- 20-500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mer aktínu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í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6 : 1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kostrovom sv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~ 4 : 1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srdcovom sva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~ 16.5 : 1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hladkom sv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ššia elasticita a schopnosť sa natiahnuť pričom si stále zachovať kontraktilitu v porovnaní s priečne pruhovanými sval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</a:t>
            </a: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S</a:t>
            </a: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V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677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ostrov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riečne pruhované svalové tkaniv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od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kontrolo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omatic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kého nervového systému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(voluntárna kontrol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Srdcov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špeciálne priečne pruhované svalové tkaniv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racujúce automatick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 pod moduláciou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autonómnym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rvo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vý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ladk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tkanivo bez priečneho pruhovan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stimulované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n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ómnym nervovým systém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hormn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ál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alebo jednoducho natiahnutí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79280" y="192240"/>
            <a:ext cx="7488360" cy="64864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15280" y="188640"/>
            <a:ext cx="262872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Hladký sval čre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2124000" y="189000"/>
            <a:ext cx="37432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ruhové vrstvy okolo čreva vykonávajú kontrakciou segmentác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2340000" y="6039000"/>
            <a:ext cx="540072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ongitudinálne vrstvy pozdĺž čreva vykonávajú vlnité kontra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2268360" y="981000"/>
            <a:ext cx="3589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5651640" y="620640"/>
            <a:ext cx="3585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2195640" y="5805360"/>
            <a:ext cx="30240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6659640" y="5805360"/>
            <a:ext cx="183672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6516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38"/>
              </a:spcBef>
              <a:spcAft>
                <a:spcPts val="2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ntrakcia a relaxá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s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nový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tínový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ilamen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rm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ón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neurotransmiter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liek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ový hladk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– tkanivo je spojené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ut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m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rv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iner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d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u vo vrstve či zväz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šíri c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ojenia ty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 junction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sused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kontrahuj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oloč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ý sval sa môže kontrahova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pon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gén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ďaka dynamike iónov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nál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b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emak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ým bunká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t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iál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ja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o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astrointesti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ho trakt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Glatte_Muskelzellen"/>
          <p:cNvPicPr/>
          <p:nvPr/>
        </p:nvPicPr>
        <p:blipFill>
          <a:blip r:embed="rId1"/>
          <a:stretch/>
        </p:blipFill>
        <p:spPr>
          <a:xfrm>
            <a:off x="6516720" y="836640"/>
            <a:ext cx="2376360" cy="23446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ontrakcia hladk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peristalsis"/>
          <p:cNvPicPr/>
          <p:nvPr/>
        </p:nvPicPr>
        <p:blipFill>
          <a:blip r:embed="rId2"/>
          <a:stretch/>
        </p:blipFill>
        <p:spPr>
          <a:xfrm>
            <a:off x="6249960" y="3573360"/>
            <a:ext cx="2760840" cy="3024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File:Gap cell junction en.svg"/>
          <p:cNvPicPr/>
          <p:nvPr/>
        </p:nvPicPr>
        <p:blipFill>
          <a:blip r:embed="rId3"/>
          <a:stretch/>
        </p:blipFill>
        <p:spPr>
          <a:xfrm>
            <a:off x="2268360" y="2592360"/>
            <a:ext cx="3959280" cy="2781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8"/>
          <p:cNvSpPr/>
          <p:nvPr/>
        </p:nvSpPr>
        <p:spPr>
          <a:xfrm>
            <a:off x="6300720" y="400536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otr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6300720" y="430704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ezifá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6300720" y="4594320"/>
            <a:ext cx="1366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irkulárne svaly kontrak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6300720" y="5084640"/>
            <a:ext cx="1511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otrava pehltnutá predtý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6300720" y="5516640"/>
            <a:ext cx="1440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irkulárne svaly relaxovan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6300720" y="595008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Sfink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6300720" y="616572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Žalúd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7020000" y="3429000"/>
            <a:ext cx="143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eristal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ontrakcia hladk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BP026_smooth_muscle_contraction"/>
          <p:cNvPicPr/>
          <p:nvPr/>
        </p:nvPicPr>
        <p:blipFill>
          <a:blip r:embed="rId1"/>
          <a:stretch/>
        </p:blipFill>
        <p:spPr>
          <a:xfrm>
            <a:off x="3209760" y="2708280"/>
            <a:ext cx="5754960" cy="39844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0"/>
          <p:cNvSpPr/>
          <p:nvPr/>
        </p:nvSpPr>
        <p:spPr>
          <a:xfrm>
            <a:off x="179280" y="892080"/>
            <a:ext cx="8713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iacjednotkový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utonómnym nervovým systémom sú inervované jednotlivé bunk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mná kontro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grad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á odpoveď podobne ako pri skeletálnom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- trachea, elasti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r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ris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Žiadn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 namiesto neho 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mod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gul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čný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n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hladkom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aktiež tropomyozín nemá regulačnú funkciu, ako v priečne pruhovaných svalo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začí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reg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y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ci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í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-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tivovaný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nov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m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enké filame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ého sval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sahuj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jm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tí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í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desm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MuscleCardiacCells"/>
          <p:cNvPicPr/>
          <p:nvPr/>
        </p:nvPicPr>
        <p:blipFill>
          <a:blip r:embed="rId1"/>
          <a:stretch/>
        </p:blipFill>
        <p:spPr>
          <a:xfrm>
            <a:off x="0" y="512640"/>
            <a:ext cx="6095880" cy="50770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3394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Srdcový s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292720" y="189000"/>
            <a:ext cx="3672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rdcov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eľa kratšie bunky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strový s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 srdcového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u sa vetvia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ájajú spojeniam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ctions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lárnym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m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chemi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chádzaj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poje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čná sie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acujú ako cel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95280" y="514188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ier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iečne pruhovan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dob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 nie totožné usporiadanie myofilamentov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 má kostrov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ohé bunky srdcového svalu s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g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én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imp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znikajú vo svale, neprichádzajú z nervového systém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rdcový ryt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08000" y="1268280"/>
            <a:ext cx="216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kalárne di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2268360" y="1268280"/>
            <a:ext cx="2305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iečne pruhov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4572000" y="134136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yocy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3635280" y="1700280"/>
            <a:ext cx="93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d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2090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Schém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te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alárneh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i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srdcového sva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611280" y="1130400"/>
            <a:ext cx="7273800" cy="30700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0" y="2171880"/>
            <a:ext cx="1835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 junctions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ytváraj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ytopl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stí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7814160" y="1346040"/>
            <a:ext cx="891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to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812000" y="1851120"/>
            <a:ext cx="1258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x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prot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7451640" y="3003480"/>
            <a:ext cx="169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edzibunkov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i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7740720" y="3795840"/>
            <a:ext cx="1403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unkov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á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395280" y="472428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myocytoch srdcového sva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flux N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pust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indu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va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 uvolnen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lux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ez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pätí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iade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aná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sarkoleme, čo vedie k uvolneni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634544_x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1476360" y="260280"/>
            <a:ext cx="662472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Monofázický akčný potenciál (srdcový sv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42920" y="3233880"/>
            <a:ext cx="1908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 depolarizácia - N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 bu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716360" y="1844640"/>
            <a:ext cx="295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2 C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 bunky inicializácia kontrak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6372360" y="3500280"/>
            <a:ext cx="1871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von z bunky r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7236000" y="4732200"/>
            <a:ext cx="1728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ľudový 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179280" y="5726160"/>
            <a:ext cx="216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3780000" y="5726160"/>
            <a:ext cx="158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r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File:Pacemaker potential annotated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"/>
          <p:cNvSpPr/>
          <p:nvPr/>
        </p:nvSpPr>
        <p:spPr>
          <a:xfrm>
            <a:off x="324000" y="119700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2484360" y="4508640"/>
            <a:ext cx="158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e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3059280" y="1052640"/>
            <a:ext cx="4537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ace-makerový“ a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4859280" y="458136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7164360" y="464652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0" descr="634540_x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000" y="1123560"/>
            <a:ext cx="6264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b66"/>
                </a:solidFill>
                <a:latin typeface="Arial"/>
              </a:rPr>
              <a:t>and its relation to the ECG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1"/>
          <p:cNvSpPr/>
          <p:nvPr/>
        </p:nvSpPr>
        <p:spPr>
          <a:xfrm>
            <a:off x="0" y="5950080"/>
            <a:ext cx="91440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lhotrvajúci akčný potenciál – dlhá refraktórna perió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žiadna časová sumácia - žiadna tetanická kontrak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476360" y="115920"/>
            <a:ext cx="6696000" cy="16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Monofázický akčný potenciál (srdcový sv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 jeho vzťah k EKG kriv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971640" y="3017880"/>
            <a:ext cx="1728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 depolarizácia - N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5940360" y="3357720"/>
            <a:ext cx="1727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 repolarizácia K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3059280" y="184464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4284720" y="206064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7" descr="waves"/>
          <p:cNvPicPr/>
          <p:nvPr/>
        </p:nvPicPr>
        <p:blipFill>
          <a:blip r:embed="rId1"/>
          <a:stretch/>
        </p:blipFill>
        <p:spPr>
          <a:xfrm>
            <a:off x="0" y="843120"/>
            <a:ext cx="9144000" cy="60148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zťa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le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trický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mechanic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ý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hara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is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í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srdcovej ak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156360" y="1773360"/>
            <a:ext cx="180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lak v a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4859280" y="2852640"/>
            <a:ext cx="280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lak v ľavej ko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5221440" y="3500280"/>
            <a:ext cx="287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kčný potenciál ľavej ko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4572000" y="5149800"/>
            <a:ext cx="280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3995640" y="637524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čas 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Image:ECG Principle fast.gif"/>
          <p:cNvPicPr/>
          <p:nvPr/>
        </p:nvPicPr>
        <p:blipFill>
          <a:blip r:embed="rId1"/>
          <a:stretch/>
        </p:blipFill>
        <p:spPr>
          <a:xfrm>
            <a:off x="-36360" y="0"/>
            <a:ext cx="600048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5580000" y="333360"/>
            <a:ext cx="338472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Šírenie s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ic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ej ak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čné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ciálu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z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noatri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ne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uzl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 t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aniv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srdcovýc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predsiení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trioventri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ne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uzl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pot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tkaniva srdcových komô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so záznamom príslušného EK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000000"/>
                </a:solidFill>
                <a:latin typeface="Arial"/>
              </a:rPr>
              <a:t>Kostrový sv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upevnený ku kostiam šľach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iekoľko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p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láki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ýchlos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ýdrž, úna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ila, veľkosť motorickej jednot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štruktú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dlh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iacjadrov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ylind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ick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dĺžka niekoľk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m (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unka ľudského kostrového sval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iem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0 - 150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cytoskelet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dporuje tvar bu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ZHRNU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280" y="909360"/>
            <a:ext cx="8893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ákladné vlastnosti svalov a svalového tkan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strový, srdcový, hladký sval a rozdiely medzi n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Štruktúra svalu a svalovej bunky (myofibrila, sarkomera, aktín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n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ická jednot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n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valová platnič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cetylcho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latničkov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b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sa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matick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um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 svalového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ák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ntrakcia svalu, jej kontro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tropom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)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úloh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ón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alové trhnut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uperpozícia, sumácia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tanus (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nit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hladk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ový a viacjednotkový hladký sval, spojenie 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p junctio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Štruktúra tkaniva srdcového sval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t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lár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yvolané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uvolneni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 srdcového sval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jeh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van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c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551960" y="6237360"/>
            <a:ext cx="63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tochem.tamu.edu/MuscleStrucContractswf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280" y="11592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oti sebe pôsobiace svaly s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onis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x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kťa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ceps brach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iceps brach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uscles-voluntary1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518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214960" y="5083200"/>
            <a:ext cx="3929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nie 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kdy úpl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x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o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miernen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hybu udržovaní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us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ic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ý pohy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muscle_structure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030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360" y="21600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klopuje každý 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8317080" y="2492280"/>
            <a:ext cx="57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5508720" y="5157720"/>
            <a:ext cx="136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klo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žd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2627280" y="5157720"/>
            <a:ext cx="2736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as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stáva svalový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alom, ktor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chádza do šľa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755640" y="5157720"/>
            <a:ext cx="201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Šľacha - 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agénových vlák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0920" y="-360"/>
            <a:ext cx="4357800" cy="66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Štruktúra kostrového sva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24000" y="765000"/>
            <a:ext cx="792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s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380360" y="620640"/>
            <a:ext cx="1584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i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7236000" y="1844640"/>
            <a:ext cx="19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8172360" y="2492280"/>
            <a:ext cx="971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7451640" y="4653000"/>
            <a:ext cx="12240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svalov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nop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image001"/>
          <p:cNvPicPr/>
          <p:nvPr/>
        </p:nvPicPr>
        <p:blipFill>
          <a:blip r:embed="rId1"/>
          <a:stretch/>
        </p:blipFill>
        <p:spPr>
          <a:xfrm>
            <a:off x="142920" y="11160"/>
            <a:ext cx="8893080" cy="68468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6165360"/>
            <a:ext cx="914400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Hlboká štruktúra kostrov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356000" y="5013360"/>
            <a:ext cx="324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Jednotlivé svalové vlák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780000" y="5445000"/>
            <a:ext cx="86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Ja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79280" y="357336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arkoplaz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4076640"/>
            <a:ext cx="1258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763640" y="306864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arko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2556000" y="2421000"/>
            <a:ext cx="180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edzi vlák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Svalov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vlákn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valová bun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ej bun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strové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rdcového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hladkého sva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edie signá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kutočn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ick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onkajší ob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enká vrst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lysacharid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 s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ag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énovými vlákna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ktorý prechádza do vlákien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ľa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rkoplaz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yto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 organel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fibri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ylindr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gane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til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 (myofilamenty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ák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pecifická    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nštantn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iekoľký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ované do opakujúcich sa podjednotiek pozdĺ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fibri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rkomé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l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bu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rnym systém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nútorný vodivý syst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587640" y="484200"/>
            <a:ext cx="23050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alov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bu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Muscle fibres"/>
          <p:cNvPicPr/>
          <p:nvPr/>
        </p:nvPicPr>
        <p:blipFill>
          <a:blip r:embed="rId1"/>
          <a:stretch/>
        </p:blipFill>
        <p:spPr>
          <a:xfrm>
            <a:off x="0" y="0"/>
            <a:ext cx="6804000" cy="569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File:Myofibril.svg"/>
          <p:cNvPicPr/>
          <p:nvPr/>
        </p:nvPicPr>
        <p:blipFill>
          <a:blip r:embed="rId2"/>
          <a:stretch/>
        </p:blipFill>
        <p:spPr>
          <a:xfrm>
            <a:off x="2411280" y="4941720"/>
            <a:ext cx="6301080" cy="18529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3780000" y="511200"/>
            <a:ext cx="23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valov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08000" y="871560"/>
            <a:ext cx="266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arkoplazma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95280" y="1268280"/>
            <a:ext cx="165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etik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0" y="2168640"/>
            <a:ext cx="176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5364000" y="2492280"/>
            <a:ext cx="1872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yoz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684360" y="4581360"/>
            <a:ext cx="23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arkomé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4788000" y="4437000"/>
            <a:ext cx="100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t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2843280" y="5013360"/>
            <a:ext cx="1368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mé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5292720" y="479736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6300720" y="479736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3276720" y="609300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2124000" y="6237360"/>
            <a:ext cx="107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4140360" y="6232680"/>
            <a:ext cx="1079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5219640" y="6237360"/>
            <a:ext cx="792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i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9:11:00Z</dcterms:created>
  <dc:creator>Ivan Poliacek</dc:creator>
  <dc:description/>
  <dc:language>en-US</dc:language>
  <cp:lastModifiedBy>Veronika Slováček Hagenová</cp:lastModifiedBy>
  <dcterms:modified xsi:type="dcterms:W3CDTF">2021-03-04T08:45:03Z</dcterms:modified>
  <cp:revision>264</cp:revision>
  <dc:subject/>
  <dc:title>Snímka 1</dc:title>
</cp:coreProperties>
</file>