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8B89-F4E7-4C7C-A3FB-415F39CA43B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581B-323B-4EC9-B2FA-7E4998D671B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0E21-8BBA-4EE8-9C87-3DCC948FB9D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A36E-9888-44D8-97D4-054F55F40E1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5E23-52D4-4747-B571-8A07936557C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1519-5295-442A-B631-A4F7FCDEDF7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7FFB-9A96-4985-8438-41534763AD3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99F3-75D0-48DC-A343-C7BD69A4102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4FAE-9288-45BD-8842-17370E4A301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78F7-5B25-4E39-B6F2-C9C1D0D5E2B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3087-E87F-4588-A486-18E127C891C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A5F7-879B-46F6-A159-4633500BEEB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4EC-E323-4C37-9461-DDD68065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168-6944-4DA7-A555-9C061F12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CE8-EF50-4429-B4DB-B137C394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B99-02F4-4DC8-8392-616F3EE6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3D90-7354-4600-BE91-B2BDD37B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A09D-4341-4EB1-B41E-C09AE048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0B11-02CF-4846-B779-F5F45884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C72A-C618-41CD-942F-D8D47F9A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99AC-385F-45A1-A9C8-BA571A23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4CF1-E680-4917-B769-B193193C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778A-1F97-487C-B47A-BF7C0DD4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46B-9C0A-4C9A-8176-F0E5272A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FE55-9900-4872-9255-5DB4F397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9A29-85B2-4408-8E31-4419A2CC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5A20-C84E-4788-95FE-8114DF77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3027-1C62-4ADF-8FB9-38698DFB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8C00-345A-408B-9A65-00E14728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F49-6816-459F-ACDB-1CD9ECA8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13C-494E-46DE-A8B7-A6E6C456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9B7-97F6-4E1A-A7A4-7930C95F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D69-F8DD-46A3-8AAA-B1587A4C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01B-17DE-4A62-9BE3-43D93A9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9EC-1714-4B60-83FE-0E42F541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1BE-66D6-499F-9863-7C4F7F0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7482-40A2-43A4-BF1B-98565C04F5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3292-0FB7-4138-9C90-3130AC09DC49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tekutín tela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  krvi</a:t>
            </a:r>
            <a:br>
              <a:rPr sz="4000"/>
            </a:br>
            <a:br>
              <a:rPr sz="40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i="1" lang="sk-SK" sz="4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Ján Jakuš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F:\ OPAVA obr. Fyziol\vyvojove rady krvnych elementov.jpg"/>
          <p:cNvPicPr/>
          <p:nvPr/>
        </p:nvPicPr>
        <p:blipFill>
          <a:blip r:embed="rId1"/>
          <a:stretch/>
        </p:blipFill>
        <p:spPr>
          <a:xfrm>
            <a:off x="1936800" y="77760"/>
            <a:ext cx="527040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rvné skupiny-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dla prítomnosti glykoproteinov( aglutinogénov))  na povrchu ERYS sa delia n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, B, 0, AB a R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javitelia: Landsteiner z Viedne a Janský z Prahy (1907). Výskyt: A= 41%, 0 =38%, B=14% AB= 7%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A 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 aglutiníny)  anti B, 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 B 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protilátky  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A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0 skupina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e bez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ov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ale má protilátk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-A a anti -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y A,B ale je bez protilátok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rotilátky sa vyskytujú pravidelne)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seobecný darca: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0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všeobecný príjemca 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A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 +(pozitívn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 H 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 sa vyskytuj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epravidelne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- (negatívna matka) je bez aglutinogénu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e po imunizácii krvou skupiny Rh+(plodu)  matka vytvar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tilátku anti D ( vzniká hemolýza obycajne pocas 2. tehotenstva , uvolni sa bilirubín ktorý sa ukladá v mozgu , vzniká tzv.jadrový ikterus  co vedie k vážnemu poskodeniu CN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to sa Rh- dievcatam nesmie podavat Rh+ krv, v pripade ze sa to stalo podava sa im po porode (potrate )  anti D serum,(znici Ery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i transfúzii inkompatibilnej krvi v systéme ABO  dochádza k rýchlej a masivnej hemolýze co ohrozuje život pacienta.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d podaním krvnej transfúzie sa musí  urobit </a:t>
            </a: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</a:rPr>
              <a:t>Skúska kompatibility-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 sklicku, v skumavke , zistuje sa  aglutinacia –používaju sa testovacie sera anti A, anti B, anti AB,, anti D,  pred vlastnou transfuziou sa robi križová skuska a biologický pokus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F:\ OPAVA obr. Fyziol\krvne skupiny.jpg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49040"/>
            <a:ext cx="871380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m a rozdelenie telových tekutín</a:t>
            </a:r>
            <a:br>
              <a:rPr sz="2800"/>
            </a:br>
            <a:br>
              <a:rPr sz="2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lková  telová vod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UŽ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CTV = 42l (60%),      35l (50%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ŽEN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 toho: A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celulárna tekutina: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  = 28l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B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celulárna tekuti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  ECT  =14 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vask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krvná plazma v cievach): IVT = 3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vaskulárna (intersticiálna) 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kanivový mok):             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EVT= 10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iež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liquor,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vnútroočná tekutina,tráviace štavy...) do CTV sa nepočíta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LOŽENI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N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45 mmol/l),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2), Cl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20 )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In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  K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(155 mmol/l), fosfátov a menej             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Cl-        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ICT= 6,8-7,4 ( kyslé metabolity obsahujú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ón ),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ECT =pH krvi = 7,4 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zsah hodnôt pH krvi zlučitelných so životom je  od 7,0-7,8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25080" cy="82404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Krv</a:t>
            </a:r>
            <a:r>
              <a:rPr b="0" lang="sk-SK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b7e7ff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uspenzia červených krviniek, bielych krviniek a krvných doštičiek v krvnej plazme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40" y="1052280"/>
            <a:ext cx="9325080" cy="583092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Množstvo krv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4,5 - 6l  (7% hmotnosti tela)  Normovolémia, Hypo- a hyper-volé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Hematokrit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omer objemu krviniek a plazmy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: 44%, Žena: 39%( v centrifú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Sedimentácia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FW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závisi od pomeru bilekovín plazmy):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Norma 2-5mm/1 hod (M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z citrátovej krvi)                                                                               3-8 mm/1 hod (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ri zápale, anémii, v tehotenstve a počas menštruácie  sa FW zrýchľu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C:\Users\JJ\AppData\Local\Microsoft\Windows\Temporary Internet Files\Content.IE5\YDJWFUW8\erytrocyt, trombocyt, leukocyt.jpg"/>
          <p:cNvPicPr/>
          <p:nvPr/>
        </p:nvPicPr>
        <p:blipFill>
          <a:blip r:embed="rId1"/>
          <a:stretch/>
        </p:blipFill>
        <p:spPr>
          <a:xfrm>
            <a:off x="54000" y="3279600"/>
            <a:ext cx="554688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:\ OPAVA obr. Fyziol\vzhlad vzorky krvi v kapilare po centrifugacii.jpg"/>
          <p:cNvPicPr/>
          <p:nvPr/>
        </p:nvPicPr>
        <p:blipFill>
          <a:blip r:embed="rId2"/>
          <a:stretch/>
        </p:blipFill>
        <p:spPr>
          <a:xfrm>
            <a:off x="6227640" y="3279600"/>
            <a:ext cx="2600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očet ERYS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 : 4,3-5,3 x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litri. (-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 6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mm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) ŽENA: 3,8-4,8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12 v l krvi.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ar bikonkávne disky  s d=7,4 um, Tvoria sa v kostnej dreni kostí, Životnost 90-120 dní, rozpadajú sa hemolýzou  v slezine, sú bez jadra a organel. Hemoglobín : MUŽ 135-170 g/l, ŽENA: 120-158 g/l. ( syntéza : z vit . C, B6, B12, Fe , AK)</a:t>
            </a:r>
            <a:br>
              <a:rPr sz="18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ýznam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prenos 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C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naviazaných na Hemoglobín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očet LEU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Ž aj ŽENA : 4 -11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l krvi ( lymfy) (nie sú pohlavné rozdiely)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ýznam-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munita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brana organizmu pred virusmi , baktériami a inými cudzorodými látkami najmä formou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gocytózy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ruhy LEU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A. 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nulocyt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utr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kútny zápal , počet 50-70%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ozin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a parazitárne ochorenia, 1-3%,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Báz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0,5-1%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reakcie, tvorba histamínu a heparínu –vazodilatácia ciev</a:t>
            </a:r>
            <a:br>
              <a:rPr sz="1800"/>
            </a:br>
            <a:br>
              <a:rPr sz="18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C:\Users\JJ\AppData\Local\Microsoft\Windows\Temporary Internet Files\Content.IE5\M3PWZNLY\formovane elementy v natere z perifernej krvi.jpg"/>
          <p:cNvPicPr/>
          <p:nvPr/>
        </p:nvPicPr>
        <p:blipFill>
          <a:blip r:embed="rId1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ictures\typy bielych krviniek.jpg"/>
          <p:cNvPicPr/>
          <p:nvPr/>
        </p:nvPicPr>
        <p:blipFill>
          <a:blip r:embed="rId2"/>
          <a:stretch/>
        </p:blipFill>
        <p:spPr>
          <a:xfrm>
            <a:off x="4067280" y="3975120"/>
            <a:ext cx="42606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5341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granulocyty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Lymfocyt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25-40 %, zodpovedné za tvorbu Imunoglobulínov .( IMUNITA: humorálna-l ymfocyty B )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(IMUNITA bunková- lymfocyty T, Killer a dalsie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nocyt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3-8%, objavujú sa pri chronickom zápale spolu s lymfocytmi, výrazne fagocytujú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Trombocyt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krvné doštičk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nepravidelný tvar s d = 2-4 um, bezjaderné bunky ,počet 150-400 x 10 3 /l , zivotnost cca 10 dní,  sú hlavne v krvi, ale aj v slezine. Granulá trombocytov obsahuju :Serotonin, ATP ,faktor zrážania č. IV, fibrinogén, faktor V - všetky potrebné pre zrážanie krvi.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NÁ PLAZM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ekutá zložka krvi, množstvo asi 3,5l, Zloženie:90% vody a 10% látok ( bielkoviny+ iné organické látky+ plazmatické faktory zrážania krvi+ anorganické soli)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Bielkovi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60-80g/l)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bumíny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43 g/l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fa1, alfa2, beta1, beta2, ,Gama globulí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16g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Fibrinogé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4g/l)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Osmolarita plazm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290 mosm/l</a:t>
            </a:r>
            <a:br>
              <a:rPr sz="2000"/>
            </a:b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Iné organické látk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ukóza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glykémia nalačno=3,5-6,4 mmol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lipidy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ipémia= 5,7-8,2g/l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cholesterol 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elkový do 5,2 mmol/l),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bielkovinný dusí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azotémia- močovina(urea), kreatín, kreatiní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40" y="128520"/>
            <a:ext cx="89154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F:\ OPAVA obr. Fyziol\koncentracia anorganickych sucasti plazmy.jpg"/>
          <p:cNvPicPr/>
          <p:nvPr/>
        </p:nvPicPr>
        <p:blipFill>
          <a:blip r:embed="rId1"/>
          <a:stretch/>
        </p:blipFill>
        <p:spPr>
          <a:xfrm>
            <a:off x="108000" y="117360"/>
            <a:ext cx="4140000" cy="547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 OPAVA obr. Fyziol\koncentracia organickych sucasti plazmy.jpg"/>
          <p:cNvPicPr/>
          <p:nvPr/>
        </p:nvPicPr>
        <p:blipFill>
          <a:blip r:embed="rId2"/>
          <a:stretch/>
        </p:blipFill>
        <p:spPr>
          <a:xfrm>
            <a:off x="4238640" y="130320"/>
            <a:ext cx="4896000" cy="5473440"/>
          </a:xfrm>
          <a:prstGeom prst="rect">
            <a:avLst/>
          </a:prstGeom>
          <a:ln w="0">
            <a:noFill/>
          </a:ln>
        </p:spPr>
      </p:pic>
      <p:sp>
        <p:nvSpPr>
          <p:cNvPr id="102" name="Obdĺžnik 1"/>
          <p:cNvSpPr/>
          <p:nvPr/>
        </p:nvSpPr>
        <p:spPr>
          <a:xfrm>
            <a:off x="2465280" y="5877000"/>
            <a:ext cx="455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2"/>
          <p:cNvSpPr/>
          <p:nvPr/>
        </p:nvSpPr>
        <p:spPr>
          <a:xfrm>
            <a:off x="1351080" y="56149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0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Hemostáz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astavenie krvácania):  do 3-4 min. ,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zostáva zo stiahnutia ciev, nahromadenia trombocytov, vznikom  bielej, provizórnej hemostatickej zátky.</a:t>
            </a:r>
            <a:br>
              <a:rPr sz="2000"/>
            </a:b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mokoagulác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rážanie krvi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) 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 10 minút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itro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súbor reakcií,ktoré vedú ku premene rozpustného proteínu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lazmy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fibrinogén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(faktor č. I) na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nerozpustný fibr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iď. schéma zrážani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i  a fibrinolýza 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Michalský s. 62)</a:t>
            </a:r>
            <a:br>
              <a:rPr sz="20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lazmatické faktory zrážania krvi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vznik v játrech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fibrinogé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tromb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Tkanivový tromboplastín  ( jediný nie je z plazmy ,ale z poranených tkanív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Ca </a:t>
            </a:r>
            <a:r>
              <a:rPr b="1" lang="sk-SK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+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pro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kon-vert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ntihemifilický globulín ( ked chýba vznikne hemofí-lia  A ).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.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Christmas faktor (PTC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X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Stuart-Prowerovej faktor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Rosenthalov faktor (PTA- ked chýba vzniká hemofíla B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Hagemanov faktor-povrchový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I.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Fibrín-stabiiizujúci faktor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rážanie krvi-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NKAJŠÍ systé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kaskády: aktivuje sa pri poranení tkanív -sled reakcií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Ca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 f.III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ahajujú zrážanie, výsledkom je preme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.I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 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f IIa) Trombín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a tento zmen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 .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ibrínové vlák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ktoré spevnia  bielu provizórnu  hemostatickú zátku a vzniká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ekundárna zátka (červená)</a:t>
            </a:r>
            <a:br>
              <a:rPr sz="36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NÚTORNÝ systém kaskády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 X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aktivuje stykom s kolagénom poškodených ciev, postupne sa aktivujú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,IX, VIII, X za vzniku tzv. Aktivátoru protrombínu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torý spolu s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 </a:t>
            </a:r>
            <a:r>
              <a:rPr b="1" lang="cs-CZ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mbin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.II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tento z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brinogén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Fibrín ( fibrinové vlákna) . Tieto su stabilizovan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I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rážanie krv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koagulácia)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ozpúštanie zrazenin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ibrinolýza)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moco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lazmínu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usia byť v rovnováhe.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izrážavé látky: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rát sodný, štavelan, heparín, kumarí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3" descr="F:\ OPAVA obr. Fyziol\schema koagulacie.jpg"/>
          <p:cNvPicPr/>
          <p:nvPr/>
        </p:nvPicPr>
        <p:blipFill>
          <a:blip r:embed="rId1"/>
          <a:stretch/>
        </p:blipFill>
        <p:spPr>
          <a:xfrm>
            <a:off x="449280" y="2320920"/>
            <a:ext cx="8569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Hematopoéza</a:t>
            </a:r>
            <a:r>
              <a:rPr b="1" lang="sk-SK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krv sa tvorí v kostnej dreni dlhých kosti ( novorode-.nec, dieta) a v plochých kostiach lebky a v stavcoch ( v dospelosti).</a:t>
            </a:r>
            <a:br>
              <a:rPr sz="2000"/>
            </a:b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Všetky bukové elementy krvi ( erytrocyty, leukocyty a trombocyty) vznikajú zo spoločnej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otipontentnej kmeňovej bunky.Z nej vznikajú unipotent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z nich postupne vyzrievaju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cyty- erytropoé-za, leukocyty- leukopoéza, tronbocyty-trombopoéza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ebné prvky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Erytropoéz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potrebné na syntézu krvného farbiva-hemoglobínu, Aminokyseliny, Cu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,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Kobalt ,Vitamin B12 ( kya-nokobalamin), kyselina listová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dosta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Anémia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adby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Polycytémi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Leukopoéza :,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yeloblasty: granulocyty a agranulocyty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ymfocyty B- dozrievaju v kostnej dreni, reagujú s antigenmi za vzniku plazmatických buniek produkujúcich  špecifické protilátky ( imunoglo-bulíny).  Lymfocyty T v tymuse, su v lymf. uzlinách a v slezine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Trombopoé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rombocyty z megakaryoblastu a megakaryocytu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Regulácia krvotvorby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rmón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 glomerula obliciek,-zvýšenie tvorby ERYS v kostnej dreni a vyplavenie do krv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. Hormóny nadobličiek, štítnej žlazy, rastový hormón 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výšenie tvorby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estosteró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,  estrogé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–pokles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ranul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 leukocytov ....a ďalsie početné látky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3:12Z</dcterms:modified>
  <cp:revision>372</cp:revision>
  <dc:subject/>
  <dc:title>Úvod</dc:title>
</cp:coreProperties>
</file>