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4587-8CD0-45B6-8F13-2D8B688021A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E050-47C7-480A-A36E-9BE0D2059C5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008-930B-4BA1-859F-FD8B7F5F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4A0-861F-485C-9497-2C8724EF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AB9-CEA7-4480-9EE6-D9AC2165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367-F996-4E47-AE63-CC95E436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BE19-0E7A-4ADA-AD14-74DA8A7B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ED97-7520-4B56-9811-7C4B4417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8F2E-31EF-4986-8768-86DFDE25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CA57-C78F-4240-BDE3-9278C421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EC5D-F0FF-42BF-B3D7-F38D008F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D670-A605-4987-9355-C035E379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1987-A7C2-4EE4-B804-457421ED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BBB-DFA7-43E0-B5F2-FFFEAAB9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B712-42F3-4C84-BE5B-6FB8F7FD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DF34-2CB5-4A0B-9EA1-D06CEDA6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931C-BBE4-427C-8249-0DD7660D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4D88-9F64-421B-9B5D-83D06085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40B3-1692-4A92-86DD-BABD0054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369-2298-418B-B595-679D564E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782-5D58-4BEC-976C-BC6770D6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5FF-D6C2-43A1-B673-841FEA27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1E5-2F47-499F-89B9-3624DDD7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306-C8A9-4213-85A3-4A640038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630-A791-4F2E-9FD7-AC83C6EF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501-A739-436D-9E4C-514D0725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C787-1ABC-4570-A8FB-197D77A1D8B5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5C04-5DC1-474E-80EF-F83FE077F773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unkcie gastrointestinálneho traktu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43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áviaci trakt morfológia a funkci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ráviaca trubic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utina ústna,Hltan, Jazyk, Zuby,Jícen, Žalúdo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vanástnik,Tenké črevo, Hrubé črevo, rek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ídatné orgány tráveni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nné žlazy(3 páry), játra, žlčník,slinivka brušn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znica, podslizničná vrstva,hladká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valovina, pobrušnic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valovi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(vid obr.s.91 Michalsk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Funkc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íjem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pracovanie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strebávanie živín z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ena vstrebaných ži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kladovanie metabolit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ylučovanie odpadových 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F:\ OPAVA obr. Fyziol\transport potravy v gastrointestinalnom systeme.jpg"/>
          <p:cNvPicPr/>
          <p:nvPr/>
        </p:nvPicPr>
        <p:blipFill>
          <a:blip r:embed="rId1"/>
          <a:stretch/>
        </p:blipFill>
        <p:spPr>
          <a:xfrm>
            <a:off x="5940360" y="263700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    </a:t>
            </a:r>
            <a:br>
              <a:rPr sz="4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utina ústna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umožňuje  príjem potravy, jej odhryznutie a rozdrobenie pomocou zubov, premiešavanie jazykom so slinami (hlen-mucín), chemické  tráveni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škrobu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linnou alfa – amyláz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 kontrolu fyzikálnych a chemických vlastností ( chuťové receptory jazyka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nožstvo slín: 2l/deň , pH= 6-7 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700280"/>
            <a:ext cx="86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olykací refle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dráždením korena jazyka je sústo potravy  zatlačené do jícnu a pohybom priecnej aj pozdĺžnej svaloviny jícnu sa dostane do žalúdka.Centrum reflexu-predlžená miecha, n. IX a 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Žvýkací reflex, sací reflex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.Žalúdok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obsah 1,5-2 l ,časti :kardia, fundus , pylorus - skladovanie, peristaltické pohyby, mechanické premiešavanie a chemické trávenie potrav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žal. šťavo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(2-3l/deň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unkcie žal.šťav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HCl, denaturuje bielkoviny,ničí baktér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ení Fe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e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viaže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ko CaCl</a:t>
            </a:r>
            <a:r>
              <a:rPr b="1" lang="sk-SK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,aktivuje Pepsin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gen na Pepsín ( tento rozkladá  biekoviny na peptid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yprázdňovanie žalúdk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Pylorickou pump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vylučovanie natráveniny ( chymusu) do dvanástnik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rogastrick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lexom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ylorus sa nakrátko uzavrie ,ked sa chym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dostane do dvanástnika a posunie do jejuna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F:\ OPAVA obr. Fyziol\absorpcia zeleza prijateho v potrave.jpg"/>
          <p:cNvPicPr/>
          <p:nvPr/>
        </p:nvPicPr>
        <p:blipFill>
          <a:blip r:embed="rId1"/>
          <a:stretch/>
        </p:blipFill>
        <p:spPr>
          <a:xfrm>
            <a:off x="7524720" y="3716280"/>
            <a:ext cx="1706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36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Duodenum (dvanástnik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na začiatku tenkého čreva,pokračzje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jejuno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konč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leom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o duodena v miest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aterskej papil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4) sa vlieva žlč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choledochus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5) a pankreatická štava 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pancrea-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icus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6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I.  Žlč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vori sa v  jatrech  0.8-1 l/den, žlutohnedej farby  usklad-ňuje v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ník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7), obsahuje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ové kyselin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cholová, deoxycholová), vyzrážajú tuky v (emulgácia).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24360" y="1773000"/>
            <a:ext cx="9450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2) Bilirubín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produkt žltej farby  z rozpadu Hemoglobínu) ak sa dostane do krvi vzniká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Ic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3) Bikarbonát, voda, ió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pH=8,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. Pankreatická štav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: 1-2 l/den, bezfarebná,pH =8,2), obsahuj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.Proteolytické enzým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 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trypsí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, chymo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chy-motrypsi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karboxipeptidáz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elast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všetky štiepia bielkovin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 peptidy na aminokyseli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Alfa amylá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krob 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glykog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I. Pankreatická lip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 tu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a glycerol + Mastné kyse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V. DNK-áza a RNA-áza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a 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+ hlien, alkalická fosfatáza, bikarb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át et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F:\ OPAVA obr. Fyziol\pankreas, duodenum a zlcove cesty.jpg"/>
          <p:cNvPicPr/>
          <p:nvPr/>
        </p:nvPicPr>
        <p:blipFill>
          <a:blip r:embed="rId1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C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Tenké črevo (duodenum,jejunum,ileu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- klky obsahuj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enterocyty), ktoré tvori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šťav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3l/den, pH =8) s obsahom enzýmov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peptidáz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štiepia peptidy na AK) 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acharázy, maltáz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štiepia oligo- na monosacharidy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lipázu.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: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ukrov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( v duodene a jejune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tukov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v jejune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bielkovín , A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od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v ileu a v hrubom čreve) , minerálov a vitamínov.- rezorbované látky  idú do jater na resyntézu  a vznik stavebných látok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ohyby čreva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iešavajú  a posúvajú tekutý chýmus . S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miestn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tam a spat) 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eristaltické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( asi 12/min dopredu ku hrubému črevu) 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sympatikovej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asti vegetatívneho NS ( a podanie mediátorov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drenalínu a noradrenalínu)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spomaľujú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čreva 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parasympatikovej čast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 VNS,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podanie mediátora Acetylcholínu) </a:t>
            </a:r>
            <a:br>
              <a:rPr sz="2000"/>
            </a:b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zrýchľujú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ohyby čreva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D. Hrubé črevo ( colon</a:t>
            </a:r>
            <a:br>
              <a:rPr sz="2200"/>
            </a:b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servoar stolice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- rezorbcia </a:t>
            </a: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vody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E. Rektum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defekačný reflex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Funkce jater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pozri Michalský </a:t>
            </a:r>
            <a:br>
              <a:rPr sz="2200"/>
            </a:b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s. 97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F:\ OPAVA obr. Fyziol\crevny klk - funkcna organizacia.jpg"/>
          <p:cNvPicPr/>
          <p:nvPr/>
        </p:nvPicPr>
        <p:blipFill>
          <a:blip r:embed="rId1"/>
          <a:stretch/>
        </p:blipFill>
        <p:spPr>
          <a:xfrm>
            <a:off x="4529160" y="3789360"/>
            <a:ext cx="4595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42Z</dcterms:modified>
  <cp:revision>703</cp:revision>
  <dc:subject/>
  <dc:title>Úvod</dc:title>
</cp:coreProperties>
</file>