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3500-877C-410D-A8EF-3D1907A32E1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1E1C-73A4-4F14-86D8-49D0155FA27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CDF2-4A67-436B-ABB2-4A2D5B50373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4ADD-827C-44E0-9372-744649B41394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4760-0F55-4D70-BAA2-FC3DD2CBB7E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523F-3D13-479A-8625-EA3D3DAEDD57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8481-488D-4DFC-97F4-EF9E82A506A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340F-7401-411C-9EF6-91383C7EF795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49F4-BDA7-4C36-ABA6-0A9E8F2A3A92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0897-5C24-4706-B46A-762C17AB42CD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6DAF-71D7-4DC6-9E40-A6184B2D85B1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6952-3D3A-4B1B-83DF-031DE6A08D4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48A-4DFF-4B6E-B769-74D1CAAC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51E-9D4E-40E8-A3E4-CA03A055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6FC-A5E7-447B-B5D1-EFFAC9D4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B41-919E-4144-A784-F76B1EA5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3651-BA7A-4B2D-BFB7-238DE4DF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CB22-2267-4B82-B78F-3582C23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6CC-E4C5-4AC3-853B-949887D9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B18E-520A-496C-A06B-1D659B56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2539-78B4-4E9B-9AE7-32969ED3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5B8A-3871-4630-B8E5-E086E8E1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ED03-D842-486A-BA0E-D65A3C51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03D-2A0D-484D-8E57-AD8157B9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CB91-3FD6-4BD5-9CEC-882EDD8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50E0-31FE-49C5-92FA-E7E14F3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F4BC-C066-466F-940B-C2B11EC1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748E-6B52-4859-BD84-DF6F5813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123D-DAF9-4810-9791-D586DBA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0D6-0AB2-42AF-90BF-6F8944AC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D3F-A7DB-4948-B270-F43F378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A22-ED5A-4E04-8C63-0BA59F18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0A9-2710-4807-930E-90DC1F56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FB9-FE2D-4A2A-A30E-E02ED5A4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3A1-BACD-439D-A804-6809A9ED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34F-7FC5-4EBB-9750-855C992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942F-D5E9-44B0-9B35-A707CF583E3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0D24-C742-4783-AD89-1BF833750C1D}" type="slidenum">
              <a:rPr b="0" lang="sk-SK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1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Fyziológia tekutín tela</a:t>
            </a:r>
            <a:br>
              <a:rPr sz="4000"/>
            </a:br>
            <a:r>
              <a:rPr b="1" lang="sk-SK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a  krvi</a:t>
            </a:r>
            <a:br>
              <a:rPr sz="4000"/>
            </a:br>
            <a:br>
              <a:rPr sz="4000"/>
            </a:br>
            <a:r>
              <a:rPr b="1" i="1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r>
              <a:rPr b="1" i="1" lang="sk-SK" sz="48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"/>
              </a:rPr>
              <a:t>Ján Jakuš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cs-CZ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9" name="Picture 3" descr="F:\ OPAVA obr. Fyziol\vyvojove rady krvnych elementov.jpg"/>
          <p:cNvPicPr/>
          <p:nvPr/>
        </p:nvPicPr>
        <p:blipFill>
          <a:blip r:embed="rId1"/>
          <a:stretch/>
        </p:blipFill>
        <p:spPr>
          <a:xfrm>
            <a:off x="1936800" y="77760"/>
            <a:ext cx="5270400" cy="67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Krvné skupiny-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odla prítomnosti glykoproteinov( aglutinogénov))  na povrchu ERYS sa delia na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, B, 0, AB a Rh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javitelia: Landsteiner z Viedne a Janský z Prahy (1907). Výskyt: A= 41%, 0 =38%, B=14% AB= 7%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A  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( aglutiníny)  anti B, 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 B 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protilátky  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A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0 skupina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je bez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ov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ale má protilátk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nti -A a anti -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B skupina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á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 aglutinogény A,B ale je bez protilátok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Protilátky sa vyskytujú pravidelne)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Vseobecný darca: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0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všeobecný príjemca 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skupina AB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 +(pozitívn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aglutinogén  H (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protilátky sa vyskytuj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epravidelne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Rh- (negatívna matka) je bez aglutinogénu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e po imunizácii krvou skupiny Rh+(plodu)  matka vytvar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tilátku anti D ( vzniká hemolýza obycajne pocas 2. tehotenstva , uvolni sa bilirubín ktorý sa ukladá v mozgu , vzniká tzv.jadrový ikterus  co vedie k vážnemu poskodeniu CN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to sa Rh- dievcatam nesmie podavat Rh+ krv, v pripade ze sa to stalo podava sa im po porode (potrate )  anti D serum,(znici Erys plodu)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i transfúzii inkompatibilnej krvi v systéme ABO  dochádza k rýchlej a masivnej hemolýze co ohrozuje život pacienta.</a:t>
            </a:r>
            <a:br>
              <a:rPr sz="2000"/>
            </a:b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ed podaním krvnej transfúzie sa musí  urobit </a:t>
            </a: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</a:rPr>
              <a:t>Skúska kompatibility-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na sklicku, v skumavke , zistuje sa  aglutinacia –používaju sa testovacie sera anti A, anti B, anti AB,, anti D,  pred vlastnou transfuziou sa robi križová skuska a biologický pokus.</a:t>
            </a: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br>
              <a:rPr sz="31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4" descr="F:\ OPAVA obr. Fyziol\krvne skupiny.jpg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Malá Hora"/>
          <p:cNvPicPr/>
          <p:nvPr/>
        </p:nvPicPr>
        <p:blipFill>
          <a:blip r:embed="rId1"/>
          <a:srcRect l="0" t="0" r="421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6095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00"/>
                </a:solidFill>
                <a:latin typeface="Arial Black"/>
              </a:rPr>
              <a:t>Prajem Vám pekný deň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49040"/>
            <a:ext cx="8713800" cy="61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m a rozdelenie telových tekutín</a:t>
            </a:r>
            <a:br>
              <a:rPr sz="2800"/>
            </a:br>
            <a:br>
              <a:rPr sz="2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elková  telová vod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UŽ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CTV = 42l (60%),      35l (50%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ŽEN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 toho: A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celulárna tekutina: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T  = 28l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B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celulárna tekuti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  ECT  =14 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ntravask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krvná plazma v cievach): IVT = 3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xtravaskulárna (intersticiálna) 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tkanivový mok):             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EVT= 10,5l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ara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iež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anscelulárna tekutin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 liquor, 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vnútroočná tekutina,tráviace štavy...) do CTV sa nepočíta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LOŽENI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N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45 mmol/l),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2), Cl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-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(120 )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Intracelulárn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e viac   K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(155 mmol/l), fosfátov a menej              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Cl-        </a:t>
            </a:r>
            <a:br>
              <a:rPr sz="2000"/>
            </a:b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ICT= 6,8-7,4 ( kyslé metabolity obsahujú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ión ),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H ECT =pH krvi = 7,4 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ozsah hodnôt pH krvi zlučitelných so životom je  od 7,0-7,8 (-log H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br>
              <a:rPr sz="2000"/>
            </a:br>
            <a:br>
              <a:rPr sz="2000"/>
            </a:br>
            <a:br>
              <a:rPr sz="4000"/>
            </a:br>
            <a:br>
              <a:rPr sz="4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25080" cy="82404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Krv</a:t>
            </a:r>
            <a:r>
              <a:rPr b="0" lang="sk-SK" sz="2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b7e7ff"/>
                </a:solidFill>
                <a:latin typeface="Arial"/>
              </a:rPr>
              <a:t>–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uspenzia červených krviniek, bielych krviniek a krvných doštičiek v krvnej plazme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6640" y="1052280"/>
            <a:ext cx="9325080" cy="5830920"/>
          </a:xfrm>
          <a:prstGeom prst="rect">
            <a:avLst/>
          </a:prstGeom>
          <a:solidFill>
            <a:srgbClr val="1626c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Množstvo krvi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4,5 - 6l  (7% hmotnosti tela)  Normovolémia, Hypo- a hyper-volém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Hematokrit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omer objemu krviniek a plazmy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: 44%, Žena: 39%( v centrifú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</a:rPr>
              <a:t>Sedimentácia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FW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závisi od pomeru bilekovín plazmy):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Norma 2-5mm/1 hod (M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z citrátovej krvi)                                                                               3-8 mm/1 hod (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Pri zápale, anémii, v tehotenstve a počas menštruácie  sa FW zrýchľuj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C:\Users\JJ\AppData\Local\Microsoft\Windows\Temporary Internet Files\Content.IE5\YDJWFUW8\erytrocyt, trombocyt, leukocyt.jpg"/>
          <p:cNvPicPr/>
          <p:nvPr/>
        </p:nvPicPr>
        <p:blipFill>
          <a:blip r:embed="rId1"/>
          <a:stretch/>
        </p:blipFill>
        <p:spPr>
          <a:xfrm>
            <a:off x="54000" y="3279600"/>
            <a:ext cx="5546880" cy="3571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:\ OPAVA obr. Fyziol\vzhlad vzorky krvi v kapilare po centrifugacii.jpg"/>
          <p:cNvPicPr/>
          <p:nvPr/>
        </p:nvPicPr>
        <p:blipFill>
          <a:blip r:embed="rId2"/>
          <a:stretch/>
        </p:blipFill>
        <p:spPr>
          <a:xfrm>
            <a:off x="6227640" y="3279600"/>
            <a:ext cx="2600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očet ERYS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MUŽ : 4,3-5,3 x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</a:rPr>
              <a:t>12</a:t>
            </a:r>
            <a:r>
              <a:rPr b="1" lang="sk-SK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litri. (-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 6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 mm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) ŽENA: 3,8-4,8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12 v l krvi.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ar bikonkávne disky  s d=7,4 um, Tvoria sa v kostnej dreni kostí, Životnost 90-120 dní, rozpadajú sa hemolýzou  v slezine, sú bez jadra a organel. Hemoglobín : MUŽ 135-170 g/l, ŽENA: 120-158 g/l. ( syntéza : z vit . C, B6, B12, Fe , AK)</a:t>
            </a:r>
            <a:br>
              <a:rPr sz="18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ýznam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prenos 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CO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naviazaných na Hemoglobín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očet LEU-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Ž aj ŽENA : 4 -11 </a:t>
            </a:r>
            <a:r>
              <a:rPr b="1" lang="sk-SK" sz="1400" spc="-1" strike="noStrike">
                <a:solidFill>
                  <a:srgbClr val="ffff00"/>
                </a:solidFill>
                <a:latin typeface="Arial"/>
                <a:ea typeface="Arial"/>
              </a:rPr>
              <a:t>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0 </a:t>
            </a:r>
            <a:r>
              <a:rPr b="1" lang="sk-SK" sz="18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l krvi ( lymfy) (nie sú pohlavné rozdiely)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ýznam-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munita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brana organizmu pred virusmi , baktériami a inými cudzorodými látkami najmä formou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gocytózy</a:t>
            </a:r>
            <a:br>
              <a:rPr sz="18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Druhy LEU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A. 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nulocyt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N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utr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kútny zápal , počet 50-70%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ozin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a parazitárne ochorenia, 1-3%, </a:t>
            </a:r>
            <a:r>
              <a:rPr b="1" i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Bázofilné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0,5-1%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ergické reakcie, tvorba histamínu a heparínu –vazodilatácia ciev</a:t>
            </a:r>
            <a:br>
              <a:rPr sz="1800"/>
            </a:br>
            <a:br>
              <a:rPr sz="1800"/>
            </a:br>
            <a:br>
              <a:rPr sz="3600"/>
            </a:br>
            <a:br>
              <a:rPr sz="3600"/>
            </a:br>
            <a:br>
              <a:rPr sz="40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sk-SK" sz="4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C:\Users\JJ\AppData\Local\Microsoft\Windows\Temporary Internet Files\Content.IE5\M3PWZNLY\formovane elementy v natere z perifernej krvi.jpg"/>
          <p:cNvPicPr/>
          <p:nvPr/>
        </p:nvPicPr>
        <p:blipFill>
          <a:blip r:embed="rId1"/>
          <a:stretch/>
        </p:blipFill>
        <p:spPr>
          <a:xfrm>
            <a:off x="0" y="3975120"/>
            <a:ext cx="3780000" cy="2882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Pictures\typy bielych krviniek.jpg"/>
          <p:cNvPicPr/>
          <p:nvPr/>
        </p:nvPicPr>
        <p:blipFill>
          <a:blip r:embed="rId2"/>
          <a:stretch/>
        </p:blipFill>
        <p:spPr>
          <a:xfrm>
            <a:off x="4067280" y="3975120"/>
            <a:ext cx="426060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53416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B. </a:t>
            </a: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granulocyty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Lymfocyty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25-40 %, zodpovedné za tvorbu Imunoglobulínov .( IMUNITA: humorálna-l ymfocyty B )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(IMUNITA bunková- lymfocyty T, Killer a dalsie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     </a:t>
            </a: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nocyt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čet 3-8%, objavujú sa pri chronickom zápale spolu s lymfocytmi, výrazne fagocytujú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Trombocyt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krvné doštičky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nepravidelný tvar s d = 2-4 um, bezjaderné bunky ,počet 150-400 x 10 3 /l , zivotnost cca 10 dní,  sú hlavne v krvi, ale aj v slezine. Granulá trombocytov obsahuju :Serotonin, ATP ,faktor zrážania č. IV, fibrinogén, faktor V - všetky potrebné pre zrážanie krvi.</a:t>
            </a:r>
            <a:br>
              <a:rPr sz="2000"/>
            </a:br>
            <a:br>
              <a:rPr sz="2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NÁ PLAZM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ekutá zložka krvi, množstvo asi 3,5l, Zloženie:90% vody a 10% látok ( bielkoviny+ iné organické látky+ plazmatické faktory zrážania krvi+ anorganické soli)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Bielkovi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60-80g/l)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bumíny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43 g/l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lfa1, alfa2, beta1, beta2, ,Gama globulí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16g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Fibrinogé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4g/l)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Osmolarita plazm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290 mosm/l</a:t>
            </a:r>
            <a:br>
              <a:rPr sz="2000"/>
            </a:b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Iné organické látk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ukóza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glykémia nalačno=3,5-6,4 mmol/l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, lipidy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ipémia= 5,7-8,2g/l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cholesterol  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celkový do 5,2 mmol/l),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bielkovinný dusí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azotémia- močovina(urea), kreatín, kreatiní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240" y="128520"/>
            <a:ext cx="8915400" cy="55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0" name="Picture 3" descr="F:\ OPAVA obr. Fyziol\koncentracia anorganickych sucasti plazmy.jpg"/>
          <p:cNvPicPr/>
          <p:nvPr/>
        </p:nvPicPr>
        <p:blipFill>
          <a:blip r:embed="rId1"/>
          <a:stretch/>
        </p:blipFill>
        <p:spPr>
          <a:xfrm>
            <a:off x="108000" y="117360"/>
            <a:ext cx="4140000" cy="547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 OPAVA obr. Fyziol\koncentracia organickych sucasti plazmy.jpg"/>
          <p:cNvPicPr/>
          <p:nvPr/>
        </p:nvPicPr>
        <p:blipFill>
          <a:blip r:embed="rId2"/>
          <a:stretch/>
        </p:blipFill>
        <p:spPr>
          <a:xfrm>
            <a:off x="4238640" y="130320"/>
            <a:ext cx="4896000" cy="5473440"/>
          </a:xfrm>
          <a:prstGeom prst="rect">
            <a:avLst/>
          </a:prstGeom>
          <a:ln w="0">
            <a:noFill/>
          </a:ln>
        </p:spPr>
      </p:pic>
      <p:sp>
        <p:nvSpPr>
          <p:cNvPr id="102" name="Obdĺžnik 1"/>
          <p:cNvSpPr/>
          <p:nvPr/>
        </p:nvSpPr>
        <p:spPr>
          <a:xfrm>
            <a:off x="2465280" y="5877000"/>
            <a:ext cx="455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ĺžnik 2"/>
          <p:cNvSpPr/>
          <p:nvPr/>
        </p:nvSpPr>
        <p:spPr>
          <a:xfrm>
            <a:off x="1351080" y="5614920"/>
            <a:ext cx="650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702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Hemostáza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astavenie krvácania):  do 3-4 min. ,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zostáva zo stiahnutia ciev, nahromadenia trombocytov, vznikom  bielej, provizórnej hemostatickej zátky.</a:t>
            </a:r>
            <a:br>
              <a:rPr sz="2000"/>
            </a:br>
            <a:r>
              <a:rPr b="1" lang="sk-SK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mokoagulácia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(zrážanie krvi</a:t>
            </a:r>
            <a:r>
              <a:rPr b="1" lang="sk-SK" sz="2800" spc="-1" strike="noStrike">
                <a:solidFill>
                  <a:srgbClr val="ffff00"/>
                </a:solidFill>
                <a:latin typeface="Arial"/>
                <a:ea typeface="Arial"/>
              </a:rPr>
              <a:t>) 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do 10 minút </a:t>
            </a:r>
            <a:r>
              <a:rPr b="1" i="1" lang="sk-SK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vitro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súbor reakcií,ktoré vedú ku premene rozpustného proteínu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lazmy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fibrinogén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(faktor č. I) na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nerozpustný fibr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iď. schéma zrážani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krvi  a fibrinolýza 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Michalský s. 62)</a:t>
            </a:r>
            <a:br>
              <a:rPr sz="20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Plazmatické faktory zrážania krvi</a:t>
            </a:r>
            <a:r>
              <a:rPr b="1" i="1" lang="sk-SK" sz="2400" spc="-1" strike="noStrike">
                <a:solidFill>
                  <a:srgbClr val="ffffcc"/>
                </a:solidFill>
                <a:latin typeface="Arial"/>
                <a:ea typeface="Arial"/>
              </a:rPr>
              <a:t>-</a:t>
            </a:r>
            <a:r>
              <a:rPr b="1" i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vznik v játrech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fibrinogé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tromb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II.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Tkanivový tromboplastín  ( jediný nie je z plazmy ,ale z poranených tkanív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I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Ca </a:t>
            </a:r>
            <a:r>
              <a:rPr b="1" lang="sk-SK" sz="20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2+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pro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kceler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Prokon-vertín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VIII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. Antihemifilický globulín ( ked chýba vznikne hemofí-lia  A ).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.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  <a:ea typeface="Arial"/>
              </a:rPr>
              <a:t>Christmas faktor (PTC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X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Stuart-Prowerovej faktor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Rosenthalov faktor (PTA- ked chýba vzniká hemofíla B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Hagemanov faktor-povrchový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XIII.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Fibrín-stabiiizujúci faktor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rážanie krvi-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NKAJŠÍ systém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kaskády: aktivuje sa pri poranení tkanív -sled reakcií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Ca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 f.III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zahajujú zrážanie, výsledkom je preme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.I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 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f IIa) Trombín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a tento zmen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 .I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ibrínové vlákn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ktoré spevnia  bielu provizórnu  hemostatickú zátku a vzniká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ekundárna zátka (červená)</a:t>
            </a:r>
            <a:br>
              <a:rPr sz="36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115560"/>
            <a:ext cx="8915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VNÚTORNÝ systém kaskády: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 X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a aktivuje stykom s kolagénom poškodených ciev, postupne sa aktivujú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,IX, VIII, X za vzniku tzv. Aktivátoru protrombínu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ktorý spolu s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a </a:t>
            </a:r>
            <a:r>
              <a:rPr b="1" lang="cs-CZ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2+,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I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rombin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.IIa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tento zmen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ibrinogén)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a Fibrín ( fibrinové vlákna) . Tieto su stabilizované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. XII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rážanie krvi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koagulácia) 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rozpúštanie zrazeniny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 fibrinolýza)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mocou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lazmínu ,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usia byť v rovnováhe. 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Protizrážavé látky: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itrát sodný, štavelan, heparín, kumarín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Picture 3" descr="F:\ OPAVA obr. Fyziol\schema koagulacie.jpg"/>
          <p:cNvPicPr/>
          <p:nvPr/>
        </p:nvPicPr>
        <p:blipFill>
          <a:blip r:embed="rId1"/>
          <a:stretch/>
        </p:blipFill>
        <p:spPr>
          <a:xfrm>
            <a:off x="449280" y="2320920"/>
            <a:ext cx="85694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Hematopoéza</a:t>
            </a:r>
            <a:r>
              <a:rPr b="1" lang="sk-SK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krv sa tvorí v kostnej dreni dlhých kosti ( novorode-.nec, dieta) a v plochých kostiach lebky a v stavcoch ( v dospelosti).</a:t>
            </a:r>
            <a:br>
              <a:rPr sz="2000"/>
            </a:br>
            <a:r>
              <a:rPr b="1" lang="sk-SK" sz="2000" spc="-1" strike="noStrike">
                <a:solidFill>
                  <a:srgbClr val="ffffcc"/>
                </a:solidFill>
                <a:latin typeface="Arial"/>
              </a:rPr>
              <a:t>Všetky bukové elementy krvi ( erytrocyty, leukocyty a trombocyty) vznikajú zo spoločnej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otipontentnej kmeňovej bunky.Z nej vznikajú unipotent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z nich postupne vyzrievaju 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cyty- erytropoé-za, leukocyty- leukopoéza, tronbocyty-trombopoéza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ebné prvky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Erytropoéz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Fe 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3+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potrebné na syntézu krvného farbiva-hemoglobínu, Aminokyseliny, Cu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+,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Kobalt ,Vitamin B12 ( kya-nokobalamin), kyselina listová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edosta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Anémia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Nadbyto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Polycytémia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Leukopoéza :,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yeloblasty: granulocyty a agranulocyty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Lymfocyty B- dozrievaju v kostnej dreni, reagujú s antigenmi za vzniku plazmatických buniek produkujúcich  špecifické protilátky ( imunoglo-bulíny).  Lymfocyty T v tymuse, su v lymf. uzlinách a v slezine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Trombopoé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rombocyty z megakaryoblastu a megakaryocytu.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Regulácia krvotvorby 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ormón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Erytr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 glomerula obliciek,-zvýšenie tvorby ERYS v kostnej dreni a vyplavenie do krv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. Hormóny nadobličiek, štítnej žlazy, rastový hormón 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zvýšenie tvorby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estosteró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,  estrogé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–pokles 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ranulopoetí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zvýšenie tvorby leukocytov ....a ďalsie početné látky.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3:12Z</dcterms:modified>
  <cp:revision>372</cp:revision>
  <dc:subject/>
  <dc:title>Úvod</dc:title>
</cp:coreProperties>
</file>