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8188-E69E-47B4-8197-826A25A8D0B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D07-6FC6-4F7E-8F86-E7E30E5AF80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ateriál společnosti Dale Carnegie Training® vám může pomoci při představování přednášejícího. Zkopírujte tento snímek, vložte jej na začátek prezentace přednášejícího a potom jej použijte na začátku prezentace při představování přednášejícího. Při vkládání snímku do prezentace přizpůsobí aplikace PowerPoint automaticky vzhled snímku vzhledu dané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ři představování přednášejícího nejdříve vysvětlete, proč je dané téma důležité a jaký je jeho přínos pro posluchače. Potom posluchače seznamte s kvalifikací přednášejícího pro téma přednášky. Na závěr přednášejícího představte. Snažte se u posluchačů vyvolat aktivní zájem o prezenta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Tento úvod by neměl trvat déle než jednu minutu. Po ukončení prezentace nezapomeňte přednášejícímu poděkovat. Uveďte konkrétní důvod, proč byla prezentace pro posluchače přínos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Zástupný symbol čísla snímky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9DE-328A-4A1D-B212-0E5B3A091CC2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9F6-0FE9-4765-B00A-DBD66ED6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1F2-2BE5-4423-8897-34E81229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FDDB-6E95-49EC-8811-3F73E334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7BC-3171-4394-AFA6-02455E7A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EFA2-6C35-4DC7-AB0D-20E5B599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A60D-3D44-4229-AC5D-13010D60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5707-9033-4774-B863-AC820F7C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B413-9B90-4056-986B-007EA5FC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FC31-A7E6-496D-994A-7AA18195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049F-878E-4582-81A1-FA032B8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9C74-9202-4505-981A-79666AF2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67D2-0D57-45A9-B8C8-BA726C01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DFF-388A-4CA9-B79C-1F266A05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43CC-2CBF-476F-A2C8-B0DD28C7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1E46-CED7-44CB-82B1-ACD6C820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1E98-ADB8-4B00-97C8-8D94E194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7E12-D891-4D2E-9F73-932018B8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0ABB-01AC-4D7E-84A6-4DFC264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9AE-98F8-4FCE-AC0B-C768668F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58A-E721-4FDF-B501-467204E5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EDD-2325-4407-8A29-FA03C061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540-9EF9-47C3-BEB7-D925DC2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724-22F2-4910-92A2-022301FE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5F97-8DB4-424E-901E-683CDAF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76F8-50E8-41E5-83ED-2495D8F1B7A4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1800" spc="-1" strike="noStrike">
                  <a:solidFill>
                    <a:srgbClr val="ffff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C50-EB41-400C-BF57-D9EAC6D121B9}" type="slidenum">
              <a:rPr b="0" lang="sk-SK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4464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00"/>
                </a:solidFill>
                <a:latin typeface="Arial"/>
              </a:rPr>
              <a:t>Exkrečné funkcie organizmu- fyziologie ledvin</a:t>
            </a:r>
            <a:br>
              <a:rPr sz="2800"/>
            </a:br>
            <a:br>
              <a:rPr sz="2800"/>
            </a:br>
            <a:r>
              <a:rPr b="1" lang="sk-SK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Ján Jakuš</a:t>
            </a:r>
            <a:br>
              <a:rPr sz="3600"/>
            </a:br>
            <a:br>
              <a:rPr sz="2800"/>
            </a:br>
            <a:br>
              <a:rPr sz="28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75438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00"/>
                </a:solidFill>
                <a:latin typeface="Arial"/>
              </a:rPr>
              <a:t>Ledvin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árový orgán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brušnej dutiny, 12x9,5 cm, dobre zásobované artériou a venou s prietokom krvi cca 1250 ml/sec. (cca 23% MV srd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Stavb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: Zákl. funkčná jednotka je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</a:rPr>
              <a:t>Nefron</a:t>
            </a:r>
            <a:r>
              <a:rPr b="1" lang="sk-SK" sz="2000" spc="-1" strike="noStrike" u="sng">
                <a:solidFill>
                  <a:srgbClr val="ffffff"/>
                </a:solidFill>
                <a:uFillTx/>
                <a:latin typeface="Arial"/>
              </a:rPr>
              <a:t>-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ôra a  dreň .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1.Kôra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GLOMERULY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( 1,5 mil) s filtračnou plochou cca 1,2 m</a:t>
            </a:r>
            <a:r>
              <a:rPr b="1" lang="sk-SK" sz="2000" spc="-1" strike="noStrike" baseline="30000">
                <a:solidFill>
                  <a:srgbClr val="ffffff"/>
                </a:solidFill>
                <a:latin typeface="Arial"/>
              </a:rPr>
              <a:t>2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a priemerom 300 um</a:t>
            </a:r>
            <a:r>
              <a:rPr b="1" lang="sk-SK" sz="2000" spc="-1" strike="noStrike" u="sng" baseline="30000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2. Dreň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bsahuje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Tubuly</a:t>
            </a:r>
            <a:r>
              <a:rPr b="1" lang="sk-SK" sz="20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(Proximálny, Henleho klučku a Distáln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Činnosť ledvin: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Filtrácia krvi a tvorba primárneho moča  v glomeruloch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Rezorbcia vody, solí a látok v tubulo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Aktívna sekrécia láto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(vid obr.s.107-110 Michalský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F:\ OPAVA obr. Fyziol\schema lokalizacie nadobliciek.jpg"/>
          <p:cNvPicPr/>
          <p:nvPr/>
        </p:nvPicPr>
        <p:blipFill>
          <a:blip r:embed="rId1"/>
          <a:stretch/>
        </p:blipFill>
        <p:spPr>
          <a:xfrm>
            <a:off x="5219640" y="4008600"/>
            <a:ext cx="363852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F:\ OPAVA obr. Fyziol\nefron.jpg"/>
          <p:cNvPicPr/>
          <p:nvPr/>
        </p:nvPicPr>
        <p:blipFill>
          <a:blip r:embed="rId2"/>
          <a:stretch/>
        </p:blipFill>
        <p:spPr>
          <a:xfrm>
            <a:off x="936720" y="4005360"/>
            <a:ext cx="3902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</a:t>
            </a:r>
            <a:br>
              <a:rPr sz="24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Tvorba moča</a:t>
            </a:r>
            <a:br>
              <a:rPr sz="20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1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lomerul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Moč primárny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–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tvorí sa ultrafiltráciou (rýchlosť GF= 120 ml/min.)  z krvi glomerulárnych kapilár do Bowmanovho puzdra, 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80 l /24 hod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. (Efektívny filtračný tlak= 11 torr,  Stredný artériový tlak= 50 torr.)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bsahuje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, Tkan.mok, Glukózu, AK, Kreatinin, Močovinu (bez bielkovín, a krvných buniek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926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2.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rimárny tubulus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Pasívna rezorbcia (až 75% z ultrafiltátu):  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+ Na,+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Močovina, Bikarbonáty,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fosfáty. Do zost. časti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3.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enleho </a:t>
            </a:r>
            <a:r>
              <a:rPr b="1" lang="sk-SK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klučky (HK)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prichádza izotonická tekutina, tu sa rezorbuje daľšia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.Vo vzost .časti Henle-ho klučky sa rezorbujú  Cl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oč je izotonická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edze HK a Zberné kanaliky sú v DRENI, ktor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je hypertonická pracuje tu tzv.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rotiprúdový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ultiplikačný systém,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úcinkom ktorého sa dalej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zahusťuj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4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Distálny tubulus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: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plyvom hormónov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eron a Antidiuretického hormonu (AD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dochádza k sekrécii Kys. močovej, H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N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,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do tubulu a k 5% rezorbcii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1" lang="sk-SK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. Zberné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análiky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: vstrebávanie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0 definitívn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Moč je sterilný a izotonick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ká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F:\ OPAVA obr. Fyziol\schema tubulov - zmeny osmolality mocu ....jpg"/>
          <p:cNvPicPr/>
          <p:nvPr/>
        </p:nvPicPr>
        <p:blipFill>
          <a:blip r:embed="rId1"/>
          <a:stretch/>
        </p:blipFill>
        <p:spPr>
          <a:xfrm>
            <a:off x="5580000" y="3254400"/>
            <a:ext cx="36352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856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Definitívny moč </a:t>
            </a:r>
            <a:r>
              <a:rPr b="1" lang="sk-SK" sz="2000" spc="-1" strike="noStrike">
                <a:solidFill>
                  <a:srgbClr val="eaeaea"/>
                </a:solidFill>
                <a:latin typeface="Arial"/>
                <a:ea typeface="Arial"/>
              </a:rPr>
              <a:t>- 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v množstve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1,5-2,0 l/ 24 hod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. nazltlej farby (urobilinogén) s ph 5,5,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ledvinných panvicek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s objemom 5ml, ktoré smerujú moč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odu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( ureter). Uretery sú svalové trubice s dlžkou  35 cm a priemerom cca 7 mm, Transport moča je aktívny dej s rýchlisťou 1-6 cm/sec,  a moč v podobe „močového vretienka odteká do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ého mechúra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a z neho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. cestami (uretra -  cm u ženy a 15 cm u muža) von z tela</a:t>
            </a:r>
            <a:br>
              <a:rPr sz="1800"/>
            </a:b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Močový mechúr- </a:t>
            </a:r>
            <a:r>
              <a:rPr b="1" lang="sk-SK" sz="1800" spc="-1" strike="noStrike">
                <a:solidFill>
                  <a:srgbClr val="eaeaea"/>
                </a:solidFill>
                <a:latin typeface="Arial"/>
                <a:ea typeface="Arial"/>
              </a:rPr>
              <a:t>tvorený zo zvazkov hladkej svaloviny so zvieracmi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844640"/>
            <a:ext cx="9036000" cy="501336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Funkcie ledvin: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Vylucovanie kyslých katabolito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objemu ECT vody v tele, (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Aldost. ADH, Angiotenzin II,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Regulácia AB rovnováh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  <a:ea typeface="Arial"/>
              </a:rPr>
              <a:t>Regulácia tvorby moč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Poly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nad 2l/den,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olig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200-600 ml/den,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anúria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- 0-200ml/d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glomer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Angiotenzín II 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znika z Reninu tvoreného v oblasti glomerula ledvin) nasledkom je vasokonstrikcia co vedie ku zvýšeniu filtračného tlaku v glomerule ( norma je 55 mmHg) a ku zvýšeniu GF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plyv na tubuly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:  Aldosteron-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mineralkortikoid z kory nadobličiek, vedie ku rezorbcii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a sekrécii K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DH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Vasopresin, Antidiuretický hormon)-  hormon neurohypofýzy, zvyšuje rezorbciu H</a:t>
            </a:r>
            <a:r>
              <a:rPr b="1" lang="sk-SK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O  v dist tubuloch a zberných kanalikoch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ANP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( Atriálny nátriuretický peptid)-vzniká v predsienach srd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vedie ku vylucovaniu N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  a ku poklesu T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          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  <a:ea typeface="Arial"/>
              </a:rPr>
              <a:t>Endoteliny a Kalikrein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  <a:ea typeface="Arial"/>
              </a:rPr>
              <a:t>– vyzokonstrikcia a vazodilatacia arteriol glomerul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67564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arathormón</a:t>
            </a: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hormón z prištítnych telies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k štítnej žlazy Udrzuje hladin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na 2,25-2,75 mmol/l, robí zpatnu rezorbciu Ca</a:t>
            </a:r>
            <a:r>
              <a:rPr b="1" lang="sk-SK" sz="1800" spc="-1" strike="noStrike" baseline="30000">
                <a:solidFill>
                  <a:srgbClr val="ffffff"/>
                </a:solidFill>
                <a:latin typeface="Arial"/>
              </a:rPr>
              <a:t>2+ 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v ledvinách a zvysuje vylučovanie fosfátov</a:t>
            </a:r>
            <a:br>
              <a:rPr sz="1800"/>
            </a:br>
            <a:r>
              <a:rPr b="1" lang="sk-SK" sz="2000" spc="-1" strike="noStrike">
                <a:solidFill>
                  <a:srgbClr val="ffff00"/>
                </a:solidFill>
                <a:latin typeface="Arial"/>
              </a:rPr>
              <a:t>Prostaglandín PGl2 – </a:t>
            </a: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vaz</a:t>
            </a: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odilatacia ciev a prekrvenie ledvin</a:t>
            </a:r>
            <a:br>
              <a:rPr sz="1800"/>
            </a:br>
            <a:br>
              <a:rPr sz="1800"/>
            </a:br>
            <a:r>
              <a:rPr b="1" lang="sk-SK" sz="1800" spc="-1" strike="noStrike">
                <a:solidFill>
                  <a:srgbClr val="ffffff"/>
                </a:solidFill>
                <a:latin typeface="Arial"/>
              </a:rPr>
              <a:t>( pozri aj Michalský s. 106-1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06720" y="1628640"/>
            <a:ext cx="9450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ahoma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47592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900" spc="-1" strike="noStrike">
                <a:solidFill>
                  <a:srgbClr val="ffff00"/>
                </a:solidFill>
                <a:latin typeface="Verdana"/>
              </a:rPr>
              <a:t>                         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Prajem Vám  pekný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1" lang="sk-SK" sz="3200" spc="-1" strike="noStrike">
                <a:solidFill>
                  <a:srgbClr val="ffff00"/>
                </a:solidFill>
                <a:latin typeface="Arial Black"/>
              </a:rPr>
              <a:t>a  úspešný  deň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164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800" spc="-1" strike="noStrike">
                <a:solidFill>
                  <a:srgbClr val="ffff00"/>
                </a:solidFill>
                <a:latin typeface="Rockwell Extra Bold"/>
              </a:rPr>
              <a:t>      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1:04:02Z</dcterms:created>
  <dc:creator>Jakus</dc:creator>
  <dc:description/>
  <dc:language>en-US</dc:language>
  <cp:lastModifiedBy>Veronika Slováček Hagenová</cp:lastModifiedBy>
  <dcterms:modified xsi:type="dcterms:W3CDTF">2021-03-04T08:44:22Z</dcterms:modified>
  <cp:revision>727</cp:revision>
  <dc:subject/>
  <dc:title>Úvod</dc:title>
</cp:coreProperties>
</file>