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436E9-3C6B-49D3-A8EB-2382B5F54CA9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734D3-904B-4DD5-8EC6-47307E00DB79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C8264-90F8-4AF9-B840-A1C87FCA9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CD4EE-DB7A-4789-8095-AC3C876CA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E5EDF-CB7F-4149-AFCF-3D37A58D0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BC8AC-ABD8-4CC0-9EE3-DDDC7217F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2B710-6BD7-4D83-AEB5-E3445E7AE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388AB-052F-4F16-940A-A272F4A07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6841A-8353-4211-8210-8FC8CEE85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DD982-44CB-4509-890A-AFC6314C3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00D85-5995-4F25-86AE-AAC067595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DA711-5D8E-483A-B843-417570027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900AF-990F-45CA-8C25-627FCC641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66F79-1967-4B74-AD6A-30E741B3E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A020E-51D1-4B7E-B709-64C2643CA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84420-9BFC-44EA-8E19-26053BDB6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FEE24-F059-4D9C-BE38-4FE5F7853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F61FA-9EA0-4579-BABC-9A7C5E645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6CAAF-62D7-46CC-AF26-DF6119C3A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F8E2E-F443-4795-AB54-5FB277A03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0861A-CC45-49CD-A513-AB49801C5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4F3F3-F31E-4543-AC0D-C1FF8259D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4FF4B-8D2B-42D9-95E5-63A8F673F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055C0-724F-4A22-91CF-D00AEE665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31BB8-3C34-43B7-A4EC-1A4E1C236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CF93D-EFD5-4F62-B6FD-FA111032B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654F5-98C6-4EB0-8D4B-9A18BCBD893B}" type="slidenum">
              <a:rPr b="0" lang="sk-SK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1" lang="en-US" sz="1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83598-329B-4183-AD0B-F9CDD4201F58}" type="slidenum">
              <a:rPr b="0" lang="sk-SK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1" lang="en-US" sz="1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1844640"/>
            <a:ext cx="9144000" cy="345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Funkcie gastrointestinálneho traktu</a:t>
            </a:r>
            <a:br>
              <a:rPr sz="2800"/>
            </a:br>
            <a:br>
              <a:rPr sz="2800"/>
            </a:br>
            <a:r>
              <a:rPr b="1" lang="sk-SK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Ján Jakuš</a:t>
            </a:r>
            <a:br>
              <a:rPr sz="3600"/>
            </a:br>
            <a:br>
              <a:rPr sz="2800"/>
            </a:br>
            <a:br>
              <a:rPr sz="2800"/>
            </a:b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15640" y="333000"/>
            <a:ext cx="7543800" cy="35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Tráviaci trakt morfológia a funkcie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24000" y="836640"/>
            <a:ext cx="882000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ff00"/>
                </a:solidFill>
                <a:latin typeface="Arial"/>
              </a:rPr>
              <a:t>Tráviaca trubica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: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Dutina ústna,Hltan, Jazyk, Zuby,Jícen, Žalúdok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Dvanástnik,Tenké črevo, Hrubé črevo, rektum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ff00"/>
                </a:solidFill>
                <a:latin typeface="Arial"/>
              </a:rPr>
              <a:t>Prídatné orgány trávenia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: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slinné žlazy(3 páry), játra, žlčník,slinivka brušná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ff00"/>
                </a:solidFill>
                <a:latin typeface="Arial"/>
              </a:rPr>
              <a:t>Stavba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: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sliznica, podslizničná vrstva,hladká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svalovina, pobrušnica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svalovina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(vid obr.s.91 Michalský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ff00"/>
                </a:solidFill>
                <a:latin typeface="Arial"/>
              </a:rPr>
              <a:t>Funkcie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Príjem potrav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Spracovanie potrav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Vstrebávanie živín z potrav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Premena vstrebaných živí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Skladovanie metabolitov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Vylučovanie odpadových látok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9" name="Picture 4" descr="F:\ OPAVA obr. Fyziol\transport potravy v gastrointestinalnom systeme.jpg"/>
          <p:cNvPicPr/>
          <p:nvPr/>
        </p:nvPicPr>
        <p:blipFill>
          <a:blip r:embed="rId1"/>
          <a:stretch/>
        </p:blipFill>
        <p:spPr>
          <a:xfrm>
            <a:off x="5940360" y="2637000"/>
            <a:ext cx="324000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867564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000" spc="-1" strike="noStrike">
                <a:solidFill>
                  <a:srgbClr val="eaeaea"/>
                </a:solidFill>
                <a:latin typeface="Tahoma"/>
              </a:rPr>
              <a:t>     </a:t>
            </a:r>
            <a:br>
              <a:rPr sz="4000"/>
            </a:br>
            <a:r>
              <a:rPr b="1" lang="sk-SK" sz="20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Dutina ústna-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Arial"/>
              </a:rPr>
              <a:t>umožňuje  príjem potravy, jej odhryznutie a rozdrobenie pomocou zubov, premiešavanie jazykom so slinami (hlen-mucín), chemické  trávenie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škrobu: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slinnou alfa – amylázou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Arial"/>
              </a:rPr>
              <a:t> a kontrolu fyzikálnych a chemických vlastností ( chuťové receptory jazyka)  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Množstvo slín: 2l/deň , pH= 6-7    </a:t>
            </a:r>
            <a:endParaRPr b="1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37760" y="1700280"/>
            <a:ext cx="867564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Polykací reflex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: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Arial"/>
              </a:rPr>
              <a:t>podráždením korena jazyka je sústo potravy  zatlačené do jícnu a pohybom priecnej aj pozdĺžnej svaloviny jícnu sa dostane do žalúdka.Centrum reflexu-predlžená miecha, n. IX a X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(Žvýkací reflex, sací reflex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A.Žalúdok</a:t>
            </a:r>
            <a:r>
              <a:rPr b="1" lang="sk-SK" sz="20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–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Arial"/>
              </a:rPr>
              <a:t>obsah 1,5-2 l ,časti :kardia, fundus , pylorus - skladovanie, peristaltické pohyby, mechanické premiešavanie a chemické trávenie potravy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žal. šťavou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Arial"/>
              </a:rPr>
              <a:t>(2-3l/deň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Funkcie žal.šťavy: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HCl, denaturuje bielkoviny,ničí baktéri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mení Fe </a:t>
            </a:r>
            <a:r>
              <a:rPr b="1" lang="sk-SK" sz="2000" spc="-1" strike="noStrike" baseline="30000">
                <a:solidFill>
                  <a:srgbClr val="ffff00"/>
                </a:solidFill>
                <a:latin typeface="Arial"/>
                <a:ea typeface="Arial"/>
              </a:rPr>
              <a:t>3+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na Fe</a:t>
            </a:r>
            <a:r>
              <a:rPr b="1" lang="sk-SK" sz="2000" spc="-1" strike="noStrike" baseline="30000">
                <a:solidFill>
                  <a:srgbClr val="ffff00"/>
                </a:solidFill>
                <a:latin typeface="Arial"/>
                <a:ea typeface="Arial"/>
              </a:rPr>
              <a:t>2+ 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 viaže Ca</a:t>
            </a:r>
            <a:r>
              <a:rPr b="1" lang="sk-SK" sz="2000" spc="-1" strike="noStrike" baseline="30000">
                <a:solidFill>
                  <a:srgbClr val="ffff00"/>
                </a:solidFill>
                <a:latin typeface="Arial"/>
                <a:ea typeface="Arial"/>
              </a:rPr>
              <a:t>2+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ako CaCl</a:t>
            </a:r>
            <a:r>
              <a:rPr b="1" lang="sk-SK" sz="2000" spc="-1" strike="noStrike" baseline="-25000">
                <a:solidFill>
                  <a:srgbClr val="ffff00"/>
                </a:solidFill>
                <a:latin typeface="Arial"/>
                <a:ea typeface="Arial"/>
              </a:rPr>
              <a:t>2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 ,aktivuje Pepsino-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gen na Pepsín ( tento rozkladá  biekoviny na peptidy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Vyprázdňovanie žalúdka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–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Arial"/>
              </a:rPr>
              <a:t>tzv.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Pylorickou pumpou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Arial"/>
              </a:rPr>
              <a:t>, vylučovanie natráveniny ( chymusu) do dvanástnika </a:t>
            </a:r>
            <a:r>
              <a:rPr b="1" lang="sk-SK" sz="20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Enterogastrickým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reflexom </a:t>
            </a:r>
            <a:r>
              <a:rPr b="1" lang="sk-SK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(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Arial"/>
              </a:rPr>
              <a:t>pylorus sa nakrátko uzavrie ,ked sa chymus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Arial"/>
              </a:rPr>
              <a:t>dostane do dvanástnika a posunie do jejuna.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2" name="Picture 5" descr="F:\ OPAVA obr. Fyziol\absorpcia zeleza prijateho v potrave.jpg"/>
          <p:cNvPicPr/>
          <p:nvPr/>
        </p:nvPicPr>
        <p:blipFill>
          <a:blip r:embed="rId1"/>
          <a:stretch/>
        </p:blipFill>
        <p:spPr>
          <a:xfrm>
            <a:off x="7524720" y="3716280"/>
            <a:ext cx="170676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404640"/>
            <a:ext cx="9144000" cy="60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     </a:t>
            </a:r>
            <a:br>
              <a:rPr sz="3600"/>
            </a:br>
            <a:br>
              <a:rPr sz="2400"/>
            </a:br>
            <a:r>
              <a:rPr b="1" lang="sk-SK" sz="24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1" lang="sk-SK" sz="2400" spc="-1" strike="noStrike" u="sng">
                <a:solidFill>
                  <a:srgbClr val="ffff00"/>
                </a:solidFill>
                <a:uFillTx/>
                <a:latin typeface="Arial"/>
              </a:rPr>
              <a:t>Duodenum (dvanástnik)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-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je na začiatku tenkého čreva,pokračzje 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jejunom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 a konči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ileom.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Do duodena v mieste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Vaterskej papily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( 4) sa vlieva žlč cez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ductus choledochus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(5) a pankreatická štava  cez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ductus pancrea-</a:t>
            </a:r>
            <a:br>
              <a:rPr sz="2000"/>
            </a:b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ticus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 (6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). </a:t>
            </a:r>
            <a:r>
              <a:rPr b="1" lang="sk-SK" sz="2000" spc="-1" strike="noStrike" u="sng">
                <a:solidFill>
                  <a:srgbClr val="ffff00"/>
                </a:solidFill>
                <a:uFillTx/>
                <a:latin typeface="Arial"/>
              </a:rPr>
              <a:t> I.  Žlč</a:t>
            </a:r>
            <a:r>
              <a:rPr b="1" lang="sk-SK" sz="2000" spc="-1" strike="noStrike" u="sng">
                <a:solidFill>
                  <a:srgbClr val="ffffff"/>
                </a:solidFill>
                <a:uFillTx/>
                <a:latin typeface="Arial"/>
              </a:rPr>
              <a:t>-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tvori sa v  jatrech  0.8-1 l/den, žlutohnedej farby  usklad-ňuje v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žlčníku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 (7), obsahuje: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žlčové kyseliny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 (cholová, deoxycholová), vyzrážajú tuky v (emulgácia).</a:t>
            </a:r>
            <a:br>
              <a:rPr sz="2000"/>
            </a:br>
            <a:endParaRPr b="1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-324360" y="1773000"/>
            <a:ext cx="9450360" cy="52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ahoma"/>
              </a:rPr>
              <a:t>                                            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Tahoma"/>
              </a:rPr>
              <a:t>2) Bilirubín </a:t>
            </a:r>
            <a:r>
              <a:rPr b="0" lang="sk-SK" sz="2000" spc="-1" strike="noStrike">
                <a:solidFill>
                  <a:srgbClr val="ffffff"/>
                </a:solidFill>
                <a:latin typeface="Arial"/>
                <a:ea typeface="Tahoma"/>
              </a:rPr>
              <a:t>(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Tahoma"/>
              </a:rPr>
              <a:t>produkt žltej farby  z rozpadu Hemoglobínu) ak sa dostane do krvi vzniká</a:t>
            </a:r>
            <a:r>
              <a:rPr b="0" lang="sk-SK" sz="2000" spc="-1" strike="noStrike">
                <a:solidFill>
                  <a:srgbClr val="ffffff"/>
                </a:solidFill>
                <a:latin typeface="Arial"/>
                <a:ea typeface="Tahoma"/>
              </a:rPr>
              <a:t>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Tahoma"/>
              </a:rPr>
              <a:t>Icteru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Tahoma"/>
              </a:rPr>
              <a:t>                                                     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Tahoma"/>
              </a:rPr>
              <a:t>3) Bikarbonát, voda, ióny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Tahoma"/>
              </a:rPr>
              <a:t>(pH=8,5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Tahoma"/>
              </a:rPr>
              <a:t>                     </a:t>
            </a:r>
            <a:r>
              <a:rPr b="1" lang="sk-SK" sz="2000" spc="-1" strike="noStrike" u="sng">
                <a:solidFill>
                  <a:srgbClr val="ffff00"/>
                </a:solidFill>
                <a:uFillTx/>
                <a:latin typeface="Arial"/>
                <a:ea typeface="Tahoma"/>
              </a:rPr>
              <a:t>II. Pankreatická štava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Tahoma"/>
              </a:rPr>
              <a:t>: 1-2 l/den, bezfarebná,pH =8,2), obsahuje: </a:t>
            </a:r>
            <a:r>
              <a:rPr b="1" lang="sk-SK" sz="2000" spc="-1" strike="noStrike" u="sng">
                <a:solidFill>
                  <a:srgbClr val="ffff00"/>
                </a:solidFill>
                <a:uFillTx/>
                <a:latin typeface="Arial"/>
                <a:ea typeface="Tahoma"/>
              </a:rPr>
              <a:t>I.Proteolytické enzýmy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Tahoma"/>
              </a:rPr>
              <a:t>( trypsinogén→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Tahoma"/>
              </a:rPr>
              <a:t>trypsín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Tahoma"/>
              </a:rPr>
              <a:t>, chymotrypsinogén→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Tahoma"/>
              </a:rPr>
              <a:t>chy-motrypsin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Tahoma"/>
              </a:rPr>
              <a:t>),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Tahoma"/>
              </a:rPr>
              <a:t>karboxipeptidáz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Tahoma"/>
              </a:rPr>
              <a:t>a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Tahoma"/>
              </a:rPr>
              <a:t>    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Tahoma"/>
              </a:rPr>
              <a:t>elastáza-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Tahoma"/>
              </a:rPr>
              <a:t>všetky štiepia bielkoviny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Tahoma"/>
              </a:rPr>
              <a:t>    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Tahoma"/>
              </a:rPr>
              <a:t>a peptidy na aminokyselin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Tahoma"/>
              </a:rPr>
              <a:t>    </a:t>
            </a:r>
            <a:r>
              <a:rPr b="1" lang="sk-SK" sz="2000" spc="-1" strike="noStrike" u="sng">
                <a:solidFill>
                  <a:srgbClr val="ffff00"/>
                </a:solidFill>
                <a:uFillTx/>
                <a:latin typeface="Arial"/>
                <a:ea typeface="Tahoma"/>
              </a:rPr>
              <a:t>II</a:t>
            </a:r>
            <a:r>
              <a:rPr b="1" lang="sk-SK" sz="2000" spc="-1" strike="noStrike" u="sng">
                <a:solidFill>
                  <a:srgbClr val="ffffff"/>
                </a:solidFill>
                <a:uFillTx/>
                <a:latin typeface="Arial"/>
                <a:ea typeface="Tahoma"/>
              </a:rPr>
              <a:t>.</a:t>
            </a:r>
            <a:r>
              <a:rPr b="1" lang="sk-SK" sz="2000" spc="-1" strike="noStrike" u="sng">
                <a:solidFill>
                  <a:srgbClr val="ffff00"/>
                </a:solidFill>
                <a:uFillTx/>
                <a:latin typeface="Arial"/>
                <a:ea typeface="Tahoma"/>
              </a:rPr>
              <a:t>Alfa amyláza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Tahoma"/>
              </a:rPr>
              <a:t>-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Tahoma"/>
              </a:rPr>
              <a:t>štiepi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Tahoma"/>
              </a:rPr>
              <a:t>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Tahoma"/>
              </a:rPr>
              <a:t>škrob n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Tahoma"/>
              </a:rPr>
              <a:t>   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Tahoma"/>
              </a:rPr>
              <a:t>glykogé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Tahoma"/>
              </a:rPr>
              <a:t>   </a:t>
            </a:r>
            <a:r>
              <a:rPr b="1" lang="sk-SK" sz="2000" spc="-1" strike="noStrike" u="sng">
                <a:solidFill>
                  <a:srgbClr val="ffff00"/>
                </a:solidFill>
                <a:uFillTx/>
                <a:latin typeface="Arial"/>
                <a:ea typeface="Tahoma"/>
              </a:rPr>
              <a:t> </a:t>
            </a:r>
            <a:r>
              <a:rPr b="1" lang="sk-SK" sz="2000" spc="-1" strike="noStrike" u="sng">
                <a:solidFill>
                  <a:srgbClr val="ffff00"/>
                </a:solidFill>
                <a:uFillTx/>
                <a:latin typeface="Arial"/>
                <a:ea typeface="Tahoma"/>
              </a:rPr>
              <a:t>III. Pankreatická lipáza-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Tahoma"/>
              </a:rPr>
              <a:t>štiepi tuky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Tahoma"/>
              </a:rPr>
              <a:t>    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Tahoma"/>
              </a:rPr>
              <a:t>na glycerol + Mastné kyseli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Tahoma"/>
              </a:rPr>
              <a:t>   </a:t>
            </a:r>
            <a:r>
              <a:rPr b="1" lang="sk-SK" sz="2000" spc="-1" strike="noStrike" u="sng">
                <a:solidFill>
                  <a:srgbClr val="ffff00"/>
                </a:solidFill>
                <a:uFillTx/>
                <a:latin typeface="Arial"/>
                <a:ea typeface="Tahoma"/>
              </a:rPr>
              <a:t>IV. DNK-áza a RNA-áza 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Tahoma"/>
              </a:rPr>
              <a:t>-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Tahoma"/>
              </a:rPr>
              <a:t>štiepia NK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Tahoma"/>
              </a:rPr>
              <a:t>   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Tahoma"/>
              </a:rPr>
              <a:t>+ hlien, alkalická fosfatáza, bikarbo-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Tahoma"/>
              </a:rPr>
              <a:t>   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Tahoma"/>
              </a:rPr>
              <a:t>nát etc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5" name="Picture 4" descr="F:\ OPAVA obr. Fyziol\pankreas, duodenum a zlcove cesty.jpg"/>
          <p:cNvPicPr/>
          <p:nvPr/>
        </p:nvPicPr>
        <p:blipFill>
          <a:blip r:embed="rId1"/>
          <a:stretch/>
        </p:blipFill>
        <p:spPr>
          <a:xfrm>
            <a:off x="4356000" y="3357720"/>
            <a:ext cx="478800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964720" cy="102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sk-SK" sz="2400" spc="-1" strike="noStrike" u="sng">
                <a:solidFill>
                  <a:srgbClr val="ffff00"/>
                </a:solidFill>
                <a:uFillTx/>
                <a:latin typeface="Arial"/>
              </a:rPr>
              <a:t>C.</a:t>
            </a:r>
            <a:r>
              <a:rPr b="1" lang="sk-SK" sz="2400" spc="-1" strike="noStrike" u="sng">
                <a:solidFill>
                  <a:srgbClr val="ffff00"/>
                </a:solidFill>
                <a:uFillTx/>
                <a:latin typeface="Arial"/>
              </a:rPr>
              <a:t>Tenké črevo (duodenum,jejunum,ileum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) - klky obsahujú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črevné bunky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(enterocyty), ktoré tvoria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črevnú šťavu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(3l/den, pH =8) s obsahom enzýmov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: peptidázy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(štiepia peptidy na AK) ,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sacharázy, maltázy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 (štiepia oligo- na monosacharidy),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črevnú lipázu. </a:t>
            </a:r>
            <a:br>
              <a:rPr sz="2000"/>
            </a:b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Rezorbcia: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cukrov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,( v duodene a jejune),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 tukov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(v jejune),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bielkovín , AK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vody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( v ileu a v hrubom čreve) , minerálov a vitamínov.- rezorbované látky  idú do jater na resyntézu  a vznik stavebných látok)</a:t>
            </a:r>
            <a:br>
              <a:rPr sz="2000"/>
            </a:b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Pohyby čreva: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premiešavajú  a posúvajú tekutý chýmus . Sú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miestne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 (tam a spat) a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peristaltické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 pohyby ( asi 12/min dopredu ku hrubému črevu) .</a:t>
            </a:r>
            <a:br>
              <a:rPr sz="2000"/>
            </a:b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k-SK" sz="2000" spc="-1" strike="noStrike" u="sng">
                <a:solidFill>
                  <a:srgbClr val="ffff00"/>
                </a:solidFill>
                <a:uFillTx/>
                <a:latin typeface="Arial"/>
              </a:rPr>
              <a:t>Aktivácia sympatikovej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časti vegetatívneho NS ( a podanie mediátorov 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adrenalínu a noradrenalínu) </a:t>
            </a:r>
            <a:r>
              <a:rPr b="1" i="1" lang="sk-SK" sz="2000" spc="-1" strike="noStrike">
                <a:solidFill>
                  <a:srgbClr val="ffffff"/>
                </a:solidFill>
                <a:latin typeface="Arial"/>
              </a:rPr>
              <a:t>spomaľujú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 pohyby čreva . </a:t>
            </a:r>
            <a:r>
              <a:rPr b="1" lang="sk-SK" sz="2000" spc="-1" strike="noStrike" u="sng">
                <a:solidFill>
                  <a:srgbClr val="ffff00"/>
                </a:solidFill>
                <a:uFillTx/>
                <a:latin typeface="Arial"/>
              </a:rPr>
              <a:t>Aktivácia parasympatikovej čast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i VNS, </a:t>
            </a:r>
            <a:br>
              <a:rPr sz="2000"/>
            </a:b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a podanie mediátora Acetylcholínu) </a:t>
            </a:r>
            <a:br>
              <a:rPr sz="2000"/>
            </a:br>
            <a:r>
              <a:rPr b="1" i="1" lang="sk-SK" sz="2000" spc="-1" strike="noStrike">
                <a:solidFill>
                  <a:srgbClr val="ffffff"/>
                </a:solidFill>
                <a:latin typeface="Arial"/>
              </a:rPr>
              <a:t>zrýchľujú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pohyby čreva.</a:t>
            </a:r>
            <a:br>
              <a:rPr sz="2000"/>
            </a:br>
            <a:r>
              <a:rPr b="1" lang="sk-SK" sz="2200" spc="-1" strike="noStrike" u="sng">
                <a:solidFill>
                  <a:srgbClr val="ffff00"/>
                </a:solidFill>
                <a:uFillTx/>
                <a:latin typeface="Arial"/>
              </a:rPr>
              <a:t>D. Hrubé črevo ( colon</a:t>
            </a:r>
            <a:br>
              <a:rPr sz="2200"/>
            </a:br>
            <a:r>
              <a:rPr b="1" lang="sk-SK" sz="22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reservoar stolice</a:t>
            </a:r>
            <a:br>
              <a:rPr sz="2000"/>
            </a:b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- rezorbcia </a:t>
            </a:r>
            <a:r>
              <a:rPr b="1" lang="sk-SK" sz="2200" spc="-1" strike="noStrike">
                <a:solidFill>
                  <a:srgbClr val="ffffff"/>
                </a:solidFill>
                <a:latin typeface="Arial"/>
              </a:rPr>
              <a:t>vody</a:t>
            </a:r>
            <a:br>
              <a:rPr sz="2200"/>
            </a:br>
            <a:r>
              <a:rPr b="1" lang="sk-SK" sz="2200" spc="-1" strike="noStrike">
                <a:solidFill>
                  <a:srgbClr val="ffff00"/>
                </a:solidFill>
                <a:latin typeface="Arial"/>
              </a:rPr>
              <a:t>E. Rektum- </a:t>
            </a:r>
            <a:r>
              <a:rPr b="1" i="1" lang="sk-SK" sz="2200" spc="-1" strike="noStrike">
                <a:solidFill>
                  <a:srgbClr val="ffffff"/>
                </a:solidFill>
                <a:latin typeface="Arial"/>
              </a:rPr>
              <a:t>defekačný reflex</a:t>
            </a:r>
            <a:br>
              <a:rPr sz="2200"/>
            </a:br>
            <a:r>
              <a:rPr b="1" lang="sk-SK" sz="2200" spc="-1" strike="noStrike">
                <a:solidFill>
                  <a:srgbClr val="ffff00"/>
                </a:solidFill>
                <a:latin typeface="Arial"/>
              </a:rPr>
              <a:t>Funkce jater- </a:t>
            </a:r>
            <a:r>
              <a:rPr b="1" i="1" lang="sk-SK" sz="2200" spc="-1" strike="noStrike">
                <a:solidFill>
                  <a:srgbClr val="ffffff"/>
                </a:solidFill>
                <a:latin typeface="Arial"/>
              </a:rPr>
              <a:t>pozri Michalský </a:t>
            </a:r>
            <a:br>
              <a:rPr sz="2200"/>
            </a:br>
            <a:r>
              <a:rPr b="1" i="1" lang="sk-SK" sz="2200" spc="-1" strike="noStrike">
                <a:solidFill>
                  <a:srgbClr val="ffffff"/>
                </a:solidFill>
                <a:latin typeface="Arial"/>
              </a:rPr>
              <a:t>s. 97.</a:t>
            </a:r>
            <a:endParaRPr b="1" lang="en-US" sz="22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27" name="Picture 4" descr="F:\ OPAVA obr. Fyziol\crevny klk - funkcna organizacia.jpg"/>
          <p:cNvPicPr/>
          <p:nvPr/>
        </p:nvPicPr>
        <p:blipFill>
          <a:blip r:embed="rId1"/>
          <a:stretch/>
        </p:blipFill>
        <p:spPr>
          <a:xfrm>
            <a:off x="4529160" y="3789360"/>
            <a:ext cx="4595760" cy="28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1066320" y="475920"/>
            <a:ext cx="7543800" cy="12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8000"/>
          </a:bodyPr>
          <a:p>
            <a:pPr marL="1645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900" spc="-1" strike="noStrike">
                <a:solidFill>
                  <a:srgbClr val="ffff00"/>
                </a:solidFill>
                <a:latin typeface="Verdana"/>
              </a:rPr>
              <a:t>                </a:t>
            </a: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marL="164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900" spc="-1" strike="noStrike">
                <a:solidFill>
                  <a:srgbClr val="ffff00"/>
                </a:solidFill>
                <a:latin typeface="Verdana"/>
              </a:rPr>
              <a:t>                                      </a:t>
            </a:r>
            <a:r>
              <a:rPr b="1" lang="sk-SK" sz="3200" spc="-1" strike="noStrike">
                <a:solidFill>
                  <a:srgbClr val="ffff00"/>
                </a:solidFill>
                <a:latin typeface="Arial Black"/>
              </a:rPr>
              <a:t>Prajem Vám  pekný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164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00"/>
                </a:solidFill>
                <a:latin typeface="Arial Black"/>
              </a:rPr>
              <a:t>             </a:t>
            </a:r>
            <a:r>
              <a:rPr b="1" lang="sk-SK" sz="3200" spc="-1" strike="noStrike">
                <a:solidFill>
                  <a:srgbClr val="ffff00"/>
                </a:solidFill>
                <a:latin typeface="Arial Black"/>
              </a:rPr>
              <a:t>a  úspešný  deň 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164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64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64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1645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1645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800" spc="-1" strike="noStrike">
                <a:solidFill>
                  <a:srgbClr val="ffff00"/>
                </a:solidFill>
                <a:latin typeface="Rockwell Extra Bold"/>
              </a:rPr>
              <a:t>          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0T11:04:02Z</dcterms:created>
  <dc:creator>Jakus</dc:creator>
  <dc:description/>
  <dc:language>en-US</dc:language>
  <cp:lastModifiedBy>Veronika Slováček Hagenová</cp:lastModifiedBy>
  <dcterms:modified xsi:type="dcterms:W3CDTF">2021-03-04T08:44:42Z</dcterms:modified>
  <cp:revision>703</cp:revision>
  <dc:subject/>
  <dc:title>Úvod</dc:title>
</cp:coreProperties>
</file>