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AD7E-F38B-47FB-9BE9-EEE3315A94D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6A6-3034-4210-ABCC-43AD86D597B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19C3-E783-44A8-A170-5E04BE0EFFC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B3A-0B51-45A6-90DE-10C253300F5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E344-BF70-4192-BDC0-023A4846B56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660F-EBB0-4C01-A37E-14BDEE4EB69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3F9F-6869-44A1-BF6F-2463B394F34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0C51-7056-4CE5-8561-14279B1E155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92C-1F7E-43D8-BDD0-D8B751D3419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0530-8BF0-44A4-839A-D4F22A4A958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020-B4AA-4CD7-8658-5ED781207BC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3CB9-7E66-4A36-8E1A-AF4A927B5E1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0781-24EE-4AA5-9722-8B10754F310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4809-0981-481E-BAF2-28C29B5547B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BC6A-EFAA-4A6B-9A55-228220E3582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7160-C337-4045-A6C7-6EBBB8E5321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B59-7CC7-45F7-98CC-AD8FC7AD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B43-DE58-4012-960A-67AF77DF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7EF-D989-489D-BC90-0A79BFC0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5F6-5199-4A63-81FB-B0F1D172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1EBC-0F52-4302-87C7-6B92FD08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21D9-75DB-45E5-B97B-C6C259E4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B91A-4BDD-4C3C-BB44-3852F6EA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24E7-D272-4BA5-9B23-24ACEEA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6352-F953-41EF-A906-85876F18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A7C5-D635-4F88-A467-D7843D9F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B0E-C731-418F-9FFF-CFFA5AE1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302-3203-4C03-85C4-2C3A1F83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8569-3F24-41C1-AC53-827359DE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FB6-51C2-4F79-ABAD-B6681692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52BC-1697-448C-87D2-F7D6204F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13B3-CF59-4ECC-9E7F-B3BCC5B2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3F56-D84B-440C-A92A-85F53A7B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039-0969-46BA-A4B9-F07E099B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436-128C-47E2-85B7-52C248F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6243-0E79-4A51-A789-CC8F4EA2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194-C51C-491B-ACE5-8A58DFC7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015-4B2C-4DEF-AB6E-AFBFE400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D3D-DBDC-421C-A6DA-9358283A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D8D-82F4-4122-9202-E961ECB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C489-8E9F-4719-9317-4008DA169C72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23F-27B1-497D-853F-5D49D0E53572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yziologia zraku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7" descr="lens"/>
          <p:cNvPicPr/>
          <p:nvPr/>
        </p:nvPicPr>
        <p:blipFill>
          <a:blip r:embed="rId1"/>
          <a:stretch/>
        </p:blipFill>
        <p:spPr>
          <a:xfrm>
            <a:off x="3780000" y="0"/>
            <a:ext cx="2592360" cy="2276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029"/>
          <p:cNvSpPr/>
          <p:nvPr/>
        </p:nvSpPr>
        <p:spPr>
          <a:xfrm>
            <a:off x="3773520" y="3612240"/>
            <a:ext cx="60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r>
              <a:rPr b="1" lang="sk-SK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Lens</a:t>
            </a:r>
            <a:r>
              <a:rPr b="1" lang="sk-SK" sz="1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1030"/>
          <p:cNvSpPr/>
          <p:nvPr/>
        </p:nvSpPr>
        <p:spPr>
          <a:xfrm>
            <a:off x="3740040" y="3613320"/>
            <a:ext cx="339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00000" y="0"/>
          <a:ext cx="8244000" cy="1401840"/>
        </p:xfrm>
        <a:graphic>
          <a:graphicData uri="http://schemas.openxmlformats.org/drawingml/2006/table">
            <a:tbl>
              <a:tblPr/>
              <a:tblGrid>
                <a:gridCol w="82440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ošovka</a:t>
                      </a:r>
                      <a:endParaRPr b="1" lang="en-US" sz="36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1043"/>
          <p:cNvSpPr/>
          <p:nvPr/>
        </p:nvSpPr>
        <p:spPr>
          <a:xfrm>
            <a:off x="0" y="2558520"/>
            <a:ext cx="91440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A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LENS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e priehľadná a uložená za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úhovkou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IRIS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á úlohu ohýbať svetelné lúče do jedného miesta na sietnici 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ochorení ok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-sobených teplom alebo UV žiarením, vzniká  ZÁKAL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Šošovky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tar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Picture 1054" descr="NoCataractPhoto"/>
          <p:cNvPicPr/>
          <p:nvPr/>
        </p:nvPicPr>
        <p:blipFill>
          <a:blip r:embed="rId2"/>
          <a:stretch/>
        </p:blipFill>
        <p:spPr>
          <a:xfrm>
            <a:off x="395280" y="515772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55" descr="CataractPhoto"/>
          <p:cNvPicPr/>
          <p:nvPr/>
        </p:nvPicPr>
        <p:blipFill>
          <a:blip r:embed="rId3"/>
          <a:stretch/>
        </p:blipFill>
        <p:spPr>
          <a:xfrm>
            <a:off x="3132000" y="5084640"/>
            <a:ext cx="1800360" cy="177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56" descr="cats"/>
          <p:cNvPicPr/>
          <p:nvPr/>
        </p:nvPicPr>
        <p:blipFill>
          <a:blip r:embed="rId4"/>
          <a:stretch/>
        </p:blipFill>
        <p:spPr>
          <a:xfrm>
            <a:off x="5580000" y="5013360"/>
            <a:ext cx="27338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76120"/>
            <a:ext cx="8244000" cy="635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Dúh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Dúhovka 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RIS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obsahuje dva svaly- zvierač a dilatátor, reagujúce na osvit: silné svetlo vedie ku zmenšovaniu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zrenice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sk-SK" sz="3000" spc="-1" strike="noStrike">
                <a:solidFill>
                  <a:srgbClr val="ffffff"/>
                </a:solidFill>
                <a:latin typeface="Arial"/>
              </a:rPr>
              <a:t>pupil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( mió-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  <a:ea typeface="Arial"/>
              </a:rPr>
              <a:t>,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labé svetlo ku jej rozširovaniu (mydri-áza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. Tento tzv.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upilárny reflex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sa využíva v anesteziológii a v neurológii na zisťovanie hĺbky anestézie a stavu bdelosti. Dúhovka obsahuje aj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cievy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3000" spc="-1" strike="noStrike">
                <a:solidFill>
                  <a:srgbClr val="ffff00"/>
                </a:solidFill>
                <a:latin typeface="Arial"/>
              </a:rPr>
              <a:t>pigment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, ktorý podmie-ňuje farbu očí</a:t>
            </a:r>
            <a:r>
              <a:rPr b="1" lang="en-US" sz="30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1" lang="sk-SK" sz="3000" spc="-1" strike="noStrike">
                <a:solidFill>
                  <a:srgbClr val="eaeaea"/>
                </a:solidFill>
                <a:latin typeface="Arial"/>
              </a:rPr>
              <a:t> Veľa pigmentu = tmavohnedé oči, žiadny pigment = modré oči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4" name="Picture 3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4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66" name="Rectangle 7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926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Sklovec         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Vitreous illustration"/>
          <p:cNvPicPr/>
          <p:nvPr/>
        </p:nvPicPr>
        <p:blipFill>
          <a:blip r:embed="rId1"/>
          <a:stretch/>
        </p:blipFill>
        <p:spPr>
          <a:xfrm>
            <a:off x="3419640" y="33336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900000" y="3431160"/>
            <a:ext cx="82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klovec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- Corpus vitreum -  je uložený za šošovkou v zadnej očnej komore. Je tvorený priehľadnou huspeninov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klovcovou tekuti-no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humor vitreus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ktorá má viskózno-elastic-ké vlastnosti a podmieňuje okrúhly tvar a elas-ticitu očnej gul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INA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bsahuje 2 druhy fotore-ceptotor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120 milli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ónov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/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) a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ČAPÍK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 6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l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/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ko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),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a po dve vrstv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IPO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 GANGLIONAR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NYC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buniek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 citlivejšie na svetlo než Čapíky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Tyčinky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sú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zodpovedné za nočné a čiernobiele videni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kotopick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.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 u="sng">
                <a:solidFill>
                  <a:srgbClr val="ffff00"/>
                </a:solidFill>
                <a:uFillTx/>
                <a:latin typeface="Arial"/>
              </a:rPr>
              <a:t>Čapíky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a videnie farebné a videnie počas dň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Fotopické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Žltá škrvn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 - Macula lutea 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je miesto najostrejšieho videnia s obsahom len čapíkov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Slepá škrvna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k-SK" sz="3200" spc="-1" strike="noStrike">
                <a:solidFill>
                  <a:srgbClr val="eaeaea"/>
                </a:solidFill>
                <a:latin typeface="Arial"/>
              </a:rPr>
              <a:t>optický disk- - tu vychádza z očnej gule optický  nerv a vstupu-jú a vystupujú cievy. Nie sú tu žiadne receptor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4" name="Picture 1028" descr="http://www.stlukeseye.com/images/illustrations/retina.jpg"/>
          <p:cNvPicPr/>
          <p:nvPr/>
        </p:nvPicPr>
        <p:blipFill>
          <a:blip r:embed="rId1"/>
          <a:stretch/>
        </p:blipFill>
        <p:spPr>
          <a:xfrm>
            <a:off x="3276720" y="0"/>
            <a:ext cx="25905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75" name="Group 1029"/>
          <p:cNvGrpSpPr/>
          <p:nvPr/>
        </p:nvGrpSpPr>
        <p:grpSpPr>
          <a:xfrm>
            <a:off x="266760" y="685800"/>
            <a:ext cx="1539360" cy="1533600"/>
            <a:chOff x="266760" y="685800"/>
            <a:chExt cx="1539360" cy="1533600"/>
          </a:xfrm>
        </p:grpSpPr>
        <p:sp>
          <p:nvSpPr>
            <p:cNvPr id="176" name="Rectangle 1033"/>
            <p:cNvSpPr/>
            <p:nvPr/>
          </p:nvSpPr>
          <p:spPr>
            <a:xfrm>
              <a:off x="1436400" y="1631880"/>
              <a:ext cx="36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7" name="Rectangle 1032"/>
            <p:cNvSpPr/>
            <p:nvPr/>
          </p:nvSpPr>
          <p:spPr>
            <a:xfrm>
              <a:off x="266760" y="1244520"/>
              <a:ext cx="5000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8" name="Rectangle 1031"/>
            <p:cNvSpPr/>
            <p:nvPr/>
          </p:nvSpPr>
          <p:spPr>
            <a:xfrm>
              <a:off x="820440" y="2119680"/>
              <a:ext cx="959040" cy="9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79" name="Rectangle 1030"/>
            <p:cNvSpPr/>
            <p:nvPr/>
          </p:nvSpPr>
          <p:spPr>
            <a:xfrm>
              <a:off x="458640" y="685800"/>
              <a:ext cx="4507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80" name="Rectangle 1034"/>
          <p:cNvSpPr/>
          <p:nvPr/>
        </p:nvSpPr>
        <p:spPr>
          <a:xfrm>
            <a:off x="0" y="20736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00"/>
              </a:solidFill>
              <a:latin typeface="Arial"/>
              <a:ea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86756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Očné pozadi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isťované oftalmoskopick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Picture 4" descr="scan0007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i prechode lúčov okom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iet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 sietnic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pre-chádzajú najs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 cez vrstvy ganglionárnych a bipo-lárnych buniek a až nakoniec  sa dostávajú k tyčin-kám a k čapík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Fotopigmenty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uložené v tyčinkách a v čapíkoch  podliehajú vplyvom svetla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hemickému rozpa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pri ktorom sa uvoľňu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ektrón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ieto elektróny sú zodpovedné za vzni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GP vo vnútri Ganglionárnych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uniek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P na  axónoch opúšťajúcich Ganglionárne bunky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Teda GP a AP nevznikajú v tyčinkách a v ča-píkoch (tieto sú hyperpolarizované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2700360" y="0"/>
            <a:ext cx="126014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Rozpad fotopigmentov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yčink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dopsin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( 11 ci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-ops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urpurovej farby.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Svetlo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ho rozkladá n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 ( all-trans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tinal opsine) +  1 el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r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, a pigment bledne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V  noci alebo pri zavretých očiach, sa 11 cis forma pigmentu obnovuje za katalytického účinku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Vita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T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Í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je potrebný pre resyntézu rodopsínu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k Vit. A chýba v potrave vzniká Šerosleposť 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MERALOP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I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Tri druhy Čapíkov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obsahujú fotopigmenty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Erytrolab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 červená farb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hlorolab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zelen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yanolab</a:t>
            </a:r>
            <a:r>
              <a:rPr b="1" lang="sk-SK" sz="3200" spc="-1" strike="noStrike">
                <a:solidFill>
                  <a:srgbClr val="993300"/>
                </a:solidFill>
                <a:latin typeface="Arial"/>
              </a:rPr>
              <a:t>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modr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arebné videni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LMHOLT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VA-YAUNGOV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ÓR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ud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ercipujú 3 základné farby (zelenú, červenú, modrú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 množstvo farebných odtieňov. Je to preto, lebo sietnica obsahuje 3 druhy čapíkov s 3 druhmi fotoreceptorov. Normálne farebné videnie nazýva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A a ľudí TRICHROMATI.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Ak chýba jeden z 3 čapíkov, hovoríme o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 a Dichromatoch.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ýchto delíme n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oanopov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lná strata citlivosti na zelenú farb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protanopov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(strata červenej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itanopov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strata modrej  a žltej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alebo anomálov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(čiastočná strata citlivost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Ak </a:t>
            </a:r>
            <a:r>
              <a:rPr b="0" lang="sk-SK" sz="2800" spc="-1" strike="noStrike">
                <a:solidFill>
                  <a:srgbClr val="eaeaea"/>
                </a:solidFill>
                <a:latin typeface="Arial"/>
              </a:rPr>
              <a:t>chýbajú všetky čapíky  hovoríme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NOCHRO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ÁZII. Farbosleposť je dedičné ochorenie -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matky ho pren-šajú na svojich synov, dcéry sú zdravé. Najčastejšie - až v 8% sa v populácii stretáme s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deuteranopiou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63080"/>
            <a:ext cx="9144000" cy="646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omod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je proces zaostrenia oka na blízke predmety.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komodácia umožňuje zaostriť pohľad z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lené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 nad 6 m od ok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lízkeho bodu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(do vzdialenosti niekoľkých cm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, tak aby sme videli predmet ostro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očas akomodácie,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ťah m. ciliáris vedie k relaxácii ligament , ktoré držia šošovku. Šošovka sa tak vlastnou elasticitou akoby “ pohne do strán“, zhrubne a nadobud-ne okrúhly tvar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Čím bližšie je predmet pri oku, tým 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čšia musí byť akomodácia.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Tzv.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k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(lomivosť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sa meria v jednotkách 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DIOPTRI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</a:t>
            </a:r>
            <a:br>
              <a:rPr sz="2800"/>
            </a:b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= 1 / f (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á sila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elého oka je cc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59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 toho na rohovku pripadá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3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na šošovku asi 16-2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 1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600440" y="3795840"/>
          <a:ext cx="4762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3795840"/>
                    <a:ext cx="476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Zrak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 je naj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ô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ležitejší ľudský zmysel, ktorý zabezpečuje príjem viac než 80% informácií z okolia.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dekvátny zrakový podnet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ele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romag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netic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ké vlnenie fotónov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(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iditeĺné svetlo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= 380 – 780 nm)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ltr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fialové svetlo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je pod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380 nm,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pr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ačervené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vetlo j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λ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iac ne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780 nm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ýchlosť svetla vo vákuu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je cca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300 000 km/s.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186 000 m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í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/s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KOMODÁCIA</a:t>
            </a:r>
            <a:r>
              <a:rPr b="1" lang="sk-SK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4400640" y="3795840"/>
          <a:ext cx="87624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0640" y="3795840"/>
                    <a:ext cx="8762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efrakčné chyby: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metropie sféric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Y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ER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METR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IA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,  PRESBYOP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Ametropie asféric-ké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(ASTIGMATIZMU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málne oko j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EMETROPIC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É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 priemero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= 2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c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Svetelné lúče sú ohýbané rohovkou a šošovkou a fokusované do žltej škrvny na sietnici. Tam sa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kutočný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, zmenšený  a obrátený obra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predmet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Picture 4" descr="eye_emmetrop"/>
          <p:cNvPicPr/>
          <p:nvPr/>
        </p:nvPicPr>
        <p:blipFill>
          <a:blip r:embed="rId1"/>
          <a:stretch/>
        </p:blipFill>
        <p:spPr>
          <a:xfrm>
            <a:off x="2124000" y="3716280"/>
            <a:ext cx="52563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YOPIA 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rátkozrakosť</a:t>
            </a: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emer oka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2,5 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omivosť  oka (rohovky a/alebo šošovk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je 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čši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s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obraz predmetu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ed sietnico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Obraz j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rozmazaný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a problém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idieť ostr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zdia-ené predmet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ostihnutí sa snažia korigovať chybu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prižmúrením viečo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. Plná korekcia je možná použití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šošoviek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rozptyliek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ktoré usmernia svetelné lúče do žltej škrvny na sietnici, alebo laserovou operáciou. S pribúdajúcim vekom sa myopia 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že upraviť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yopia - Nearsightedness"/>
          <p:cNvPicPr/>
          <p:nvPr/>
        </p:nvPicPr>
        <p:blipFill>
          <a:blip r:embed="rId1"/>
          <a:stretch/>
        </p:blipFill>
        <p:spPr>
          <a:xfrm>
            <a:off x="4464000" y="4581360"/>
            <a:ext cx="4680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Hypermetropia - ďalekozrakosť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íčiny: buď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.5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alebo lomivosť rohov-ky a /šošovky je malá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Preto s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obraz predmetu vytvára za sietnicou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lovek má problém vidieť ostr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e predmety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Často sa počas čítania vys-kytuje aj únava očí a bolesti hlavy v záhlaví. Korekcia chyby sa robí nasadením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CH ŠOŠOVIE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, ktoré usmernia svetelné lúče do žltej škvrny sietni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Fasighted eye - Hyperopia"/>
          <p:cNvPicPr/>
          <p:nvPr/>
        </p:nvPicPr>
        <p:blipFill>
          <a:blip r:embed="rId1"/>
          <a:stretch/>
        </p:blipFill>
        <p:spPr>
          <a:xfrm>
            <a:off x="3995640" y="4005360"/>
            <a:ext cx="38880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352080"/>
            <a:ext cx="8001000" cy="608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SBYOPIA- Starecké videnie –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je druhom ďalekozrakosti - hypermetrop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tiež známa ako Syndróm“ krátkych rúk“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Podstatou chyby je, ž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elasticita Šošovky s vekom postupne  klesá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Preto u ľudí nad 45 rokov, klesá akomodačná sila oka, z dôvodu poklesu  eleasticity šošovky. Takto sa pos-tupn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Blízky bod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vzďaľuje viac a viac od oka a dosiahne hodnoty 45 - 100 - 400 cm. (viď praktiká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Chyba sa korigu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spojnými šošov-kami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stigmatizm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1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trí medzi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Asférické ametropie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ríčin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nerovný povrch rohovk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-rá nie je dokonale hladká, ale „hrboľa-tá“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Človek buď nevidí ostro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diaľky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n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blízk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Chyba sa korig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cylindrickými šošov-kami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alebo operačn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excimerovým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aser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696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efrakčné sférické chyby oka 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8" name="Picture 3" descr="scan0008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1027"/>
          <p:cNvGraphicFramePr/>
          <p:nvPr/>
        </p:nvGraphicFramePr>
        <p:xfrm>
          <a:off x="4281480" y="3186000"/>
          <a:ext cx="58104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1480" y="3186000"/>
                    <a:ext cx="5810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6" descr="Winter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natómia oka zvonka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úhovka, zrenica, bielko, spojiv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chopnosť vidieť zabezpečuje systém tzv.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ého analyzátor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, ktorý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zostáva z 3 častí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Očná guľa, Optické nervy (a nervové dráhy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)</a:t>
            </a:r>
            <a:r>
              <a:rPr b="1" lang="sk-SK" sz="4000" spc="-1" strike="noStrike">
                <a:solidFill>
                  <a:srgbClr val="cc9900"/>
                </a:solidFill>
                <a:latin typeface="Arial"/>
              </a:rPr>
              <a:t>, </a:t>
            </a:r>
            <a:r>
              <a:rPr b="1" lang="sk-SK" sz="3200" spc="-1" strike="noStrike">
                <a:solidFill>
                  <a:srgbClr val="cc9900"/>
                </a:solidFill>
                <a:latin typeface="Arial"/>
              </a:rPr>
              <a:t>zrakový kortex v záhlavovom laloku mozg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684360" y="1052640"/>
            <a:ext cx="417672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0" y="171360"/>
            <a:ext cx="704880" cy="1266840"/>
            <a:chOff x="0" y="171360"/>
            <a:chExt cx="704880" cy="1266840"/>
          </a:xfrm>
        </p:grpSpPr>
        <p:sp>
          <p:nvSpPr>
            <p:cNvPr id="122" name="Rectangle 8"/>
            <p:cNvSpPr/>
            <p:nvPr/>
          </p:nvSpPr>
          <p:spPr>
            <a:xfrm>
              <a:off x="0" y="1266840"/>
              <a:ext cx="704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85680" y="742680"/>
              <a:ext cx="6001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304920" y="171360"/>
              <a:ext cx="3808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0" y="85680"/>
            <a:ext cx="3762360" cy="1647720"/>
            <a:chOff x="0" y="85680"/>
            <a:chExt cx="3762360" cy="1647720"/>
          </a:xfrm>
        </p:grpSpPr>
        <p:sp>
          <p:nvSpPr>
            <p:cNvPr id="127" name="Rectangle 22"/>
            <p:cNvSpPr/>
            <p:nvPr/>
          </p:nvSpPr>
          <p:spPr>
            <a:xfrm>
              <a:off x="3171960" y="1457280"/>
              <a:ext cx="3808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3162240" y="1162080"/>
              <a:ext cx="4474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3171960" y="866520"/>
              <a:ext cx="5904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3171960" y="542880"/>
              <a:ext cx="4377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1" name="Rectangle 18"/>
            <p:cNvSpPr/>
            <p:nvPr/>
          </p:nvSpPr>
          <p:spPr>
            <a:xfrm>
              <a:off x="3171960" y="247680"/>
              <a:ext cx="45720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2" name="Rectangle 17"/>
            <p:cNvSpPr/>
            <p:nvPr/>
          </p:nvSpPr>
          <p:spPr>
            <a:xfrm>
              <a:off x="0" y="1600200"/>
              <a:ext cx="61884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323640" y="1285920"/>
              <a:ext cx="27612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314280" y="990360"/>
              <a:ext cx="304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5" name="Rectangle 14"/>
            <p:cNvSpPr/>
            <p:nvPr/>
          </p:nvSpPr>
          <p:spPr>
            <a:xfrm>
              <a:off x="199800" y="685800"/>
              <a:ext cx="428400" cy="1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6" name="Rectangle 13"/>
            <p:cNvSpPr/>
            <p:nvPr/>
          </p:nvSpPr>
          <p:spPr>
            <a:xfrm>
              <a:off x="428400" y="371520"/>
              <a:ext cx="2188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257040" y="85680"/>
              <a:ext cx="3520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1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9" name="Picture 24" descr="Conjunctiva - eye anatomy"/>
          <p:cNvPicPr/>
          <p:nvPr/>
        </p:nvPicPr>
        <p:blipFill>
          <a:blip r:embed="rId2"/>
          <a:stretch/>
        </p:blipFill>
        <p:spPr>
          <a:xfrm>
            <a:off x="5219640" y="1052640"/>
            <a:ext cx="3527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lang="sk-SK" sz="44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Časti ok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1" name="Object 7"/>
          <p:cNvGraphicFramePr/>
          <p:nvPr/>
        </p:nvGraphicFramePr>
        <p:xfrm>
          <a:off x="4427640" y="3807000"/>
          <a:ext cx="771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807000"/>
                    <a:ext cx="771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807084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TAVBA OKA- schéma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scan4"/>
          <p:cNvPicPr/>
          <p:nvPr/>
        </p:nvPicPr>
        <p:blipFill>
          <a:blip r:embed="rId1"/>
          <a:stretch/>
        </p:blipFill>
        <p:spPr>
          <a:xfrm>
            <a:off x="395280" y="981000"/>
            <a:ext cx="8532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193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čná guľa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(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okrúhly tvar s 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d = 2.5 cm)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Pozostáva z 3 častí (zvonka dovnútra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bielko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cievovk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chorioid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ietnic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(retin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en-US" sz="36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i="1" lang="en-US" sz="3600" spc="-1" strike="noStrike">
                <a:solidFill>
                  <a:srgbClr val="eaeaea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eaeaea"/>
                </a:solidFill>
                <a:latin typeface="Arial"/>
              </a:rPr>
              <a:t>a z 2 druhov tekutín: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komorový mok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 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umor aquens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, vypľňuje prednú očnú komoru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a 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  <a:ea typeface="Arial"/>
              </a:rPr>
              <a:t>sklovcová tekutina -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itreus humor</a:t>
            </a:r>
            <a:r>
              <a:rPr b="1" lang="sk-SK" sz="3600" spc="-1" strike="noStrike">
                <a:solidFill>
                  <a:srgbClr val="eaeaea"/>
                </a:solidFill>
                <a:latin typeface="Arial"/>
              </a:rPr>
              <a:t>, vyplňuje zadnú očnú komoru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8244000" cy="479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Bielk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kléra: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tenká v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ä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zivová vrstva, ktorá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vpredu prechádza v priehľadnú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Rohovku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k-SK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NE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 Má najvyšiu schop-nosť ohýbať svetelné lúče-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optickú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lomi-vosť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, obsahuje receptory bolesti, neobsa-huje cievy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Za rohovkou 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Predná očná komor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yplnená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vodnatým komorovým mokom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(humor aquens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)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. Tento vytvára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vnútroočný tlak,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  <a:ea typeface="Arial"/>
              </a:rPr>
              <a:t> hodnotou cca 2,66 kPa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8" name="Picture 1027" descr="http://www.stlukeseye.com/images/illustrations/EyeExternal.jpg"/>
          <p:cNvPicPr/>
          <p:nvPr/>
        </p:nvPicPr>
        <p:blipFill>
          <a:blip r:embed="rId1"/>
          <a:stretch/>
        </p:blipFill>
        <p:spPr>
          <a:xfrm>
            <a:off x="2124000" y="333360"/>
            <a:ext cx="42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077320" cy="617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ievovk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- chorioidea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je medzi sklérou a retinou. 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Obsahuje početné cievy s fun-ciou vyživovacou. Vpredu prechádza cievovka d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ráskovcového telesa</a:t>
            </a:r>
            <a:r>
              <a:rPr b="1" lang="sk-SK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1028" descr="Choroid illustration"/>
          <p:cNvPicPr/>
          <p:nvPr/>
        </p:nvPicPr>
        <p:blipFill>
          <a:blip r:embed="rId1"/>
          <a:stretch/>
        </p:blipFill>
        <p:spPr>
          <a:xfrm>
            <a:off x="3492360" y="0"/>
            <a:ext cx="381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27" descr="CiliaryBody"/>
          <p:cNvPicPr/>
          <p:nvPr/>
        </p:nvPicPr>
        <p:blipFill>
          <a:blip r:embed="rId1"/>
          <a:stretch/>
        </p:blipFill>
        <p:spPr>
          <a:xfrm>
            <a:off x="539640" y="333360"/>
            <a:ext cx="7740720" cy="28526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030"/>
          <p:cNvSpPr/>
          <p:nvPr/>
        </p:nvSpPr>
        <p:spPr>
          <a:xfrm>
            <a:off x="765000" y="5838840"/>
            <a:ext cx="2857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Picture 1028" descr="CiliaryBody"/>
          <p:cNvPicPr/>
          <p:nvPr/>
        </p:nvPicPr>
        <p:blipFill>
          <a:blip r:embed="rId2"/>
          <a:stretch/>
        </p:blipFill>
        <p:spPr>
          <a:xfrm>
            <a:off x="-3571920" y="-382680"/>
            <a:ext cx="2228760" cy="13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0" y="3429000"/>
          <a:ext cx="9144000" cy="4359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078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áskovcové teleso-</a:t>
                      </a:r>
                      <a:r>
                        <a:rPr b="1" lang="sk-SK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rpus ciliare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sa-huje akomodačný SVAL -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. ciliaris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sk-SK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odpor-né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GAMENT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Zonul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),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ktoré fixujú ŠOŠOV-KU -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NS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.</a:t>
                      </a:r>
                      <a:r>
                        <a:rPr b="0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e štruktúry su významné pre</a:t>
                      </a:r>
                      <a:r>
                        <a:rPr b="1" lang="sk-SK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AKOMODÁCIU oka </a:t>
                      </a:r>
                      <a:r>
                        <a:rPr b="1" lang="sk-SK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.j. schopnosť oka zaostriť na blízke predmety.</a:t>
                      </a:r>
                      <a:endParaRPr b="1" lang="en-US" sz="32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48Z</dcterms:modified>
  <cp:revision>609</cp:revision>
  <dc:subject/>
  <dc:title>Úvod</dc:title>
</cp:coreProperties>
</file>