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3DDC-F575-4BAA-A3A9-19025587A952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83EB-3705-46EC-80D0-B0BAA85210ED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F494-D8E3-4791-90FC-9FC6B6BF42D0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B9DB-384E-4A56-AF92-F0B07F5D1084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64CA-AE7F-4583-A36A-5B08BEE2F081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089F-ADC1-4148-9DA7-C0B3EF365F30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3F2A-3C9A-4097-82A5-F2B2BA817561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CEC2-ACB0-43BA-AB97-37B477AF1687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6EAD-83D7-4287-BF74-0015B81FF303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6972-7DAF-4BD6-8294-16083ED7BAE8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4864-34DA-43B9-B5C8-588B6C374D90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FD2A-D4A3-4F85-B542-BD386B4C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88B6-FB8F-4098-89BA-65E6C4C9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B47A-54EF-43F7-9D55-80CC2F00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B7A-E008-44D4-ADF4-E8813D03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5661-36E6-48E3-A33D-2E8FE30C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AABA-DAC9-491D-98BD-93D21B7C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3A7E-3C3E-4818-984B-8BEB2EC8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C41C-FE22-4156-B618-4BE4552F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7C80-A000-4DB1-A223-E1AD6450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89F7-E85A-456B-88C2-7ECBB79E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4C7A-B94C-44CD-A28C-030D1F12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186F-CDEC-4781-948D-0A5793E4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9E33-CCB4-4A01-A342-E61D3057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75E3-8049-40C2-AC18-EDE7E258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5BD0-3517-4FF7-B610-EC0146EE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9444-0959-4C50-9285-DE72083A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8F2F-C941-44D8-A67A-A82BF695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60F7-4327-4976-8504-F4242BD9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B046-C730-4AFC-BD21-235B122D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7A82-9572-423F-8155-1D14E87A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BD28-FA99-4F81-AC8D-D7D5562E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B6D4-35DE-41ED-A5E2-409637ED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A7B2-DCAF-43CD-BA06-ECDA1068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781F-DC50-454B-9336-01C325AD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0099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BC53-3787-4F4D-8517-26383CC0F8B4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0099cc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50E3-7929-4503-A9A6-B8D0A58E9A3A}" type="slidenum">
              <a:rPr b="0" lang="sk-SK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1483920"/>
            <a:ext cx="7696080" cy="30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 sluchu</a:t>
            </a:r>
            <a:r>
              <a:rPr b="1" lang="sk-SK" sz="44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  </a:t>
            </a:r>
            <a:br>
              <a:rPr sz="7200"/>
            </a:br>
            <a:br>
              <a:rPr sz="72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r>
              <a:rPr b="1" lang="sk-SK" sz="72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 </a:t>
            </a:r>
            <a:endParaRPr b="0" lang="en-US" sz="72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396360" cy="724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renos zvuku vnútorným uchom</a:t>
            </a:r>
            <a:br>
              <a:rPr sz="36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vuk prichádza d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imáka - Cochle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- cez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válne okienko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imák je rozdelený na 3 časti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: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VESTIBULI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plnená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perilymfou 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torá obsahuj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ššiu koncentráciu Na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  Cl 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–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ónov  a viac  proteíno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,  </a:t>
            </a:r>
            <a:br>
              <a:rPr sz="2800"/>
            </a:b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MEDI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yplnená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ndolymfou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torá obsahuje vyššiu konc.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 katiónov a menej  Na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nd Cl</a:t>
            </a:r>
            <a:r>
              <a:rPr b="1" lang="sk-SK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óno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Na bazilárnej membráne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Cortiho orgán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s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nútornými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onkaj-šími vláskovými bunkam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.Obe majú na povrchu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tereocílie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nútorné vláskové bunk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s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lastné receptory zvuku,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v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nkajši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e 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sobia ak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zosiľňovač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br>
              <a:rPr sz="2800"/>
            </a:b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ALA TYMPANI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je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vyplnená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perilymfo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600" spc="-1" strike="noStrike">
                <a:solidFill>
                  <a:srgbClr val="ffffff"/>
                </a:solidFill>
                <a:latin typeface="Arial"/>
                <a:ea typeface="Arial"/>
              </a:rPr>
              <a:t>Rozdielne zloženie tekutín umožňuje vznik elektrických zmien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GPs a APs, tiež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endokochleárneho potenciálu v Scala media (+80mV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, kochleárneho mikrofonického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potenciálu ( na celom slimaku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600" spc="-1" strike="noStrike">
                <a:solidFill>
                  <a:srgbClr val="ffff00"/>
                </a:solidFill>
                <a:latin typeface="Arial"/>
                <a:ea typeface="Arial"/>
              </a:rPr>
              <a:t> a negat. sumačného potenciálu na vnútorných vlaskových bunkách</a:t>
            </a:r>
            <a:r>
              <a:rPr b="0" lang="sk-SK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sk-SK" sz="26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2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 vstupe do Vnútorného ucha  zvuk (akustický tla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rozvlní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erilymfu a endolymf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ndolymf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rozkmitá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bazilárnu membrán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a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tereocíl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vláskových buniek.</a:t>
            </a:r>
            <a:br>
              <a:rPr sz="32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tereocílie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sa pohybom endolymfy ohýbajú raz doprav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(hyperpolarizáci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raz doľava (depolarizá-ci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Generátorový potenciál (GP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a vytvára z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mikro-fonických potenciálov slimáka a negatívnych sumačných potenciálov  vnútorných vláskových buniek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po vstupe K+  z endolymfy  do vnútorných buniek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!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kčný potenciál (AP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vzniká po sumácii GPs na axónoch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sluchového nerv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s  sú prenášané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uchovým nervom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do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Tempo-rálneho lalok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sluchového kortexu, kde sú spraco-vávané a tu si uvedomujeme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kvalitu, silu, farbu a význam zvuku (reč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72" name="Picture 4" descr="Gray756"/>
          <p:cNvPicPr/>
          <p:nvPr/>
        </p:nvPicPr>
        <p:blipFill>
          <a:blip r:embed="rId1"/>
          <a:stretch/>
        </p:blipFill>
        <p:spPr>
          <a:xfrm>
            <a:off x="900000" y="1773360"/>
            <a:ext cx="7345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odľa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BEKESYHO teórie počutia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(1964):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azilárna membrána slúži ako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rekvenčný analyzátor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Vysoké frekvenc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ju rozochvievejú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na báze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, blízko Oválneho okienka,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de je najužšia</a:t>
            </a:r>
            <a:r>
              <a:rPr b="0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Nízke frekvenc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ju rozochvievajú naj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pri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vrchole slimáka – pri helikotrem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kde je membrána najširšia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3600"/>
            </a:b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Slimák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ostenný</a:t>
            </a: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byrint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74" name="Picture 3" descr="250px-Gray923"/>
          <p:cNvPicPr/>
          <p:nvPr/>
        </p:nvPicPr>
        <p:blipFill>
          <a:blip r:embed="rId1">
            <a:grayscl/>
          </a:blip>
          <a:stretch/>
        </p:blipFill>
        <p:spPr>
          <a:xfrm>
            <a:off x="3419640" y="2708280"/>
            <a:ext cx="57243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ucho"/>
          <p:cNvPicPr/>
          <p:nvPr/>
        </p:nvPicPr>
        <p:blipFill>
          <a:blip r:embed="rId1"/>
          <a:stretch/>
        </p:blipFill>
        <p:spPr>
          <a:xfrm>
            <a:off x="900000" y="260280"/>
            <a:ext cx="7417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400" spc="-1" strike="noStrike">
                <a:solidFill>
                  <a:srgbClr val="ffff00"/>
                </a:solidFill>
                <a:latin typeface="Arial"/>
              </a:rPr>
              <a:t>Poruchy sluchu  (hluchota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3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9424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AUDIOMETRIA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umožňuje zistiť 3 druhy porúch sluch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1. Poruchu prevodovú (periférna) –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stihnutý je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 bubienok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/aleb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sluchové kostičky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Stredného ucha –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acient nepočuje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hlboké zvuky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(nízke frekvenci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2. Poruchu percepčnú (centrálna) –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postihuje buď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Cortiho orgán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a v ňom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vláskové bunky, príp. sluchový nerv, alebo sluchový kortex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. Pacient nepočuj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ysoké tóny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(s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vyššou frekvenciou kmitani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3. Poruchu zmiešan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hrnutie - animáci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4402080" y="3571920"/>
          <a:ext cx="130824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02080" y="3571920"/>
                    <a:ext cx="13082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699320" cy="2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Ďakujem Vám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a pozornosť  ! </a:t>
            </a:r>
            <a:br>
              <a:rPr sz="3600"/>
            </a:b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84" name="Picture 3" descr="Winter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89308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Sluc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je veĺmi citlivý ľudský zmysel, ktorým vnímame zvuk (reč, hudbu, hluk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  Je to druh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mechanickej energie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(akustický tlak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Arial"/>
              </a:rPr>
              <a:t>, ktorý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vzniká v 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Arial"/>
              </a:rPr>
              <a:t>sledku kmitania molekúl vzduchu, ich zhusťova-nia a zrieďovania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Vo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váku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a zvuk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nešíri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lebo nie sú tam molekuly vzduchu, ktoré by sa rozkmitali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3000"/>
            </a:b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Akustický tlak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– jednotka je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N/m</a:t>
            </a:r>
            <a:r>
              <a:rPr b="0" lang="sk-SK" sz="3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( Pa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Sluchový prah je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2.10</a:t>
            </a:r>
            <a:r>
              <a:rPr b="0" lang="sk-SK" sz="3000" spc="-1" strike="noStrike" baseline="30000">
                <a:solidFill>
                  <a:srgbClr val="ffff00"/>
                </a:solidFill>
                <a:latin typeface="Arial"/>
              </a:rPr>
              <a:t>-5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</a:rPr>
              <a:t>Pa. (0 dB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Rýchlosť zvuku vo vzduch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je cca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330 m/ s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a šíri sa v nom </a:t>
            </a:r>
            <a:r>
              <a:rPr b="0" i="1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pozdĺžnym vlnením,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rovnako aj  v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kvapalinách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kde je však rýchlosť zvuku až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x vyššia.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3000"/>
            </a:b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V pevných látkach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je rýchlosť zvuku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ž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20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x vyššia, šíri sa </a:t>
            </a:r>
            <a:r>
              <a:rPr b="0" i="1" lang="sk-SK" sz="3000" spc="-1" strike="noStrike">
                <a:solidFill>
                  <a:srgbClr val="ffff00"/>
                </a:solidFill>
                <a:latin typeface="Arial"/>
                <a:ea typeface="Times New Roman"/>
              </a:rPr>
              <a:t>pozdĺžnym aj priečnym vlnením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jeho intenzita  je však nižšia.  </a:t>
            </a:r>
            <a:br>
              <a:rPr sz="3000"/>
            </a:br>
            <a:endParaRPr b="0" lang="en-US" sz="30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61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vuk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: pravidelné (harmonick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- tóny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 a nepravi-delné (neharmonick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- hluk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luchom vnímame zvuk v rozsahu od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16 Hz do 20 kH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Najčastejšie vnímame frekvencie od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1500- 4000 Hz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Netopiere, psi, delfíni sú citliví n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ultraz-vuk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(f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20 kH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. Kmitani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16 Hz vytvár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Infrazvuk 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Frekvencia vlnenia udáv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ýšk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tónu, amplitúda vlnenia udáv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hlasitosť. (subjektivne vnímané parametre: výška, hlasitosť zafarbenie zvuku...)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ntenzit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bjektívne vytváraného  zvuku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hladina sily zvuk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sa udáv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v jednotkách B resp. v dB .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ntenzit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ubjektívne vnímaného zvuku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hladina hlasitosti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a udáva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vo fónoch (P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be stupnice- v dB a vo Ph, sa zhodujú len pri frekvencii 1 kHz, kedy je ucho najcitlivejšie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í.</a:t>
            </a:r>
            <a:endParaRPr b="0" lang="en-US" sz="28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3757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Ucho- schém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8" descr="scan0010"/>
          <p:cNvPicPr/>
          <p:nvPr/>
        </p:nvPicPr>
        <p:blipFill>
          <a:blip r:embed="rId1"/>
          <a:stretch/>
        </p:blipFill>
        <p:spPr>
          <a:xfrm>
            <a:off x="395280" y="692280"/>
            <a:ext cx="845964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372960"/>
            <a:ext cx="9144000" cy="586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</a:t>
            </a: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TÓMIA UCHA </a:t>
            </a:r>
            <a:br>
              <a:rPr sz="3200"/>
            </a:br>
            <a:br>
              <a:rPr sz="3200"/>
            </a:b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loženie: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. Vonk.ucho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ušnica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(auricul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)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ucho-vý kanál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vyplnený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mazom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(cerum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chĺpkami.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</a:t>
            </a: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I. Stredné uc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bubienok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mbrana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ympani)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 3 kostičky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Maleus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ladivk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,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ncus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ná-kovka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tapes</a:t>
            </a:r>
            <a:r>
              <a:rPr b="0" lang="sk-SK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(strmienok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ccec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sk-SK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 okienko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krúhle okienko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2 svaly (m. stapedius  a m. tensor tympani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0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ustachova trubica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3.5 cm dlhá spája stredné ucho s  faryngom (vyrovnávanie tla-k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možná cesta prenosu infekcie naj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 detí.</a:t>
            </a: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</a:t>
            </a:r>
            <a:r>
              <a:rPr b="1" lang="sk-SK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III. Vnút. uc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- slimák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chle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 </a:t>
            </a:r>
            <a:r>
              <a:rPr b="0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or-tiho orgánom</a:t>
            </a:r>
            <a:endParaRPr b="0" lang="en-US" sz="32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renos zvuku Vonkajším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a  Stredným uchom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Vonkajšie uch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: sluchová energia je zachytávaná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ušnico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a zvuk sa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šíri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i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vzduchom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až na pevnú membránu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- bubienok-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 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bí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jeho rozochven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tredné uch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 Zvuk sa prenáša cez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sluchové kostičky 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šírenie kosťou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r>
              <a:rPr b="1" lang="sk-SK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 okienk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ž na tekutinu vnútorného uch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- perilymfu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rozochveje drobné blanky tak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válneho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ko aj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Okrúhleho okienka </a:t>
            </a:r>
            <a:r>
              <a:rPr b="1" lang="sk-SK" sz="2800" spc="-1" strike="noStrike">
                <a:solidFill>
                  <a:srgbClr val="ccecff"/>
                </a:solidFill>
                <a:latin typeface="Arial"/>
                <a:ea typeface="Times New Roman"/>
              </a:rPr>
              <a:t>v strednom uch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ýznam Stredného ucha  - zabezpečuje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mpedanč-né prisp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ô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sobenie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prenosu zvuku medzi vzduchom vonk. ucha a kvapalinou vnút. ucha. Ak by  nebolo stredné ucho s kostičkami - až viac ako  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99 %  zvuku by sa odrazilo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z perilymfy vnútorného ucha s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ť do ucha vonkajšie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SOUND PERCEPTION</a:t>
            </a:r>
            <a:r>
              <a:rPr b="0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4084560" y="3619440"/>
          <a:ext cx="19432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4560" y="3619440"/>
                    <a:ext cx="19432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8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 </a:t>
            </a:r>
            <a:br>
              <a:rPr sz="3600"/>
            </a:b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cs-CZ" sz="3600" spc="-1" strike="noStrike">
                <a:solidFill>
                  <a:srgbClr val="ffff00"/>
                </a:solidFill>
                <a:latin typeface="Arial"/>
              </a:rPr>
              <a:t>Zloženie vnútorného uch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66" name="Picture 5" descr="scan0035"/>
          <p:cNvPicPr/>
          <p:nvPr/>
        </p:nvPicPr>
        <p:blipFill>
          <a:blip r:embed="rId1"/>
          <a:stretch/>
        </p:blipFill>
        <p:spPr>
          <a:xfrm>
            <a:off x="684360" y="765000"/>
            <a:ext cx="7704000" cy="770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Cortiho orgán - zloženie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168" name="Picture 4" descr="300px-Cochlea-crosssection"/>
          <p:cNvPicPr/>
          <p:nvPr/>
        </p:nvPicPr>
        <p:blipFill>
          <a:blip r:embed="rId2">
            <a:lum contrast="50000"/>
          </a:blip>
          <a:stretch/>
        </p:blipFill>
        <p:spPr>
          <a:xfrm>
            <a:off x="684360" y="1268280"/>
            <a:ext cx="8459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29Z</dcterms:modified>
  <cp:revision>385</cp:revision>
  <dc:subject/>
  <dc:title>Úvod</dc:title>
</cp:coreProperties>
</file>