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5.png" ContentType="image/png"/>
  <Override PartName="/ppt/media/image35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33.png" ContentType="image/png"/>
  <Override PartName="/ppt/media/image34.jpeg" ContentType="image/jpeg"/>
  <Override PartName="/ppt/media/image37.png" ContentType="image/png"/>
  <Override PartName="/ppt/media/image38.gif" ContentType="image/gif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FB2-4AA6-4949-9132-990A1F2A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9869-9E87-4211-8A12-57F4861B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69B-FFEF-40B2-A618-96319995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66A3-6CF7-4202-AA64-66031BB2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395-40AB-4F48-BBDC-4E7BDC78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6C24-397C-4BE9-8ED8-33154740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9EF-C24F-4654-B7AC-2D4AAC8A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1CC-21AD-469E-96ED-A7330B75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D8E-23E9-4DC2-A8F9-8DB18F2D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34C-CD6E-4E23-BED9-0CDD4D2C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B55-DE47-4B21-937A-11945BA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314-3710-4702-A628-5F554046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D777-F753-428A-9A8C-6D8E821FEC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2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Hybnosť </a:t>
            </a:r>
            <a:r>
              <a:rPr b="1" lang="sk-SK" sz="3600" spc="-1" strike="noStrike">
                <a:solidFill>
                  <a:srgbClr val="333399"/>
                </a:solidFill>
                <a:latin typeface="Berlin Sans FB Demi"/>
              </a:rPr>
              <a:t>č</a:t>
            </a: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loveka, </a:t>
            </a:r>
            <a:br>
              <a:rPr sz="4400"/>
            </a:br>
            <a:r>
              <a:rPr b="1" lang="sk-SK" sz="4400" spc="-1" strike="noStrike">
                <a:solidFill>
                  <a:srgbClr val="333399"/>
                </a:solidFill>
                <a:latin typeface="Berlin Sans FB Demi"/>
              </a:rPr>
              <a:t>svalová kontrak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án Jaku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fotograf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ch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 sarkomé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Sarcomere"/>
          <p:cNvPicPr/>
          <p:nvPr/>
        </p:nvPicPr>
        <p:blipFill>
          <a:blip r:embed="rId1"/>
          <a:stretch/>
        </p:blipFill>
        <p:spPr>
          <a:xfrm>
            <a:off x="179280" y="907920"/>
            <a:ext cx="8964720" cy="59058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1979640" y="359712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580000" y="3597120"/>
            <a:ext cx="1297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6364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40360" y="630864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3708360" y="6405480"/>
            <a:ext cx="1440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79280" y="4653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nk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300720" y="4149720"/>
            <a:ext cx="23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rubé vlák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 flipV="1">
            <a:off x="1979640" y="4581360"/>
            <a:ext cx="71280" cy="2160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1908000" y="4941720"/>
            <a:ext cx="287640" cy="716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c49x38motor-unit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711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2908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ick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jednot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" y="981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 sú izolované spojivovým tkaniv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us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y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neu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st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hujú sa nara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äčšinou je v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ckých jednotiek rozličnej veľk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eľké 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1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pomal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o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i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re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rýchly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a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okohybn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356000" y="476280"/>
            <a:ext cx="115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067280" y="270828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lo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3924360" y="3213000"/>
            <a:ext cx="216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xón motoneuró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983280" y="68400"/>
            <a:ext cx="2160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Nervo-svalová platn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6877080" y="5661000"/>
            <a:ext cx="1440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Svalové vlákna (bunk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figure0815"/>
          <p:cNvPicPr/>
          <p:nvPr/>
        </p:nvPicPr>
        <p:blipFill>
          <a:blip r:embed="rId1"/>
          <a:stretch/>
        </p:blipFill>
        <p:spPr>
          <a:xfrm>
            <a:off x="1258920" y="765000"/>
            <a:ext cx="7921440" cy="5942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5607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itment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(nábor) mot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ickýc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jedno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08000" y="1484280"/>
            <a:ext cx="2035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ujúca 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moto-neu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upn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iv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torických jedno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 vyšším prah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40000" y="386064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843280" y="5445000"/>
            <a:ext cx="576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1- nízkoprahová (aktivuje sa 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843280" y="5756400"/>
            <a:ext cx="2665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843280" y="6116760"/>
            <a:ext cx="619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otorická jednotka 3- vysokoprahová (aktivuje sa neskô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protox_10_botox_alternative_info_clip_image001"/>
          <p:cNvPicPr/>
          <p:nvPr/>
        </p:nvPicPr>
        <p:blipFill>
          <a:blip r:embed="rId1"/>
          <a:stretch/>
        </p:blipFill>
        <p:spPr>
          <a:xfrm>
            <a:off x="108000" y="1125360"/>
            <a:ext cx="6408720" cy="5615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084720" y="1052640"/>
            <a:ext cx="305928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synaptic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aktivuje napätím riadené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kanál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ve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uly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neuro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mite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 (AC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výlučný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transmiter nervo-svalovej platničky – uvolni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 synaptic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štrbin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79280" y="18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torické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axó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toneu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) v motorickom nerve ved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č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platnič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Image:Acethylcholine receptor.png"/>
          <p:cNvPicPr/>
          <p:nvPr/>
        </p:nvPicPr>
        <p:blipFill>
          <a:blip r:embed="rId1"/>
          <a:stretch/>
        </p:blipFill>
        <p:spPr>
          <a:xfrm>
            <a:off x="6496200" y="115920"/>
            <a:ext cx="2468520" cy="6021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ile:ACh-stick.png"/>
          <p:cNvPicPr/>
          <p:nvPr/>
        </p:nvPicPr>
        <p:blipFill>
          <a:blip r:embed="rId2"/>
          <a:stretch/>
        </p:blipFill>
        <p:spPr>
          <a:xfrm>
            <a:off x="169920" y="1407960"/>
            <a:ext cx="4546440" cy="4469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2133360"/>
            <a:ext cx="2987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etylchol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File:Acetylcholine.svg"/>
          <p:cNvPicPr/>
          <p:nvPr/>
        </p:nvPicPr>
        <p:blipFill>
          <a:blip r:embed="rId3"/>
          <a:stretch/>
        </p:blipFill>
        <p:spPr>
          <a:xfrm>
            <a:off x="324000" y="4883040"/>
            <a:ext cx="4248000" cy="1714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4929120" y="574668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 re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4920" y="11592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kotínové recepto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tsynaptickej membrán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rvo-svalove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ičk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ej bunky – 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kanálov – depolariz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notkový platničkov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tenciál -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50560" y="38844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j b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ácie môže náhod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ikulus uvolni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h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naptic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ej štrbiny, čo vyvol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niatúrny EPS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ini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r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konče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úpln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čkov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tential (PP)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tor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ždy dosiah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ing level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prahovú úroveň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volá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čn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iál na svalovej bun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rozšíri pozdĺ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 ce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tubulárny systé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alovej bunk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ic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95280" y="5516640"/>
            <a:ext cx="856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imi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ovaný (zo synaptickej štrbiny) rozklad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etylchol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r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áz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action%20potential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05928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7667640" y="2492280"/>
            <a:ext cx="1152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r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763640" y="328464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651640" y="3716280"/>
            <a:ext cx="158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506920" y="608040"/>
            <a:ext cx="1513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d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7380360" y="139860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polarizačná fá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95280" y="4508640"/>
            <a:ext cx="4176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 je zmena membránového potenciálu na plazmatickej membráne bunky, kedy sa stáva vnútro bunky menej negatívne (vonkajšok bunky menej pozitívne) nab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148360" y="4489560"/>
            <a:ext cx="3995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očas depolarizačnej fázy AP sa MP zmení z približne -85 m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a asi +20 mV. Počas fázy repolarizácie dochádza k postupnému návratu na hodnotu kľudového membránového potenciálu asi -85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227640" y="4149720"/>
            <a:ext cx="1513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619280" y="414972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berger8"/>
          <p:cNvPicPr/>
          <p:nvPr/>
        </p:nvPicPr>
        <p:blipFill>
          <a:blip r:embed="rId1"/>
          <a:stretch/>
        </p:blipFill>
        <p:spPr>
          <a:xfrm>
            <a:off x="71280" y="1177920"/>
            <a:ext cx="6301080" cy="56358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142920"/>
            <a:ext cx="896472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Sarkoplazmatické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obklopuj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myofibri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 obsahuje zásob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riečn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 – tubul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árny systém je cestou pre akčn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potenciál, aby sa tento dostal na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atick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lu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084720" y="1413000"/>
            <a:ext cx="3059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tubuloch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ivuj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apätím riade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a kaná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ýchto štruktúr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(prienik) – influx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 intracelul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neho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priestoru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ého 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a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2+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 – j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i</a:t>
            </a: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ciá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valovej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11280" y="1844640"/>
            <a:ext cx="129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0" y="2924280"/>
            <a:ext cx="20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erminálne cister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79280" y="3213000"/>
            <a:ext cx="1728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T - tubu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4076640"/>
            <a:ext cx="19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plazmatické retik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395280" y="5229360"/>
            <a:ext cx="1512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92720" y="2205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yofib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364000" y="3213000"/>
            <a:ext cx="100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5364000" y="3860640"/>
            <a:ext cx="1079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364000" y="4797360"/>
            <a:ext cx="1154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 lí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5365800" y="5589720"/>
            <a:ext cx="1150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icrend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0" y="4292640"/>
            <a:ext cx="1042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5516640"/>
            <a:ext cx="10429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 sarkoplaz. retik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66560" y="6323040"/>
            <a:ext cx="172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Uvolnenie Ca ió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484360" y="4869000"/>
            <a:ext cx="1042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39640" y="3946680"/>
            <a:ext cx="2376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roteín citlivý na potenci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3132000" y="3946680"/>
            <a:ext cx="295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Depolarizovaná membrána T-tub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4788000" y="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embrá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932360" y="476280"/>
            <a:ext cx="934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5003640" y="1052640"/>
            <a:ext cx="935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a kaná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788000" y="1844640"/>
            <a:ext cx="12967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T-tubuly zformované z prliačenia plazmatickej membr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716360" y="292428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arkoplazmatické retikul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Image:SlidingMyofibril.svg"/>
          <p:cNvPicPr/>
          <p:nvPr/>
        </p:nvPicPr>
        <p:blipFill>
          <a:blip r:embed="rId1"/>
          <a:stretch/>
        </p:blipFill>
        <p:spPr>
          <a:xfrm>
            <a:off x="142920" y="79200"/>
            <a:ext cx="8858160" cy="66628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79280" y="3429000"/>
            <a:ext cx="6085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ál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ar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é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e okol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348000" y="3141720"/>
            <a:ext cx="115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elax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203640" y="3933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kontrahov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STNOSTI S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85480" y="98100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traktivi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men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che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j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ene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mechanickú prácu - pohy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pove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ho tkaniva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ciu 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cia (skrát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citabil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chopnosť odpoveda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é tkanivo môže by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a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kálny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lebo chemickými podnet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ticit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pružnos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y obsahuj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ast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, ktoré zabezpečujú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ch pružnosť (návrat do pôvodnej dĺžk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Roztiahnu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 je možné natiahnuť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lhší, než je jeho kľudová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valy môžu len ťaha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nie tlači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File:Myofilament.svg"/>
          <p:cNvPicPr/>
          <p:nvPr/>
        </p:nvPicPr>
        <p:blipFill>
          <a:blip r:embed="rId1"/>
          <a:stretch/>
        </p:blipFill>
        <p:spPr>
          <a:xfrm>
            <a:off x="108000" y="2565360"/>
            <a:ext cx="889308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324000" y="260280"/>
            <a:ext cx="85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sa de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e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-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(tenké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-ových (hrubé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pomyoz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kľu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ekrý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obné mi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3635280" y="248616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enký fil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227640" y="2630520"/>
            <a:ext cx="251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myoz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16360" y="407052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roponí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96000" y="4508640"/>
            <a:ext cx="31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zín hrubého filam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ScanImage95"/>
          <p:cNvPicPr/>
          <p:nvPr/>
        </p:nvPicPr>
        <p:blipFill>
          <a:blip r:embed="rId1"/>
          <a:stretch/>
        </p:blipFill>
        <p:spPr>
          <a:xfrm>
            <a:off x="0" y="2575080"/>
            <a:ext cx="9144000" cy="38782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179280" y="333360"/>
            <a:ext cx="842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sa viaže 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ení sa tv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po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, ktor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dkryje väzobné mi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íne aktínového vlák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valová kontrakcia vyžaduje aj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 uvolnenie ohnut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 hláv z väzby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 aktínu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ich vyrovnanie je potrebn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yozín hydrolyzu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ATP (rozkladá ho na ADP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á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čim získa energi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ycle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1280" y="71280"/>
            <a:ext cx="889344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ým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ATP p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tom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a s aktín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rovna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lá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krač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 neustá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mp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vané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umpou – ATP-ázou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zad do 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 (a T-tubulov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nt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udržuje vysoká jeho uvolňovaním z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u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ďalšími akčnými potenciálm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 tropomyozín vráti do tvar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for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c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orý bloku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ové miesta aktínového vlákna – zastavenie kontrak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eďže j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P nevyhnutné na uvolnen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äz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u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u – be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P : RIGOR MOR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MuscleTimeGraph"/>
          <p:cNvPicPr/>
          <p:nvPr/>
        </p:nvPicPr>
        <p:blipFill>
          <a:blip r:embed="rId1"/>
          <a:stretch/>
        </p:blipFill>
        <p:spPr>
          <a:xfrm>
            <a:off x="0" y="-27000"/>
            <a:ext cx="6732720" cy="5410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64000" y="11592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výšen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tracel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a koncentr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(C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uvolnené zo 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opla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trvá dlhši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než akčný potenciá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št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dlhšie trvá jednotkové svalové trhnuti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395280" y="4508640"/>
            <a:ext cx="842472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eďže má kostrový sva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rátk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refr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tórnu periódu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čný potenciál n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le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rozšíri z 1 nervo-svalovej platničky pozdĺž celej membrány,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T – tub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zmatickéh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ti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SUM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ČASOV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 to na úrovni uvolňovan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a superpozície svalových trhnut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3059280" y="620640"/>
            <a:ext cx="2736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414141"/>
                </a:solidFill>
                <a:latin typeface="Arial"/>
              </a:rPr>
              <a:t>Svalov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4895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alové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rh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vlnitý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úplný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tetanus.gif"/>
          <p:cNvPicPr/>
          <p:nvPr/>
        </p:nvPicPr>
        <p:blipFill>
          <a:blip r:embed="rId1"/>
          <a:stretch/>
        </p:blipFill>
        <p:spPr>
          <a:xfrm>
            <a:off x="216000" y="4000680"/>
            <a:ext cx="8748720" cy="2741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twitch_mc.gif"/>
          <p:cNvPicPr/>
          <p:nvPr/>
        </p:nvPicPr>
        <p:blipFill>
          <a:blip r:embed="rId2"/>
          <a:stretch/>
        </p:blipFill>
        <p:spPr>
          <a:xfrm>
            <a:off x="5153040" y="260280"/>
            <a:ext cx="3859200" cy="388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36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000000"/>
                </a:solidFill>
                <a:latin typeface="Arial"/>
              </a:rPr>
              <a:t>Tetanická kontrakcia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 – motorická jednotka je stimulovaná vysokou frekvenciou akčných potenciálov z príslušného motoneurón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Čas medzi stimulmi je kratší než svalové trhnutie – málo času na relaxáci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Sila kontrakcie sa zvyšuje – pridáva sa k predchádzajúcim trhnutiam - maximálna 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kontrakci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38920" y="765000"/>
            <a:ext cx="219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7596360" y="2276640"/>
            <a:ext cx="1547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zometrické trhnu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6946920" y="3789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5003640" y="189000"/>
            <a:ext cx="792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292720" y="1916280"/>
            <a:ext cx="647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3203640" y="6345360"/>
            <a:ext cx="180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čas (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AABKEOFa"/>
          <p:cNvPicPr/>
          <p:nvPr/>
        </p:nvPicPr>
        <p:blipFill>
          <a:blip r:embed="rId1"/>
          <a:stretch/>
        </p:blipFill>
        <p:spPr>
          <a:xfrm>
            <a:off x="179280" y="189000"/>
            <a:ext cx="3672000" cy="3398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AABKEOFb"/>
          <p:cNvPicPr/>
          <p:nvPr/>
        </p:nvPicPr>
        <p:blipFill>
          <a:blip r:embed="rId2"/>
          <a:stretch/>
        </p:blipFill>
        <p:spPr>
          <a:xfrm>
            <a:off x="5148360" y="1692360"/>
            <a:ext cx="3456000" cy="3176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ABKEOFc"/>
          <p:cNvPicPr/>
          <p:nvPr/>
        </p:nvPicPr>
        <p:blipFill>
          <a:blip r:embed="rId3"/>
          <a:stretch/>
        </p:blipFill>
        <p:spPr>
          <a:xfrm>
            <a:off x="179280" y="3649680"/>
            <a:ext cx="3600720" cy="30448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3995640" y="3571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sokofrekvenčné stimu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čné potenciá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volaj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p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ci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hnut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asov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724360" y="4941720"/>
            <a:ext cx="29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kompletn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3924360" y="5950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ple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ý (hladký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ta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Image331"/>
          <p:cNvPicPr/>
          <p:nvPr/>
        </p:nvPicPr>
        <p:blipFill>
          <a:blip r:embed="rId1"/>
          <a:stretch/>
        </p:blipFill>
        <p:spPr>
          <a:xfrm>
            <a:off x="0" y="0"/>
            <a:ext cx="7812000" cy="68468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12000" y="115920"/>
            <a:ext cx="3132000" cy="151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Zhrnuti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svalovej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3000" spc="-1" strike="noStrike">
                <a:solidFill>
                  <a:srgbClr val="000000"/>
                </a:solidFill>
                <a:latin typeface="Arial"/>
              </a:rPr>
              <a:t>kc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533520" y="180720"/>
            <a:ext cx="8142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  <a:ea typeface="Arial Unicode MS"/>
              </a:rPr>
              <a:t>Porovnanie vlastností kostrového, srdcového a hladkého sva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039680"/>
          <a:ext cx="9144000" cy="5747040"/>
        </p:xfrm>
        <a:graphic>
          <a:graphicData uri="http://schemas.openxmlformats.org/drawingml/2006/table">
            <a:tbl>
              <a:tblPr/>
              <a:tblGrid>
                <a:gridCol w="2560680"/>
                <a:gridCol w="2011320"/>
                <a:gridCol w="2286000"/>
                <a:gridCol w="228600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lastn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str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rdcov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ladký s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riečna pruhovanosť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latívna rýchlosť 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ak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ýc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tredná rýchlos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pomal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oluntárna kontro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Refraktórna perióda membrá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rát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dlh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adier v bun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veľ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jed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kontrola kontrakc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spontánna,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ovo modulova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erv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hormóny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atiahnu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Bunky prepojené</a:t>
                      </a:r>
                      <a:br>
                        <a:rPr sz="2000"/>
                      </a:b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interkalárnymi diskami alebo Gap Junctio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n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 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á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ecb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ladk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123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dký sval (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ce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l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 vnútorných orgánoch a ciev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ne priečne pruh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rstvy pod sliznicami v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čn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rávia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uhové vrstvy v stenách ciev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ktery (zvierač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lové vlákna hladkých sval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retenovitý tvar (fuziformn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irší v strede a tenší na konco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 20-5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mer aktínu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6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kostrovom sv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~ 4 : 1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rdcovom sv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~ 16.5 : 1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hladkom s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ššia elasticita a schopnosť sa natiahnuť pričom si stále zachovať kontraktilitu v porovnaní s priečne pruhovanými sval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S</a:t>
            </a: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V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8677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ostr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iečne pruhované svalové tkaniv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od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ontrolo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matic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kého nervového systém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(voluntárna kontr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rdcov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špeciálne priečne pruhované svalové tkaniv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pracujúce automatick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 pod moduláciou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utonómny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vo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vý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tkanivo bez priečneho pruhovan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stimulované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ómnym nervovým systém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rmn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ál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600" spc="-1" strike="noStrike">
                <a:solidFill>
                  <a:srgbClr val="000000"/>
                </a:solidFill>
                <a:latin typeface="Arial"/>
              </a:rPr>
              <a:t>alebo jednoducho natiahnut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79280" y="192240"/>
            <a:ext cx="7488360" cy="6486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15280" y="188640"/>
            <a:ext cx="262872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Hladký sval čre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124000" y="189000"/>
            <a:ext cx="3743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ruhové vrstvy okolo čreva vykonávajú kontrakciou segmentá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340000" y="6039000"/>
            <a:ext cx="540072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ongitudinálne vrstvy pozdĺž čreva vykonávajú vlnité kontr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2268360" y="981000"/>
            <a:ext cx="3589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5651640" y="620640"/>
            <a:ext cx="3585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2195640" y="5805360"/>
            <a:ext cx="30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6659640" y="5805360"/>
            <a:ext cx="183672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651672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38"/>
              </a:spcBef>
              <a:spcAft>
                <a:spcPts val="2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ntrakcia a relaxác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s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tínový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ame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rm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ón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neurotransmiter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lie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– tkanivo je spojené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u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óm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rv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iner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d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 vo vrstve či zväz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šíri c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jenia ty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sused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kontrahu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oč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 sa môže kontrahova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on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gé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ďaka dynamike iónový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nál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b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emakr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ým bunk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st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á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ja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o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trointesti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ho trakt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Glatte_Muskelzellen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2344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peristalsis"/>
          <p:cNvPicPr/>
          <p:nvPr/>
        </p:nvPicPr>
        <p:blipFill>
          <a:blip r:embed="rId2"/>
          <a:stretch/>
        </p:blipFill>
        <p:spPr>
          <a:xfrm>
            <a:off x="6249960" y="3573360"/>
            <a:ext cx="2760840" cy="302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File:Gap cell junction en.svg"/>
          <p:cNvPicPr/>
          <p:nvPr/>
        </p:nvPicPr>
        <p:blipFill>
          <a:blip r:embed="rId3"/>
          <a:stretch/>
        </p:blipFill>
        <p:spPr>
          <a:xfrm>
            <a:off x="2268360" y="2592360"/>
            <a:ext cx="3959280" cy="2781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6300720" y="400536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6300720" y="430704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ezifá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300720" y="4594320"/>
            <a:ext cx="136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kontrak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300720" y="5084640"/>
            <a:ext cx="1511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Potrava pehltnutá predtý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300720" y="5516640"/>
            <a:ext cx="1440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Cirkulárne svaly relaxova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6300720" y="595008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Sfink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300720" y="6165720"/>
            <a:ext cx="863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Arial"/>
              </a:rPr>
              <a:t>Žalúd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7020000" y="342900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eristal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ontrakcia hladk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BP026_smooth_muscle_contraction"/>
          <p:cNvPicPr/>
          <p:nvPr/>
        </p:nvPicPr>
        <p:blipFill>
          <a:blip r:embed="rId1"/>
          <a:stretch/>
        </p:blipFill>
        <p:spPr>
          <a:xfrm>
            <a:off x="3209760" y="2708280"/>
            <a:ext cx="5754960" cy="39844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179280" y="892080"/>
            <a:ext cx="8713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iacjednotkový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utonómnym nervovým systémom sú inervované jednotlivé bunk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emná kontro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gradu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á odpoveď podobne ako pri skeletáln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trachea, elast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ri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Žiadn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amiesto neho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mod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gul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čný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hladkom sv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aktiež tropomyozín nemá regulačnú funkciu, ako v priečne pruhovaných svalo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začí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-reg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y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áci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-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ivovaný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ínový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ém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enké fila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ladkého sva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sahuj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jm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t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pomy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í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desm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MuscleCardiacCells"/>
          <p:cNvPicPr/>
          <p:nvPr/>
        </p:nvPicPr>
        <p:blipFill>
          <a:blip r:embed="rId1"/>
          <a:stretch/>
        </p:blipFill>
        <p:spPr>
          <a:xfrm>
            <a:off x="0" y="512640"/>
            <a:ext cx="6095880" cy="50770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3394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rdcový s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292720" y="189000"/>
            <a:ext cx="3672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rdcov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eľa kratšie bunky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e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srdcového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u sa vetvia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jú spojenia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s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ym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m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chemic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j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všet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poje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čná sie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ujú ako cel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95280" y="514188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er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obn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e nie totožné usporiadanie myofilamentov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 má kostrový sv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ohé bunky srdcového svalu s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og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én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mpu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znikajú vo svale, neprichádzajú z nervového systém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rdcový ryt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8000" y="1268280"/>
            <a:ext cx="216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kalárne d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2268360" y="1268280"/>
            <a:ext cx="230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iečne pruhov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572000" y="1341360"/>
            <a:ext cx="129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yocy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635280" y="1700280"/>
            <a:ext cx="936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d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209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ché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er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alárne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k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srdcového sva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611280" y="1130400"/>
            <a:ext cx="7273800" cy="3070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0" y="2171880"/>
            <a:ext cx="183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junction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vytváraj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topl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st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7814160" y="1346040"/>
            <a:ext cx="89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to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812000" y="1851120"/>
            <a:ext cx="1258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x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prot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7451640" y="3003480"/>
            <a:ext cx="169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bunkov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i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7740720" y="3795840"/>
            <a:ext cx="1403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unkov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395280" y="472428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myocytoch srdcov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flux N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ust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indu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va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 uvolnen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lux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ez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apätí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iaden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aná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sarkoleme, čo vedie k uvolneni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atick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634544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1476360" y="260280"/>
            <a:ext cx="662472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2920" y="3233880"/>
            <a:ext cx="190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16360" y="1844640"/>
            <a:ext cx="295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 C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bunky inicializácia kontrak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6372360" y="3500280"/>
            <a:ext cx="187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von z bunky 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7236000" y="4732200"/>
            <a:ext cx="172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Kľudový 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79280" y="5726160"/>
            <a:ext cx="216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3780000" y="5726160"/>
            <a:ext cx="1584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repolarizá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File:Pacemaker potential annotated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119700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84360" y="45086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Prepotenc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059280" y="1052640"/>
            <a:ext cx="4537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ace-makerový“ akčn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859280" y="458136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7164360" y="464652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0" descr="634540_xlarge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2356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b66"/>
                </a:solidFill>
                <a:latin typeface="Arial"/>
              </a:rPr>
              <a:t>and its relation to the ECG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1"/>
          <p:cNvSpPr/>
          <p:nvPr/>
        </p:nvSpPr>
        <p:spPr>
          <a:xfrm>
            <a:off x="0" y="5950080"/>
            <a:ext cx="91440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lhotrvajúci akčný potenciál – dlhá refraktórna perió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žiadna časová sumácia - žiadna tetanická kontrak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476360" y="115920"/>
            <a:ext cx="6696000" cy="16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Monofázický akčný potenciál (srdcový sv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a jeho vzťah k EKG kriv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71640" y="3017880"/>
            <a:ext cx="1728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0 depolarizácia - Na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5940360" y="3357720"/>
            <a:ext cx="1727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3 repolarizácia K</a:t>
            </a:r>
            <a:r>
              <a:rPr b="1" lang="sk-SK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3059280" y="1844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4284720" y="2060640"/>
            <a:ext cx="1081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Fáz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waves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60148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zťa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le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tric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mechanic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ý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ara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is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í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rdcovej a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56360" y="1773360"/>
            <a:ext cx="180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a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4859280" y="285264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tlak v ľavej ko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5221440" y="3500280"/>
            <a:ext cx="28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kčný potenciál ľavej ko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4572000" y="5149800"/>
            <a:ext cx="280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E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995640" y="63752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as 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Image:ECG Principle fast.gif"/>
          <p:cNvPicPr/>
          <p:nvPr/>
        </p:nvPicPr>
        <p:blipFill>
          <a:blip r:embed="rId1"/>
          <a:stretch/>
        </p:blipFill>
        <p:spPr>
          <a:xfrm>
            <a:off x="-36360" y="0"/>
            <a:ext cx="600048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5580000" y="333360"/>
            <a:ext cx="33847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Šírenie s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c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ej ak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čné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oten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ciálu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z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oa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t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aniv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rdcový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redsiení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trioventri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neh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uzl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po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tkaniva srdcových komô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600" spc="-1" strike="noStrike">
                <a:solidFill>
                  <a:srgbClr val="000000"/>
                </a:solidFill>
                <a:latin typeface="Arial"/>
              </a:rPr>
              <a:t>so záznamom príslušného EK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000000"/>
                </a:solidFill>
                <a:latin typeface="Arial"/>
              </a:rPr>
              <a:t>Kostrový sv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pevnený ku kostiam šľach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iekoľko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p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láki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ýchlos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ýdrž, ún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ila, veľkosť motorickej jednot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štruktú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lh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iacjadrov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ylind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ick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dĺžka niekoľk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m (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unka ľudského kostrového sva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iem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0 - 150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poruje tvar 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ZHRNU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1280" y="909360"/>
            <a:ext cx="8893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ákladné vlastnosti svalov a svalového tkan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strový, srdcový, hladký sval a rozdiely medzi 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svalu a svalovej bunky (myofibrila, sarkomera, aktí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n,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ická jednot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-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á platničk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cetylcho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latničkový potenci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a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matick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um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valového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ák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ontrakcia svalu, jej kontro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ropomyo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úloh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k-SK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ón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alové trhnut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uperpozícia, sumácia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tanus (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lnit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hladk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o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Jednotkový a viacjednotkový hladký sval, spojenie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p junction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cy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Štruktúra tkaniva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ter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alár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yvolané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uvolnen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čný potenciál srdcového sval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jeh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va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ác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c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551960" y="6237360"/>
            <a:ext cx="63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tochem.tamu.edu/MuscleStrucContractswf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oti sebe pôsobiace svaly s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x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ťa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iceps brachi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cles-voluntary1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518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5214960" y="508320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nie 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kdy úpl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x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an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rol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miernen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hybu udržovaní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n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s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onist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v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c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ký pohy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muscle_structure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360" y="216000"/>
            <a:ext cx="2951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 každý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8317080" y="2492280"/>
            <a:ext cx="57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508720" y="5157720"/>
            <a:ext cx="136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klo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ažd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2627280" y="5157720"/>
            <a:ext cx="2736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as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 stáva svalový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alom, ktor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echádza do šľa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755640" y="5157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Šľacha - 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agénových vlák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0920" y="-360"/>
            <a:ext cx="4357800" cy="66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truktúra kostrového sva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765000"/>
            <a:ext cx="79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380360" y="620640"/>
            <a:ext cx="1584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Ci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7236000" y="1844640"/>
            <a:ext cx="19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8172360" y="2492280"/>
            <a:ext cx="971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bu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7451640" y="4653000"/>
            <a:ext cx="12240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äz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svalov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n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image001"/>
          <p:cNvPicPr/>
          <p:nvPr/>
        </p:nvPicPr>
        <p:blipFill>
          <a:blip r:embed="rId1"/>
          <a:stretch/>
        </p:blipFill>
        <p:spPr>
          <a:xfrm>
            <a:off x="142920" y="11160"/>
            <a:ext cx="8893080" cy="684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6165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Hlboká štruktúra kostrového sv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356000" y="5013360"/>
            <a:ext cx="324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ednotlivé svalové vlák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780000" y="5445000"/>
            <a:ext cx="863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J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79280" y="357336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plaz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4076640"/>
            <a:ext cx="1258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763640" y="3068640"/>
            <a:ext cx="1800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arko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2556000" y="2421000"/>
            <a:ext cx="1800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edzi vlák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Svalov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lákn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valová bun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valovej bun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k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strové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rdcového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ladkého sval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die signá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kutočn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ick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mb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onkajší ob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tenká vrst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lysacharid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v s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ag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énovými vlákn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ktorý prechádza do vlákien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ľa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plaz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topl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 organel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ylindric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gane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r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tiln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 (myofilament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t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í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ák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pecifická    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nštantn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ĺž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iekoľký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ované do opakujúcich sa podjednotiek pozdĺ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fibril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rkomé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la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-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ul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árnym systém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nútorný vodiv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587640" y="484200"/>
            <a:ext cx="23050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valov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bu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Muscle fibres"/>
          <p:cNvPicPr/>
          <p:nvPr/>
        </p:nvPicPr>
        <p:blipFill>
          <a:blip r:embed="rId1"/>
          <a:stretch/>
        </p:blipFill>
        <p:spPr>
          <a:xfrm>
            <a:off x="0" y="0"/>
            <a:ext cx="6804000" cy="569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File:Myofibril.svg"/>
          <p:cNvPicPr/>
          <p:nvPr/>
        </p:nvPicPr>
        <p:blipFill>
          <a:blip r:embed="rId2"/>
          <a:stretch/>
        </p:blipFill>
        <p:spPr>
          <a:xfrm>
            <a:off x="2411280" y="4941720"/>
            <a:ext cx="6301080" cy="18529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3780000" y="51120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valov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08000" y="871560"/>
            <a:ext cx="26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plazma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95280" y="1268280"/>
            <a:ext cx="165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retik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168640"/>
            <a:ext cx="1763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fibr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364000" y="2492280"/>
            <a:ext cx="1872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Myoz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84360" y="4581360"/>
            <a:ext cx="23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88000" y="4437000"/>
            <a:ext cx="1008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kt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2843280" y="501336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arkomé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5292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6300720" y="479736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I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276720" y="6093000"/>
            <a:ext cx="64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A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p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2124000" y="6237360"/>
            <a:ext cx="1079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4140360" y="6232680"/>
            <a:ext cx="1079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Z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štič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5219640" y="6237360"/>
            <a:ext cx="7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čia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9:11:00Z</dcterms:created>
  <dc:creator>Ivan Poliacek</dc:creator>
  <dc:description/>
  <dc:language>en-US</dc:language>
  <cp:lastModifiedBy>Veronika Slováček Hagenová</cp:lastModifiedBy>
  <dcterms:modified xsi:type="dcterms:W3CDTF">2021-03-04T08:45:03Z</dcterms:modified>
  <cp:revision>264</cp:revision>
  <dc:subject/>
  <dc:title>Snímka 1</dc:title>
</cp:coreProperties>
</file>