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4476-8ABE-4F06-B581-227626E7923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354E-31BE-4E33-8054-4B0394A3159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256-9D2F-452C-9C21-56A75FCE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21B-7C19-4673-8164-507DF763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827-76A8-4D45-BE0D-5B8EBC2C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11E-C813-44AB-B6C9-4FDBD21F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5749-72D2-4621-8148-A27C66DD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4516-7798-41B5-8512-AD059D01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1937-80E9-4118-A47C-A91CBD16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FEE6-C2AB-43B0-A263-97275A3C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8133-C92B-4464-AAB0-1254FA81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3F26-A3FE-4257-AF8A-5E210A0F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E51F-8512-4900-8646-C6D7144C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35F-94E7-44FE-AD49-4A0821C0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4A8F-23DC-4898-B9F5-9D830B78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FF57-843B-45A1-BBA2-2D8E1EF2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627A-7D83-4B98-BEF4-C6FE296F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FADB-CC3E-4870-91AD-B61B2940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0086-BCF3-460F-B2A6-0123B222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516-AD8C-46F3-A7F0-DA0FCC47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FA91-9A1F-4BBB-B319-22C333D1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2EC7-881A-4D09-9258-B5053BC3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236-B51F-4036-90F6-012BECA3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25E-76F1-45BD-A358-510F3C43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85D-34DE-4E73-9AEC-B1CDDBAF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CBB-9A30-4FDF-860A-49D0E5E0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2A8F-A9BC-4320-8C01-F2B878102402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4988-C046-4EC5-A3A4-F256DC8B18F3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unkcie gastrointestinálneho traktu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438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áviaci trakt morfológia a funkci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Tráviaca trubic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utina ústna,Hltan, Jazyk, Zuby,Jícen, Žalúdok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vanástnik,Tenké črevo, Hrubé črevo, rekt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rídatné orgány tráveni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nné žlazy(3 páry), játra, žlčník,slinivka brušn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znica, podslizničná vrstva,hladká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valovina, pobrušnic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valovi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(vid obr.s.91 Michalsk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Funkci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íjem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pracovanie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strebávanie živín z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ena vstrebaných živ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kladovanie metabolit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ylučovanie odpadových lá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F:\ OPAVA obr. Fyziol\transport potravy v gastrointestinalnom systeme.jpg"/>
          <p:cNvPicPr/>
          <p:nvPr/>
        </p:nvPicPr>
        <p:blipFill>
          <a:blip r:embed="rId1"/>
          <a:stretch/>
        </p:blipFill>
        <p:spPr>
          <a:xfrm>
            <a:off x="5940360" y="2637000"/>
            <a:ext cx="3240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    </a:t>
            </a:r>
            <a:br>
              <a:rPr sz="4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utina ústna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umožňuje  príjem potravy, jej odhryznutie a rozdrobenie pomocou zubov, premiešavanie jazykom so slinami (hlen-mucín), chemické  tráveni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škrobu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linnou alfa – amyláz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a kontrolu fyzikálnych a chemických vlastností ( chuťové receptory jazyka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nožstvo slín: 2l/deň , pH= 6-7   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700280"/>
            <a:ext cx="8675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olykací refle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dráždením korena jazyka je sústo potravy  zatlačené do jícnu a pohybom priecnej aj pozdĺžnej svaloviny jícnu sa dostane do žalúdka.Centrum reflexu-predlžená miecha, n. IX a 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Žvýkací reflex, sací reflex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.Žalúdok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obsah 1,5-2 l ,časti :kardia, fundus , pylorus - skladovanie, peristaltické pohyby, mechanické premiešavanie a chemické trávenie potrav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žal. šťavo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(2-3l/deň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Funkcie žal.šťav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HCl, denaturuje bielkoviny,ničí baktér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ení Fe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e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viaže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ko CaCl</a:t>
            </a:r>
            <a:r>
              <a:rPr b="1" lang="sk-SK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,aktivuje Pepsin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gen na Pepsín ( tento rozkladá  biekoviny na peptid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yprázdňovanie žalúdk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Pylorickou pump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vylučovanie natráveniny ( chymusu) do dvanástnik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rogastrický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eflexom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ylorus sa nakrátko uzavrie ,ked sa chym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dostane do dvanástnika a posunie do jejuna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F:\ OPAVA obr. Fyziol\absorpcia zeleza prijateho v potrave.jpg"/>
          <p:cNvPicPr/>
          <p:nvPr/>
        </p:nvPicPr>
        <p:blipFill>
          <a:blip r:embed="rId1"/>
          <a:stretch/>
        </p:blipFill>
        <p:spPr>
          <a:xfrm>
            <a:off x="7524720" y="3716280"/>
            <a:ext cx="17067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br>
              <a:rPr sz="36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Duodenum (dvanástnik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na začiatku tenkého čreva,pokračzje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jejuno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konč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leom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o duodena v miest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aterskej papil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4) sa vlieva žlč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choledochus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5) a pankreatická štava 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pancrea-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icus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6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I.  Žlč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vori sa v  jatrech  0.8-1 l/den, žlutohnedej farby  usklad-ňuje v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ník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7), obsahuje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ové kyselin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cholová, deoxycholová), vyzrážajú tuky v (emulgácia).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24360" y="1773000"/>
            <a:ext cx="9450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2) Bilirubín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produkt žltej farby  z rozpadu Hemoglobínu) ak sa dostane do krvi vzniká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Icter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3) Bikarbonát, voda, ió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pH=8,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. Pankreatická štav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: 1-2 l/den, bezfarebná,pH =8,2), obsahuj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.Proteolytické enzým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 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trypsí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, chymo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chy-motrypsi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karboxipeptidáz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elast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všetky štiepia bielkovin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 peptidy na aminokyseli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Tahoma"/>
              </a:rPr>
              <a:t>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Alfa amylá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krob 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glykog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I. Pankreatická lip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 tuk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a glycerol + Mastné kyse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V. DNK-áza a RNA-áza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a 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+ hlien, alkalická fosfatáza, bikarb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át etc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F:\ OPAVA obr. Fyziol\pankreas, duodenum a zlcove cesty.jpg"/>
          <p:cNvPicPr/>
          <p:nvPr/>
        </p:nvPicPr>
        <p:blipFill>
          <a:blip r:embed="rId1"/>
          <a:stretch/>
        </p:blipFill>
        <p:spPr>
          <a:xfrm>
            <a:off x="435600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C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Tenké črevo (duodenum,jejunum,ileu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- klky obsahuj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enterocyty), ktoré tvori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šťav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3l/den, pH =8) s obsahom enzýmov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peptidáz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štiepia peptidy na AK) 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acharázy, maltáz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štiepia oligo- na monosacharidy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lipázu.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: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ukrov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( v duodene a jejune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tukov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v jejune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bielkovín , A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od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v ileu a v hrubom čreve) , minerálov a vitamínov.- rezorbované látky  idú do jater na resyntézu  a vznik stavebných látok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ohyby čreva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iešavajú  a posúvajú tekutý chýmus . S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miestne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tam a spat) 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eristaltické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( asi 12/min dopredu ku hrubému črevu) 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sympatikovej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asti vegetatívneho NS ( a podanie mediátorov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drenalínu a noradrenalínu)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spomaľujú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čreva 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parasympatikovej čast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 VNS,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podanie mediátora Acetylcholínu) </a:t>
            </a:r>
            <a:br>
              <a:rPr sz="2000"/>
            </a:b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zrýchľujú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ohyby čreva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D. Hrubé črevo ( colon</a:t>
            </a:r>
            <a:br>
              <a:rPr sz="2200"/>
            </a:b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servoar stolice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- rezorbcia </a:t>
            </a: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vody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E. Rektum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defekačný reflex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Funkce jater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pozri Michalský </a:t>
            </a:r>
            <a:br>
              <a:rPr sz="2200"/>
            </a:b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s. 97.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4" descr="F:\ OPAVA obr. Fyziol\crevny klk - funkcna organizacia.jpg"/>
          <p:cNvPicPr/>
          <p:nvPr/>
        </p:nvPicPr>
        <p:blipFill>
          <a:blip r:embed="rId1"/>
          <a:stretch/>
        </p:blipFill>
        <p:spPr>
          <a:xfrm>
            <a:off x="4529160" y="3789360"/>
            <a:ext cx="4595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42Z</dcterms:modified>
  <cp:revision>703</cp:revision>
  <dc:subject/>
  <dc:title>Úvod</dc:title>
</cp:coreProperties>
</file>