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jpeg" ContentType="image/jpeg"/>
  <Override PartName="/ppt/media/image14.gif" ContentType="image/gif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jpeg" ContentType="image/jpeg"/>
  <Override PartName="/ppt/media/image8.wmf" ContentType="image/x-wmf"/>
  <Override PartName="/ppt/media/image9.png" ContentType="image/png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234D-BB5E-4387-939F-10BE9FABA8CE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C190-513E-4DE3-B745-79091FBC0AEF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7FAB-9D77-44A8-A6AC-62D097524F74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C935-D367-47C9-AFC3-644B0BAA6F53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9811-36D9-40F8-89A6-85D2C4C8CDE8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465F-11D8-499A-8812-40DA9BF616C9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3738-8A0A-4C20-B3EA-CC8DA5010306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F0D8-0C29-4FF1-B91F-6CEF29A729E8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BB43-4131-4854-8C23-ED986C397155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BBBB-8F1C-4AA4-B3D7-B8DB24DA7797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0214-BE5D-4805-8CAB-4A798354B525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DBCD-8037-4E62-81B8-24C682777576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E65C-5D13-435D-9B7D-AA58D4097EEB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B44F-847F-4239-83A0-43CAB90350FC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A15F-8423-413D-8BB9-2F0B5580118D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B48A-1710-45BC-9ECE-0DA8DE26CEA4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BAB2-76EB-4546-8740-5AAF4E76090F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9A4C-B112-4EFD-84A7-A5EE5D62C976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7F5E-37BB-45E9-8818-B4D3C6ED0622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3C72-D444-4531-A130-BE16BD2C00E2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E09B-7469-40FD-BEBB-16EC190D3794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EA29-6B8B-4F83-858E-8EA78517D026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F66A-1A6F-48EB-A02B-B1F629377A44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B047-4C0D-45FD-AC89-DC7290E0B535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E9F2-89DE-4D59-A27D-3E537B683E55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7A2E-D103-4CE7-BF04-9050E1395A07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3DA3-AEFF-458E-AC34-58AA6211CFF5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1509-FED2-4DF9-9173-DDB6960876F7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D765-B96F-4E47-A10B-30D846557C09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FABF-B331-46C7-8FA6-86D3E148E05B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E5D6-6531-4DC9-B356-8ABAB17648C8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2A6C-C332-4A6A-95F5-84C6E7E29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C3C9-1E5D-467B-8CBB-894AC89F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6EFD-0E51-4E56-B693-F9D04D6EC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2844-CAD6-4B53-9D18-BF2739EE8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E75B-5055-4E4E-8CBC-DD59AFC6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83F0-84F3-47DD-9F8A-23ED9C96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BFB4-8CA0-40E4-9C5D-0D340BBF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A96B-A263-4F0D-9203-34EE7433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F0A1-F7E6-4C29-8657-12785264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C4E5-7D45-4021-9BFD-38DAA113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BEEE-AEF4-4DA7-A443-14D05DE5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CBA7-35A7-49A1-BCDC-F3D16FCD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F6A5-B253-4330-AEB9-37B6AAC56210}" type="slidenum">
              <a:rPr b="0" lang="sk-SK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sk-SK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Fyziológia</a:t>
            </a:r>
            <a:br>
              <a:rPr sz="4400"/>
            </a:br>
            <a:r>
              <a:rPr b="1" lang="sk-SK" sz="4400" spc="-1" strike="noStrike">
                <a:solidFill>
                  <a:srgbClr val="ffff00"/>
                </a:solidFill>
                <a:latin typeface="Arial"/>
              </a:rPr>
              <a:t>dýchacieho systému</a:t>
            </a:r>
            <a:br>
              <a:rPr sz="4400"/>
            </a:br>
            <a:br>
              <a:rPr sz="2000"/>
            </a:b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Ján Jakuš</a:t>
            </a:r>
            <a:br>
              <a:rPr sz="4000"/>
            </a:br>
            <a:br>
              <a:rPr sz="2800"/>
            </a:br>
            <a:br>
              <a:rPr sz="28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Rectangle 18"/>
          <p:cNvSpPr/>
          <p:nvPr/>
        </p:nvSpPr>
        <p:spPr>
          <a:xfrm>
            <a:off x="3508200" y="709560"/>
            <a:ext cx="48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Dum spiro, spero“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7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    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Úloha bránice, medzirebrových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a prídatných dýchacích svalov 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(model-Paralelogram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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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2400" spc="-1" strike="noStrike">
                <a:solidFill>
                  <a:srgbClr val="ffff00"/>
                </a:solidFill>
                <a:latin typeface="Arial"/>
              </a:rPr>
              <a:t>bránica </a:t>
            </a:r>
            <a:br>
              <a:rPr sz="2400"/>
            </a:b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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2400" spc="-1" strike="noStrike">
                <a:solidFill>
                  <a:srgbClr val="ffff00"/>
                </a:solidFill>
                <a:latin typeface="Arial"/>
              </a:rPr>
              <a:t>prídatné svaly             </a:t>
            </a:r>
            <a:r>
              <a:rPr b="1" i="1" lang="sk-SK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</a:t>
            </a:r>
            <a:r>
              <a:rPr b="1" i="1" lang="sk-SK" sz="2400" spc="-1" strike="noStrike">
                <a:solidFill>
                  <a:srgbClr val="ffff00"/>
                </a:solidFill>
                <a:latin typeface="Arial"/>
              </a:rPr>
              <a:t>medzirebrové (interkostálne) svaly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</a:rPr>
              <a:t>  </a:t>
            </a:r>
            <a:br>
              <a:rPr sz="2000"/>
            </a:br>
            <a:r>
              <a:rPr b="1" i="1" lang="sk-SK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sk-SK" sz="2400" spc="-1" strike="noStrike">
                <a:solidFill>
                  <a:srgbClr val="ffff00"/>
                </a:solidFill>
                <a:latin typeface="Arial"/>
              </a:rPr>
              <a:t>(auxiliárne)                                  </a:t>
            </a:r>
            <a:r>
              <a:rPr b="1" i="1" lang="sk-SK" sz="2400" spc="-1" strike="noStrike">
                <a:solidFill>
                  <a:srgbClr val="ffffcc"/>
                </a:solidFill>
                <a:latin typeface="Arial"/>
              </a:rPr>
              <a:t>vonkajšie -inspiračné           </a:t>
            </a:r>
            <a:br>
              <a:rPr sz="2400"/>
            </a:br>
            <a:r>
              <a:rPr b="1" i="1" lang="sk-SK" sz="2400" spc="-1" strike="noStrike">
                <a:solidFill>
                  <a:srgbClr val="ffffcc"/>
                </a:solidFill>
                <a:latin typeface="Arial"/>
              </a:rPr>
              <a:t>                                                          vnútorné  - exspiračné</a:t>
            </a:r>
            <a:br>
              <a:rPr sz="24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3" name="Picture 3" descr="lungs"/>
          <p:cNvPicPr/>
          <p:nvPr/>
        </p:nvPicPr>
        <p:blipFill>
          <a:blip r:embed="rId1"/>
          <a:stretch/>
        </p:blipFill>
        <p:spPr>
          <a:xfrm>
            <a:off x="1042920" y="1700280"/>
            <a:ext cx="2819520" cy="3504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4500720" y="1628640"/>
            <a:ext cx="4052880" cy="335448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5"/>
          <p:cNvSpPr/>
          <p:nvPr/>
        </p:nvSpPr>
        <p:spPr>
          <a:xfrm>
            <a:off x="7667640" y="1052640"/>
            <a:ext cx="217440" cy="360360"/>
          </a:xfrm>
          <a:prstGeom prst="downArrow">
            <a:avLst>
              <a:gd name="adj1" fmla="val 50000"/>
              <a:gd name="adj2" fmla="val 4143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5867280" y="1341360"/>
            <a:ext cx="505080" cy="287280"/>
          </a:xfrm>
          <a:prstGeom prst="down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7956720" y="981000"/>
            <a:ext cx="431640" cy="503280"/>
          </a:xfrm>
          <a:prstGeom prst="downArrow">
            <a:avLst>
              <a:gd name="adj1" fmla="val 50000"/>
              <a:gd name="adj2" fmla="val 2914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8893080" y="1484280"/>
            <a:ext cx="250920" cy="504720"/>
          </a:xfrm>
          <a:custGeom>
            <a:avLst/>
            <a:gdLst>
              <a:gd name="textAreaLeft" fmla="*/ 35640 w 250920"/>
              <a:gd name="textAreaRight" fmla="*/ 215280 w 250920"/>
              <a:gd name="textAreaTop" fmla="*/ 288360 h 504720"/>
              <a:gd name="textAreaBottom" fmla="*/ 432720 h 504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Bránica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h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lavný inspiračný sval,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zodpovedá za 60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% zmeny objem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hrudníka.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Počas pokojného dýchania klesá kaudálnym smerom asi o 1,5 cm, pri hlbokom nádychu však až o 7-13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cm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br>
              <a:rPr sz="32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Mm.intercostales externi</a:t>
            </a:r>
            <a:r>
              <a:rPr b="1" i="1" lang="sk-SK" sz="3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3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ri kontrakcii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zväčšenie predozadného 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priečneh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 priemeru hrudník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vdych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m. intercostales interni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ri kontrak-cii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okles rebier a zmenšenie priemeru hrudník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výdych.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okojné 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nspírium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aktívn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y dej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okojné e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xspírium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revažne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asívn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y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Pokojný výdych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spôsobený pasívnym vytláčaním bránice smerom nahor a retrakčnou silou hrudného koša a pľúc</a:t>
            </a:r>
            <a:br>
              <a:rPr sz="4000"/>
            </a:br>
            <a:br>
              <a:rPr sz="4000"/>
            </a:b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Úsilný vdych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kontrakcia bránice </a:t>
            </a:r>
            <a:br>
              <a:rPr sz="40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M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m. Intercostales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ext. a prídatných inspiračných svalov (krku a hrudník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).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Úsilný výdych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kontrakcia brušných svalov (brušný lis) a mm.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intercostales interni 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Mechanizmus pľúcnej ventilácie: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OKOJNÉ INSPÍRIUM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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kontrakcia bránice a  vonkajších medzir. svalov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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negativita 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l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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negativita P</a:t>
            </a:r>
            <a:r>
              <a:rPr b="1" i="1" lang="en-US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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vznik tlakového gradientu (zvonka-dovnútra)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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inspiračný prietok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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inspiračný pľúcny objem</a:t>
            </a:r>
            <a:br>
              <a:rPr sz="36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OKOJNÉ EXSPÍRIUM:</a:t>
            </a:r>
            <a:br>
              <a:rPr sz="3200"/>
            </a:br>
            <a:r>
              <a:rPr b="1" i="1" lang="sk-SK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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p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asívny pohyb bránice nahor a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retrakčná sila pľúc a hrudníka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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ľahko pozitívny P</a:t>
            </a:r>
            <a:r>
              <a:rPr b="1" i="1" lang="en-US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pri malej negativite P</a:t>
            </a:r>
            <a:r>
              <a:rPr b="1" i="1" lang="en-US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l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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znik tlakového gradientu (zvnútra-navonok)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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exspiračný prietok vzduchu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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exspiračný pľúcny objem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ÚSILNÉ INSPÍRIUM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 (práca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a 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cvičenie)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:</a:t>
            </a:r>
            <a:br>
              <a:rPr sz="32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Zosilnenie sťahu bránice spolu s kontrakciou tzv. auxiliárnych inspiračných svalov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väčšia negativita 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l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, 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zvýšenie inspiračného prietoku vzduchu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zvýšenie množstva vdýchnutého pľúcneho objemu</a:t>
            </a:r>
            <a:br>
              <a:rPr sz="36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ÚSILNÉ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EXSPÍRIUM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(kašeľ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i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Kontrakci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brušných svalov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a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nútorných medzir.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alov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ozitívne hodnoty 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Abd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,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l ,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veľký exspiračný prietok vzduchu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veľký exspirovaný objem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Zázna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pleurálneho tlaku, intrapulmonálneho tlaku, prietoku vzduchu a dychového objemu počas pokojného inspíria (insp) a exspíria (exsp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95288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0" y="0"/>
            <a:ext cx="891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8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P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ľ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úcne objemy</a:t>
            </a: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dychový objem (tidal volume V</a:t>
            </a:r>
            <a:r>
              <a:rPr b="1" i="1" lang="sk-SK" sz="28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T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)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= 0,5 l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inspira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ný rezervný objem (IRV)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 = 2,5 l</a:t>
            </a:r>
            <a:br>
              <a:rPr sz="2800"/>
            </a:b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exspira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ný rezervný objem (ERV)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= 1,0 l</a:t>
            </a:r>
            <a:br>
              <a:rPr sz="2800"/>
            </a:b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reziduálny objem (RV)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                 = 1,2 l</a:t>
            </a:r>
            <a:br>
              <a:rPr sz="3200"/>
            </a:b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cc"/>
                </a:solidFill>
                <a:latin typeface="Arial Narrow"/>
              </a:rPr>
              <a:t> (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kolapsový vzduch 0,4 l + minimálny vzduch 0,8 l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)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2050920" y="3141720"/>
            <a:ext cx="54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3348000" y="3860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a4"/>
                </a:solidFill>
                <a:latin typeface="Times New Roman"/>
              </a:rPr>
              <a:t>IR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18" descr="Obrázok2"/>
          <p:cNvPicPr/>
          <p:nvPr/>
        </p:nvPicPr>
        <p:blipFill>
          <a:blip r:embed="rId1"/>
          <a:stretch/>
        </p:blipFill>
        <p:spPr>
          <a:xfrm>
            <a:off x="468360" y="2997360"/>
            <a:ext cx="79200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P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ľ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úcne  kapacity</a:t>
            </a:r>
            <a:br>
              <a:rPr sz="36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Vitálna kapacita p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úc (VC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T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+ IRV + ERV</a:t>
            </a:r>
            <a:br>
              <a:rPr sz="31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Inspira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ná kapacita (IC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    =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IRV </a:t>
            </a:r>
            <a:br>
              <a:rPr sz="31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Funk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ná reziduál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kapacita (FRC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ERV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RV </a:t>
            </a:r>
            <a:br>
              <a:rPr sz="31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elkov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kapacit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pľúc (TLC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31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vš. o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bjem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ov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br>
              <a:rPr sz="3100"/>
            </a:br>
            <a:br>
              <a:rPr sz="31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887480" y="23990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6" descr="Obrázok2"/>
          <p:cNvPicPr/>
          <p:nvPr/>
        </p:nvPicPr>
        <p:blipFill>
          <a:blip r:embed="rId1"/>
          <a:stretch/>
        </p:blipFill>
        <p:spPr>
          <a:xfrm>
            <a:off x="539640" y="2781360"/>
            <a:ext cx="806472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oddajnosť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pľúc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 (compliance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- C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je 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zmena objemu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(v l) sp</a:t>
            </a:r>
            <a:r>
              <a:rPr b="1" i="1" lang="en-US" sz="4000" spc="-1" strike="noStrike">
                <a:solidFill>
                  <a:srgbClr val="ffffcc"/>
                </a:solidFill>
                <a:latin typeface="Arial"/>
                <a:ea typeface="Arial"/>
              </a:rPr>
              <a:t>ô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sobená  zmenou tlaku (v kPa)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</a:rPr>
              <a:t> :</a:t>
            </a:r>
            <a:br>
              <a:rPr sz="4000"/>
            </a:br>
            <a:br>
              <a:rPr sz="4000"/>
            </a:b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N = 2l /kP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dosp.človek</a:t>
            </a:r>
            <a:br>
              <a:rPr sz="2800"/>
            </a:br>
            <a:br>
              <a:rPr sz="2800"/>
            </a:b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Fibróza </a:t>
            </a:r>
            <a:r>
              <a:rPr b="1" i="1" lang="sk-SK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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C </a:t>
            </a:r>
            <a:br>
              <a:rPr sz="2800"/>
            </a:br>
            <a:br>
              <a:rPr sz="28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Emfyzém</a:t>
            </a:r>
            <a:br>
              <a:rPr sz="28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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                       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lu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ka dynamickej poddajnosti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2743200" y="2025720"/>
            <a:ext cx="5867280" cy="368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0" y="0"/>
            <a:ext cx="891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Slu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ka celkového prúdového odporu dýchacích ciest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(počítame ako pomer tlaku a prietoku)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(kPa .l .s</a:t>
            </a:r>
            <a:r>
              <a:rPr b="1" i="1" lang="sk-SK" sz="3600" spc="-1" strike="noStrike" baseline="30000">
                <a:solidFill>
                  <a:srgbClr val="ffffcc"/>
                </a:solidFill>
                <a:latin typeface="Arial"/>
                <a:ea typeface="Times New Roman"/>
              </a:rPr>
              <a:t>-1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)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astma bronchiale</a:t>
            </a:r>
            <a:br>
              <a:rPr sz="3600"/>
            </a:br>
            <a:r>
              <a:rPr b="1" i="1" lang="sk-SK" sz="3100" spc="-1" strike="noStrike">
                <a:solidFill>
                  <a:srgbClr val="ffff00"/>
                </a:solidFill>
                <a:latin typeface="Wingdings"/>
                <a:ea typeface="Wingdings"/>
              </a:rPr>
              <a:t>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R</a:t>
            </a:r>
            <a:r>
              <a:rPr b="1" i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aw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rozšírenie 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dýchacích ciest</a:t>
            </a:r>
            <a:br>
              <a:rPr sz="3600"/>
            </a:br>
            <a:r>
              <a:rPr b="1" i="1" lang="sk-SK" sz="3100" spc="-1" strike="noStrike">
                <a:solidFill>
                  <a:srgbClr val="ffff00"/>
                </a:solidFill>
                <a:latin typeface="Wingdings"/>
                <a:ea typeface="Wingdings"/>
              </a:rPr>
              <a:t>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R</a:t>
            </a:r>
            <a:r>
              <a:rPr b="1" i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aw</a:t>
            </a:r>
            <a:br>
              <a:rPr sz="31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100"/>
            </a:br>
            <a:br>
              <a:rPr sz="3100"/>
            </a:br>
            <a:br>
              <a:rPr sz="31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411480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Fyziologia vonkajšieho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a vnútorného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dýchania</a:t>
            </a:r>
            <a:br>
              <a:rPr sz="4000"/>
            </a:br>
            <a:br>
              <a:rPr sz="4000"/>
            </a:br>
            <a:r>
              <a:rPr b="1" lang="sk-SK" sz="36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Definícia: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Dýchanie (respirácia)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jedna z troch základných „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vitálnych“ funkcií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ž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ivého organizmu. Je to pe-riodický a rytmický proces vdycho-vania vzduchu (inspírium) a jeho vy-dychovania (exspírium)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z dýchacích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ciest a  z  p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ľ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úc, ktorý za k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ž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dú minú-tu zabezpe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uje dospelému organiz-mu v kľude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prísun 250 ml O</a:t>
            </a:r>
            <a:r>
              <a:rPr b="1" lang="sk-SK" sz="36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a 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odsun 200 ml CO</a:t>
            </a:r>
            <a:r>
              <a:rPr b="1" lang="sk-SK" sz="36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, potrebných na pokrytie jeho metabolických p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ž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iadaviek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26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Ventilácia pľúc a distribúcia vzduchu</a:t>
            </a:r>
            <a:br>
              <a:rPr sz="4000"/>
            </a:br>
            <a:br>
              <a:rPr sz="40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Minútová ventilácia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MV =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V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T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. f</a:t>
            </a:r>
            <a:br>
              <a:rPr sz="3100"/>
            </a:br>
            <a:br>
              <a:rPr sz="31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Alveolárna ventilácia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AV = M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V – (V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D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. f)</a:t>
            </a:r>
            <a:br>
              <a:rPr sz="3100"/>
            </a:b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V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D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= 150 ml – mŕtvy objem)</a:t>
            </a:r>
            <a:br>
              <a:rPr sz="3100"/>
            </a:br>
            <a:br>
              <a:rPr sz="3100"/>
            </a:b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U dosp. človeka 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pri  dychovom  objeme (V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T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) 500 ml a  frekvencii  dýchania  (f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d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) 12 dychov . min</a:t>
            </a:r>
            <a:r>
              <a:rPr b="1" lang="sk-SK" sz="31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-1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predstavuje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minútová ventilácia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6  l.min</a:t>
            </a:r>
            <a:r>
              <a:rPr b="1" lang="sk-SK" sz="31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-1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, z čoho na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alveolárnu ventiláciu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pripadá 4,2 l . min</a:t>
            </a:r>
            <a:r>
              <a:rPr b="1" lang="sk-SK" sz="31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-1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Maximálna voluntárna ventilácia  (MMV )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je najväčší objem vzduchu preventilovaný pľú-cami za 1 minútu (120-170 l . min</a:t>
            </a:r>
            <a:r>
              <a:rPr b="1" lang="sk-SK" sz="31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-1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).</a:t>
            </a:r>
            <a:br>
              <a:rPr sz="31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52680"/>
          </a:xfrm>
          <a:prstGeom prst="rect">
            <a:avLst/>
          </a:prstGeom>
          <a:solidFill>
            <a:srgbClr val="0000a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La -Placeov zákon a úloha surfaktantu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0" name="Picture 2" descr="F:\ OPAVA obr. Fyziol\aplikacia Laplaceovho zakona ....jpg"/>
          <p:cNvPicPr/>
          <p:nvPr/>
        </p:nvPicPr>
        <p:blipFill>
          <a:blip r:embed="rId1"/>
          <a:stretch/>
        </p:blipFill>
        <p:spPr>
          <a:xfrm>
            <a:off x="611280" y="2781360"/>
            <a:ext cx="8281800" cy="367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F:\ OPAVA obr. Fyziol\Laplaceov zakon.jpg"/>
          <p:cNvPicPr/>
          <p:nvPr/>
        </p:nvPicPr>
        <p:blipFill>
          <a:blip r:embed="rId2"/>
          <a:stretch/>
        </p:blipFill>
        <p:spPr>
          <a:xfrm>
            <a:off x="2484360" y="1197000"/>
            <a:ext cx="410364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Atmosferický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vzduch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</a:rPr>
              <a:t> =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zmes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O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(20,93%), </a:t>
            </a:r>
            <a:br>
              <a:rPr sz="3100"/>
            </a:b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CO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2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(0,03 %), N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(78,06 %), He a in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ých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stopov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ých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plyn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ov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(0,92%) a vodn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ých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p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á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r. </a:t>
            </a: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arciálch vne tlaky plynov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závisia od atmosférického tlaku (P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B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).Tento tlak klesá pri výstupe do výšok a s nim klesajú aj parciálne tlaky plynov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.</a:t>
            </a: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ri atmosferickom tlaku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101,3 kPa (760 torr ,1 atm,) a 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tlaku vodných pár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0,8 kPa (suchý vzduch)  je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arciálny tlak  P0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21,06 kPa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 a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C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</a:rPr>
              <a:t> 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0,04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kPa</a:t>
            </a:r>
            <a:br>
              <a:rPr sz="3100"/>
            </a:br>
            <a:br>
              <a:rPr sz="31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Daltonov zákon</a:t>
            </a:r>
            <a:br>
              <a:rPr sz="4000"/>
            </a:b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latí</a:t>
            </a:r>
            <a:r>
              <a:rPr b="1" lang="sk-SK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re v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ýpočet parciálnych tlakov dýchacích plynov v zmesi plynov : „čím vyššia je koncentrácia  plynu v zmesi plynov, tým väčší je jeho parciálny tlak“</a:t>
            </a:r>
            <a:br>
              <a:rPr sz="3200"/>
            </a:br>
            <a:br>
              <a:rPr sz="3200"/>
            </a:b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     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= V% 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x ( P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B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- PH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) / 100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n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apr. PO</a:t>
            </a:r>
            <a:r>
              <a:rPr b="1" lang="sk-SK" sz="32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2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v atmosferickom vzduchu pri hladine mora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j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e :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</a:t>
            </a:r>
            <a:r>
              <a:rPr b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= 20,93 x (101,3 – 0,8) / 100 = 21,06 (kP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Obdobne počítam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0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, PC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,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N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aj v alve-olárnom príp. v exspirovanom vzduchu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.</a:t>
            </a:r>
            <a:br>
              <a:rPr sz="32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Zastúpenie 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,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C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(v obj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%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a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ich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parc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tlaky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v kPa), spolu s parc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tlakom H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O, N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v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atm, v exspir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v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alveol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vzduchu, ako aj v artério-vej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a venóznej krvi</a:t>
            </a: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8600" y="1828800"/>
          <a:ext cx="8686800" cy="4883040"/>
        </p:xfrm>
        <a:graphic>
          <a:graphicData uri="http://schemas.openxmlformats.org/drawingml/2006/table">
            <a:tbl>
              <a:tblPr/>
              <a:tblGrid>
                <a:gridCol w="1514520"/>
                <a:gridCol w="1058760"/>
                <a:gridCol w="1060560"/>
                <a:gridCol w="1060560"/>
                <a:gridCol w="1058760"/>
                <a:gridCol w="1257120"/>
                <a:gridCol w="1676520"/>
              </a:tblGrid>
              <a:tr h="87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O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%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CO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%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H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kPa)</a:t>
                      </a: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N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kPa)</a:t>
                      </a: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PaO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kPa)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PCO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kPa)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6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mosfer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zduch (suchý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20,9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0,03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0,8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9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,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21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,06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0,04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xspir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zduch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5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4,3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6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5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5,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5,73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lveolárn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zduch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3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5,1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6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6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     </a:t>
                      </a: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  <a:ea typeface="Arial"/>
                        </a:rPr>
                        <a:t>13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  <a:ea typeface="Arial"/>
                        </a:rPr>
                        <a:t>5,33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rtériov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r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9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50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6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6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3300"/>
                          </a:solidFill>
                          <a:latin typeface="Arial Narrow"/>
                          <a:ea typeface="Arial"/>
                        </a:rPr>
                        <a:t>8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2,7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5,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          </a:t>
                      </a:r>
                      <a:r>
                        <a:rPr b="1" lang="sk-SK" sz="2800" spc="-1" strike="noStrike">
                          <a:solidFill>
                            <a:srgbClr val="ff3300"/>
                          </a:solidFill>
                          <a:latin typeface="Arial Narrow"/>
                          <a:ea typeface="Arial"/>
                        </a:rPr>
                        <a:t>0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enóz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r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4-1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55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6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6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       </a:t>
                      </a: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  <a:ea typeface="Arial"/>
                        </a:rPr>
                        <a:t>5,2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  <a:ea typeface="Arial"/>
                        </a:rPr>
                        <a:t>6,13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Line 199"/>
          <p:cNvSpPr/>
          <p:nvPr/>
        </p:nvSpPr>
        <p:spPr>
          <a:xfrm flipV="1">
            <a:off x="8317080" y="4581000"/>
            <a:ext cx="0" cy="205740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234"/>
          <p:cNvSpPr/>
          <p:nvPr/>
        </p:nvSpPr>
        <p:spPr>
          <a:xfrm>
            <a:off x="6300720" y="4581360"/>
            <a:ext cx="0" cy="190512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38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Výmena dýchacích plynov</a:t>
            </a:r>
            <a:r>
              <a:rPr b="1" i="1" lang="sk-SK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cez alve-olokapilárnu membránu prebieha formou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difúzie,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ktorá závisí od parciálnych tlakov jednotlivých plynov (O</a:t>
            </a:r>
            <a:r>
              <a:rPr b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a CO</a:t>
            </a:r>
            <a:r>
              <a:rPr b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) v alveolárnom vzduchu a v kapilárnom pľúcnom riečišti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3100"/>
            </a:br>
            <a:br>
              <a:rPr sz="31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Pri difúzii:</a:t>
            </a:r>
            <a:r>
              <a:rPr b="1" i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tlakový gradient pre: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O</a:t>
            </a:r>
            <a:r>
              <a:rPr b="1" lang="sk-SK" sz="36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= 13,4 – 5,2 =  8 (kPa)  t.j. </a:t>
            </a: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sk-SK" sz="36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= 100 – 40 = 60 (torr)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tlakový gradient :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pre CO</a:t>
            </a:r>
            <a:r>
              <a:rPr b="1" lang="sk-SK" sz="36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=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6,13–5,33 = 0,8 (kPa)  t.j.</a:t>
            </a: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C0</a:t>
            </a:r>
            <a:r>
              <a:rPr b="1" lang="sk-SK" sz="36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= 46 - 40 = 6 (torr)</a:t>
            </a:r>
            <a:br>
              <a:rPr sz="36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Difúzia plynov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v pľúcach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- morfológia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0" name="Picture 4" descr="fig15-3"/>
          <p:cNvPicPr/>
          <p:nvPr/>
        </p:nvPicPr>
        <p:blipFill>
          <a:blip r:embed="rId1"/>
          <a:stretch/>
        </p:blipFill>
        <p:spPr>
          <a:xfrm>
            <a:off x="304920" y="1143000"/>
            <a:ext cx="838188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Difúzia plynov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cez alveolokapilárnu membránu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2" name="Picture 3" descr="diffusion"/>
          <p:cNvPicPr/>
          <p:nvPr/>
        </p:nvPicPr>
        <p:blipFill>
          <a:blip r:embed="rId1"/>
          <a:stretch/>
        </p:blipFill>
        <p:spPr>
          <a:xfrm>
            <a:off x="684360" y="1341360"/>
            <a:ext cx="815328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ifúzi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O</a:t>
            </a:r>
            <a:r>
              <a:rPr b="1" lang="sk-SK" sz="3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a CO</a:t>
            </a:r>
            <a:r>
              <a:rPr b="1" lang="sk-SK" sz="3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cez alveolokapilárnu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(AK)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membránu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a riadi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Fickov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ym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zákon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om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br>
              <a:rPr sz="36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V = 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(P</a:t>
            </a:r>
            <a:r>
              <a:rPr b="1" lang="sk-SK" sz="3600" spc="-1" strike="noStrike" u="sng" baseline="-30000">
                <a:solidFill>
                  <a:srgbClr val="ffff00"/>
                </a:solidFill>
                <a:uFillTx/>
                <a:latin typeface="Arial"/>
                <a:ea typeface="Arial"/>
              </a:rPr>
              <a:t>1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 – P</a:t>
            </a:r>
            <a:r>
              <a:rPr b="1" lang="sk-SK" sz="3600" spc="-1" strike="noStrike" u="sng" baseline="-30000">
                <a:solidFill>
                  <a:srgbClr val="ffff00"/>
                </a:solidFill>
                <a:uFillTx/>
                <a:latin typeface="Arial"/>
                <a:ea typeface="Arial"/>
              </a:rPr>
              <a:t>2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) . 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</a:rPr>
              <a:t>A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 . k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s</a:t>
            </a:r>
            <a:br>
              <a:rPr sz="36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kde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</a:t>
            </a:r>
            <a:r>
              <a:rPr b="1" i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1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a P</a:t>
            </a:r>
            <a:r>
              <a:rPr b="1" i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sú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parciáln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tlak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y plynov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br>
              <a:rPr sz="32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difúzna p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locha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(70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1" i="1" lang="sk-SK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 baseline="30000">
                <a:solidFill>
                  <a:srgbClr val="ffffff"/>
                </a:solidFill>
                <a:latin typeface="Arial"/>
              </a:rPr>
              <a:t>)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br>
              <a:rPr sz="32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s =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hrúbka membrány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(0,8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um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32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difúzna konštanta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Difúzna konštanta -k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závisí od zloženia mem-brány a druhu difundujúceho plynu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(pre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je rýchlosť difúzie 20-krát väčšia ako pre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napr.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V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= 15 – 20 ml / min.</a:t>
            </a:r>
            <a:br>
              <a:rPr sz="36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a VCO2=</a:t>
            </a:r>
            <a:r>
              <a:rPr b="1" i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350 – 400 ml/ min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Dynamika difúzie cez AK membránu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5" name="Picture 3" descr="alveoli"/>
          <p:cNvPicPr/>
          <p:nvPr/>
        </p:nvPicPr>
        <p:blipFill>
          <a:blip r:embed="rId1"/>
          <a:stretch/>
        </p:blipFill>
        <p:spPr>
          <a:xfrm>
            <a:off x="1066680" y="1219320"/>
            <a:ext cx="74678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8"/>
          <p:cNvSpPr/>
          <p:nvPr/>
        </p:nvSpPr>
        <p:spPr>
          <a:xfrm>
            <a:off x="290520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Anatómia dýchacieho systému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1476360" y="836640"/>
            <a:ext cx="6335640" cy="580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Vs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5" descr="Cardiorespiratory system"/>
          <p:cNvPicPr/>
          <p:nvPr/>
        </p:nvPicPr>
        <p:blipFill>
          <a:blip r:embed="rId1"/>
          <a:stretch/>
        </p:blipFill>
        <p:spPr>
          <a:xfrm>
            <a:off x="1619280" y="1125360"/>
            <a:ext cx="6048360" cy="505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-316440"/>
            <a:ext cx="8915400" cy="686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Rozpustnosť plynov v krvnej plazme</a:t>
            </a:r>
            <a:br>
              <a:rPr sz="36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Henryho zákon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množstvo plynu fyzikálne rozpustného v kvapaline je úmerné parciál-nemu tlaku plynu nad kvapalinou a jeho koe-ficientu rozpustnosti. 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Množstv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, rozpusten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éh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v 1 l krvi: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sk-SK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. P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. 1000 /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B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   = 3,0 ml/l krvi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Množstvo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C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v 1l krvi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: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sk-SK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. P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. 1000/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B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= 27ml/l krvi.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kde </a:t>
            </a:r>
            <a:r>
              <a:rPr b="1" i="1" lang="sk-SK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je koeficient rozpustnosti,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je parciálny  tlak  plynu  a  P</a:t>
            </a:r>
            <a:r>
              <a:rPr b="1" i="1" lang="sk-SK" sz="28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B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je celkový  barometrický  tlak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Koeficient rozpustnosti </a:t>
            </a:r>
            <a:r>
              <a:rPr b="1" lang="sk-SK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pre 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= 0,024 a 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pre C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= 0,57.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Rozpustnosť CO</a:t>
            </a:r>
            <a:r>
              <a:rPr b="1" i="1" lang="sk-SK" sz="28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</a:rPr>
              <a:t>v krvi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je cca 24x väčšia ako kyslíka.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ERFÚZIA - transport 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 a C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krvou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O</a:t>
            </a:r>
            <a:r>
              <a:rPr b="1" i="1" lang="sk-SK" sz="36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je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fyzikálne rozpustený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v plazme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a che-micky viazaný na hemoglobín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3100"/>
            </a:br>
            <a:br>
              <a:rPr sz="28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1 l artériovej krvi  je  200 ml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, z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oho 3 ml pripadajú na fyzikálne rozpustený O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a 197 ml je chemicky viazané na hemoglobín. </a:t>
            </a: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Fyzikálne rozpustený O</a:t>
            </a:r>
            <a:r>
              <a:rPr b="1" i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 </a:t>
            </a:r>
            <a:r>
              <a:rPr b="1" i="1" lang="sk-SK" sz="40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→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parciálny tlak</a:t>
            </a:r>
            <a:br>
              <a:rPr sz="3100"/>
            </a:br>
            <a:br>
              <a:rPr sz="31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CO</a:t>
            </a:r>
            <a:r>
              <a:rPr b="1" i="1" lang="sk-SK" sz="36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vystupuje ako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 fyzikálne rozpustený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v plazme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a chemicky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viazaný vo forme bikar-bonátov a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karbamino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hemoglobín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V 1 l venóznej krvi je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27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ml fyzikálne rozpust. CO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(v plazme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, zbytok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cca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520 ml je viazaný v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ostatných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dvoch formách. </a:t>
            </a:r>
            <a:br>
              <a:rPr sz="31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026" descr="Malá Hora"/>
          <p:cNvPicPr/>
          <p:nvPr/>
        </p:nvPicPr>
        <p:blipFill>
          <a:blip r:embed="rId1"/>
          <a:srcRect l="0" t="0" r="421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6095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00"/>
                </a:solidFill>
                <a:latin typeface="Arial Black"/>
              </a:rPr>
              <a:t>Prajem Vám pekný deň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49040"/>
            <a:ext cx="8763120" cy="61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Hlavn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á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 funkci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 dýchania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:</a:t>
            </a:r>
            <a:br>
              <a:rPr sz="4000"/>
            </a:br>
            <a:br>
              <a:rPr sz="4000"/>
            </a:b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proces výmeny plynov medzi bunkami a vonkaj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š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ím prostredím, t.j. transport kyslíka z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vonkajšieho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 vzduchu do buniek tela a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odvod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 oxidu uhli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itého z buniek do atmosféry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ýchanie  vonkajšie a vnútorné :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  </a:t>
            </a:r>
            <a:br>
              <a:rPr sz="40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sk-SK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chéma respirácie</a:t>
            </a:r>
            <a:r>
              <a:rPr b="1" lang="sk-SK" sz="4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458200" cy="393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3416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Vonkajšie dýchanie </a:t>
            </a: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zahrňuje 4 hlavné procesy:</a:t>
            </a:r>
            <a:br>
              <a:rPr sz="4000"/>
            </a:br>
            <a:br>
              <a:rPr sz="4000"/>
            </a:b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-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pľúcnu ventiláciu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br>
              <a:rPr sz="4000"/>
            </a:b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-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distribúciu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 vzduchu(miešanie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  <a:ea typeface="Arial"/>
              </a:rPr>
              <a:t>)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br>
              <a:rPr sz="4000"/>
            </a:b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-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difúziu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 plynov</a:t>
            </a:r>
            <a:br>
              <a:rPr sz="4000"/>
            </a:br>
            <a:r>
              <a:rPr b="0" lang="sk-SK" sz="40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perfúziu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pľúc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transport dýcha- </a:t>
            </a:r>
            <a:br>
              <a:rPr sz="4000"/>
            </a:b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                         cích plynov krvou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50480"/>
            <a:ext cx="8915400" cy="670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Ventilác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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cyklická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výmen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vzduchu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ľúcach počas vdych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(inspíria) a výdych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(exspíria)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zabezpečená kontrakciou dýchacích svalov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istribúc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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miešanie inspirovaného vzduchu so vzduchom, ktorý zostal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 dýchacích cestách a v pľúcach 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o výdychu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(150 ml = anatomický mŕtvy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riestor u dospelého)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ifúz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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restup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O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2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a CO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v smere tlakového gradientu cez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alveo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lokapilárn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membránu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(Fickov zákon)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erfúz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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cirkuláci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krvi pľúcnym riečišťom –transport plynov krvou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Vnútorné dýchanie, resp. tkanivová respirácia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redstavuje difúziu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O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2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a CO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 medzi krvou a tkanivami v smere gradientu parciálnych tlakov na urovni kapilár.</a:t>
            </a:r>
            <a:br>
              <a:rPr sz="3600"/>
            </a:br>
            <a:r>
              <a:rPr b="1" lang="sk-SK" sz="3600" spc="-1" strike="noStrike" u="sng">
                <a:solidFill>
                  <a:srgbClr val="ffffff"/>
                </a:solidFill>
                <a:uFillTx/>
                <a:latin typeface="Arial"/>
              </a:rPr>
              <a:t>Vonkajšie (pľúcne) a vnútorné (tkanivové)</a:t>
            </a:r>
            <a:r>
              <a:rPr b="1" lang="sk-SK" sz="3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dýchanie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si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vyžadujú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normáln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funkciu kardiovaskulárneh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(KV)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aparát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c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entráln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eh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nervov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éh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systém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– CNS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(mozog a miech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)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724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Mechanika dýchania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hodnotí činnosť dých. svalov, hrudného koša a pľúc pre dýchaní.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 u="sng">
                <a:solidFill>
                  <a:srgbClr val="ffffcc"/>
                </a:solidFill>
                <a:uFillTx/>
                <a:latin typeface="Arial"/>
              </a:rPr>
              <a:t>Pľúca nemajú svaly!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rúdeni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vzduchu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v dýc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h.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cestách je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odmienené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tlakový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m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rozdiel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om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medzi atmosférou a alveolami.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Inspírium -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tlak v alveolách pľúcnych je ni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žš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í ako v atmosfére 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xspírium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-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tlak v alveolách pľúc prevy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š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uje atmosferický tlak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.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Dýchanie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spontánne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je „podtlakové“. 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Umelé dýchanie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je „pretlakové“.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odtlak a pretlak v hrudníku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– sú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výsledkom kontrakcie dých. svalov : bránice (diaphragma) a svalov medzi-rebrových (vonkajších a vnútorných)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2:10Z</dcterms:modified>
  <cp:revision>334</cp:revision>
  <dc:subject/>
  <dc:title>Úvod</dc:title>
</cp:coreProperties>
</file>