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06EF-D77F-4D2C-999A-73490A510AB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3125-0BF5-4CED-9128-C2259A4559C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Zástupný symbol čísla snímky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7F5B-B137-4E63-90AE-6CDC791D2D1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970-AB00-43A7-908C-631C42DF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788-DDBC-4C9B-B7CB-53D337BC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FF2-EF7D-4047-9C54-1E8D1BDC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5C4-F65C-488D-ABAA-11E2FE0C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D370-1E7A-4533-84F1-27FCDA73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562B-22EB-46AB-BB1A-2A76306A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7683-7ABE-48F7-B5DC-309B2545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1DED-E5A8-429F-ADA4-5F297E59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FE56-FFF6-421C-A46B-A686FB50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78F4-3282-42C6-A077-6AF5FDD5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AABE-D7E8-40EA-B0AD-D238745B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72F-5641-4AAB-94F2-253E42E9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18AE-4E88-44A2-A483-1784A906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8042-1026-489E-9D26-A1128171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41A6-5BA5-4384-85F0-9DFBADA8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1259-D84C-478F-8634-08C8436A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A0B7-A3FA-46C9-A86A-6833D2F8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959-5DD5-4558-93F1-565AB6D5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10C-B3DB-4CA9-BFD7-85DB616F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67E-C202-48BA-B30D-D22DD39F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4981-ABA3-42C1-AAA4-9D73A10A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314-530A-40A5-8800-F6E94521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290-48D9-4735-89C4-583C1D23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ABC-AD4E-4EC1-BCC7-D48BB0B1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05ED-C6E8-43D3-90BF-A133953747E6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AD42-68EF-4805-AB7D-34893F8C86B2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Exkrečné funkcie organizmu- fyziologie ledvin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115920"/>
            <a:ext cx="7543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Ledviny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árový orgá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brušnej dutiny, 12x9,5 cm, dobre zásobované artériou a venou s prietokom krvi cca 1250 ml/sec. (cca 23% MV srd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tavb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Zákl. funkčná jednotka je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Nefron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kôra a  dreň 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1.Kôr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obsahuj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LOMERUL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 1,5 mil) s filtračnou plochou cca 1,2 m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a priemerom 300 um</a:t>
            </a:r>
            <a:r>
              <a:rPr b="1" lang="sk-SK" sz="2000" spc="-1" strike="noStrike" u="sng" baseline="30000">
                <a:solidFill>
                  <a:srgbClr val="ffff00"/>
                </a:solidFill>
                <a:uFillTx/>
                <a:latin typeface="Arial"/>
              </a:rPr>
              <a:t>.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2. Dreň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ubuly</a:t>
            </a:r>
            <a:r>
              <a:rPr b="1" lang="sk-SK" sz="2000" spc="-1" strike="noStrike">
                <a:solidFill>
                  <a:srgbClr val="b8b8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Proximálny, Henleho klučku a Distáln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innosť ledvin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Filtrácia krvi a tvorba primárneho moča  v glomeruloch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zorbcia vody, solí a látok v tubulo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ktívna sekrécia láto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(vid obr.s.107-110 Michalsk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F:\ OPAVA obr. Fyziol\schema lokalizacie nadobliciek.jpg"/>
          <p:cNvPicPr/>
          <p:nvPr/>
        </p:nvPicPr>
        <p:blipFill>
          <a:blip r:embed="rId1"/>
          <a:stretch/>
        </p:blipFill>
        <p:spPr>
          <a:xfrm>
            <a:off x="5219640" y="4008600"/>
            <a:ext cx="363852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F:\ OPAVA obr. Fyziol\nefron.jpg"/>
          <p:cNvPicPr/>
          <p:nvPr/>
        </p:nvPicPr>
        <p:blipFill>
          <a:blip r:embed="rId2"/>
          <a:stretch/>
        </p:blipFill>
        <p:spPr>
          <a:xfrm>
            <a:off x="936720" y="4005360"/>
            <a:ext cx="39020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</a:t>
            </a:r>
            <a:br>
              <a:rPr sz="24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Tvorba moča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1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lomerul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br>
              <a:rPr sz="24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oč primárn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tvorí sa ultrafiltráciou (rýchlosť GF= 120 ml/min.)  z krvi glomerulárnych kapilár do Bowmanovho puzdra, v množstve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80 l /24 hod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. (Efektívny filtračný tlak= 11 torr,  Stredný artériový tlak= 50 torr.)</a:t>
            </a:r>
            <a:br>
              <a:rPr sz="1800"/>
            </a:b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Obsahuje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, Tkan.mok, Glukózu, AK, Kreatinin, Močovinu (bez bielkovín, a krvných bunie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9265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2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rimárny tubulus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Pasívna rezorbcia (až 75% z ultrafiltátu):  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+ Na,+ Cl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Močovina, Bikarbonáty, 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fosfáty. Do zost. časti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3.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nleho </a:t>
            </a:r>
            <a:r>
              <a:rPr b="1" lang="sk-SK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lučky (HK)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prichádza izotonická tekutina, tu sa rezorbuje daľšia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.Vo vzost .časti Henle-ho klučky sa rezorbujú  Cl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moč je izotonická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edze HK a Zberné kanaliky sú v DRENI, ktor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je hypertonická pracuje tu tzv.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rotiprúdov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ultiplikačný systém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úcinkom ktorého sa dalej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moč zahusťuj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.Distálny tubulus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plyvom hormónov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dosteron a Antidiuretického hormonu (AD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dochádza k sekrécii Kys. močovej, H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N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do tubulu a k 5% rezorbcii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. Zberné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kanáliky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vstrebávanie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definitívn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Moč je sterilný a izotonick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F:\ OPAVA obr. Fyziol\schema tubulov - zmeny osmolality mocu ....jpg"/>
          <p:cNvPicPr/>
          <p:nvPr/>
        </p:nvPicPr>
        <p:blipFill>
          <a:blip r:embed="rId1"/>
          <a:stretch/>
        </p:blipFill>
        <p:spPr>
          <a:xfrm>
            <a:off x="5580000" y="3254400"/>
            <a:ext cx="36352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856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Definitívny moč </a:t>
            </a:r>
            <a:r>
              <a:rPr b="1" lang="sk-SK" sz="2000" spc="-1" strike="noStrike">
                <a:solidFill>
                  <a:srgbClr val="eaeaea"/>
                </a:solidFill>
                <a:latin typeface="Arial"/>
                <a:ea typeface="Arial"/>
              </a:rPr>
              <a:t>- 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v množstve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,5-2,0 l/ 24 hod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. nazltlej farby (urobilinogén) s ph 5,5, odteká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ledvinných panvicek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s objemom 5ml, ktoré smerujú moč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odu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( ureter). Uretery sú svalové trubice s dlžkou  35 cm a priemerom cca 7 mm, Transport moča je aktívny dej s rýchlisťou 1-6 cm/sec,  a moč v podobe „močového vretienka odteká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ého mechúra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a z neho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. cestami (uretra -  cm u ženy a 15 cm u muža) von z tela</a:t>
            </a:r>
            <a:br>
              <a:rPr sz="1800"/>
            </a:b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ý mechúr-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tvorený zo zvazkov hladkej svaloviny so zvieracmi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844640"/>
            <a:ext cx="9036000" cy="50133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unkcie ledvin: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ylucovanie kyslých katabolitov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Regulácia objemu ECT vody v tele, (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dost. ADH, Angiotenzin II,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Regulácia AB rovnováh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Regulácia tvorby moč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oly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nad 2l/den,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olig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 200-600 ml/den,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an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 0-200ml/d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plyv na glomerul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Angiotenzín II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vznika z Reninu tvoreného v oblasti glomerula ledvin) nasledkom je vasokonstrikcia co vedie ku zvýšeniu filtračného tlaku v glomerule ( norma je 55 mmHg) a ku zvýšeniu G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plyv na tubul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 Aldosteron-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mineralkortikoid z kory nadobličiek, vedie ku rezorbcii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a sekrécii 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ADH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Vasopresin, Antidiuretický hormon)-  hormon neurohypofýzy, zvyšuje rezorbciu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O  v dist tubuloch a zberných kanalikoch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ANP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 Atriálny nátriuretický peptid)-vzniká v predsienach srd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edie ku vylucovaniu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a ku poklesu T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ndoteliny a Kalikrein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– vyzokonstrikcia a vazodilatacia arteriol glomerulov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67564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arathormón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hormón z prištítnych telies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ok štítnej žlazy Udrzuje hladinu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na 2,25-2,75 mmol/l, robí zpatnu rezorbciu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v ledvinách a zvysuje vylučovanie fosfátov</a:t>
            </a:r>
            <a:br>
              <a:rPr sz="18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rostaglandín PGl2 –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vaz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odilatacia ciev a prekrvenie ledvin</a:t>
            </a:r>
            <a:br>
              <a:rPr sz="1800"/>
            </a:br>
            <a:br>
              <a:rPr sz="1800"/>
            </a:b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( pozri aj Michalský s. 106-11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06720" y="1628640"/>
            <a:ext cx="9450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4:22Z</dcterms:modified>
  <cp:revision>727</cp:revision>
  <dc:subject/>
  <dc:title>Úvod</dc:title>
</cp:coreProperties>
</file>