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wmf" ContentType="image/x-wmf"/>
  <Override PartName="/ppt/media/image1.jpeg" ContentType="image/jpeg"/>
  <Override PartName="/ppt/media/image18.jpeg" ContentType="image/jpeg"/>
  <Override PartName="/ppt/media/image17.jpeg" ContentType="image/jpeg"/>
  <Override PartName="/ppt/media/image14.wmf" ContentType="image/x-wmf"/>
  <Override PartName="/ppt/media/image2.jpeg" ContentType="image/jpeg"/>
  <Override PartName="/ppt/media/image3.wmf" ContentType="image/x-wmf"/>
  <Override PartName="/ppt/media/image13.jpeg" ContentType="image/jpeg"/>
  <Override PartName="/ppt/media/image5.jpeg" ContentType="image/jpeg"/>
  <Override PartName="/ppt/media/image20.wmf" ContentType="image/x-wmf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7F92E-6B85-4FAF-84B4-FCE63015B817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6BE5E-A7FC-4E49-B6A5-5995EF2F37A4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79F03-7C15-4465-AFEC-EF16C5F9C4EB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1221D-0A35-4F08-BD46-EFB690EB1AD8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C1717-D9EF-4DAA-B53C-6969F1963E0D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0A9DD-73AD-49A1-B52B-62F296E1D13C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D38FE-0B94-4EDC-8962-FF1C0BA2E4D6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78768-82C0-4A55-B362-30F81C761535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50DC6-B673-4CC5-B1D3-4DCFEE3BF340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88324-5485-4F1E-ADE2-66D467972648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77B2E-DC16-4146-9714-62412A92E0AD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7F005-A7CB-4F84-B7C3-D72F0396B4A9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0D29D-56C8-467B-9F5E-D8538FE038AF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39182-9EC9-4C6D-AE11-EDCBC300B418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81528-97C7-49FB-8DB0-0F9B5C92B7DA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E9CFB-CE0C-4515-84F9-5F4D9EBA5C16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BFC7-16B0-418D-895D-28CE2F7F1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D4B3-3172-46A0-8B63-0341FC024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145C-4907-4A30-AA73-DE87EEEA2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23A0-29CB-4B34-B595-5A6472659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9D5C2-423E-4466-9994-D7B518349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F710E-1E16-4811-BA13-C11CA3363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EEF42-A9A2-4D1A-9525-F48E83F6D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C4759-7FE0-4CEC-941C-F02893288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2F5CA-DA1A-4DDD-8454-517647817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8EE8C-956E-471A-9B25-9BC426D74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8D1FD-EE48-472B-8D72-D01C4FA9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2DF5-1671-445D-BC03-B7C80FE5B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948F3-9FFD-4006-A959-740ACC3E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CC7D6-6B1E-4FA5-A33C-9F39956F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69FCC-A155-4743-B0A4-3B90775C9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73515-ED2C-4713-9289-158A3E0A2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E9B14-4E2A-4FCD-AB8A-299B027E2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8936-0CE3-4B1A-9E63-5D0E9254D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0AA8-AB3A-48CC-8D51-B5092A54E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3876-F559-49EE-BCFF-B7A426F0D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D30E-9601-45A1-AB78-D6F6C6779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70F0-33B5-4418-9E20-6CAFE999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76A9-282E-456F-8F9E-765A1913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8083-FFDA-4B5A-A86E-F8542F5C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1783B-95FD-4237-B6FC-4EACB4CD9EE9}" type="slidenum">
              <a:rPr b="0" lang="sk-SK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F9ABF-B0E5-4000-A29C-A79ACE4FBCC6}" type="slidenum">
              <a:rPr b="0" lang="sk-SK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844640"/>
            <a:ext cx="914400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Fyziologia zraku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Ján Jakuš</a:t>
            </a: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027" descr="lens"/>
          <p:cNvPicPr/>
          <p:nvPr/>
        </p:nvPicPr>
        <p:blipFill>
          <a:blip r:embed="rId1"/>
          <a:stretch/>
        </p:blipFill>
        <p:spPr>
          <a:xfrm>
            <a:off x="3780000" y="0"/>
            <a:ext cx="2592360" cy="227664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029"/>
          <p:cNvSpPr/>
          <p:nvPr/>
        </p:nvSpPr>
        <p:spPr>
          <a:xfrm>
            <a:off x="3773520" y="3612240"/>
            <a:ext cx="60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r>
              <a:rPr b="1" lang="sk-SK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Lens</a:t>
            </a:r>
            <a:r>
              <a:rPr b="1" lang="sk-SK" sz="10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Rectangle 1030"/>
          <p:cNvSpPr/>
          <p:nvPr/>
        </p:nvSpPr>
        <p:spPr>
          <a:xfrm>
            <a:off x="3740040" y="3613320"/>
            <a:ext cx="3394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900000" y="0"/>
          <a:ext cx="8244000" cy="1401840"/>
        </p:xfrm>
        <a:graphic>
          <a:graphicData uri="http://schemas.openxmlformats.org/drawingml/2006/table">
            <a:tbl>
              <a:tblPr/>
              <a:tblGrid>
                <a:gridCol w="8244000"/>
              </a:tblGrid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Šošovka</a:t>
                      </a:r>
                      <a:endParaRPr b="1" lang="en-US" sz="36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2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1043"/>
          <p:cNvSpPr/>
          <p:nvPr/>
        </p:nvSpPr>
        <p:spPr>
          <a:xfrm>
            <a:off x="0" y="2558520"/>
            <a:ext cx="91440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ŠOŠOVKA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–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LENS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je priehľadná a uložená za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úhovkou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- IRIS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.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á úlohu ohýbať svetelné lúče do jedného miesta na sietnici 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U ochorení oka sp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ô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-sobených teplom alebo UV žiarením, vzniká  ZÁKAL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Šošovky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-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K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atara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k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t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60" name="Picture 1054" descr="NoCataractPhoto"/>
          <p:cNvPicPr/>
          <p:nvPr/>
        </p:nvPicPr>
        <p:blipFill>
          <a:blip r:embed="rId2"/>
          <a:stretch/>
        </p:blipFill>
        <p:spPr>
          <a:xfrm>
            <a:off x="395280" y="5157720"/>
            <a:ext cx="1873080" cy="1700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55" descr="CataractPhoto"/>
          <p:cNvPicPr/>
          <p:nvPr/>
        </p:nvPicPr>
        <p:blipFill>
          <a:blip r:embed="rId3"/>
          <a:stretch/>
        </p:blipFill>
        <p:spPr>
          <a:xfrm>
            <a:off x="3132000" y="5084640"/>
            <a:ext cx="1800360" cy="1773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56" descr="cats"/>
          <p:cNvPicPr/>
          <p:nvPr/>
        </p:nvPicPr>
        <p:blipFill>
          <a:blip r:embed="rId4"/>
          <a:stretch/>
        </p:blipFill>
        <p:spPr>
          <a:xfrm>
            <a:off x="5580000" y="5013360"/>
            <a:ext cx="27338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00000" y="276120"/>
            <a:ext cx="8244000" cy="635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eaeaea"/>
                </a:solidFill>
                <a:latin typeface="Arial"/>
              </a:rPr>
              <a:t>Dúhovka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Dúhovka -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RIS</a:t>
            </a:r>
            <a:r>
              <a:rPr b="1" lang="en-US" sz="30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obsahuje dva svaly- zvierač a dilatátor, reagujúce na osvit: silné svetlo vedie ku zmenšovaniu </a:t>
            </a:r>
            <a:r>
              <a:rPr b="1" lang="sk-SK" sz="3000" spc="-1" strike="noStrike">
                <a:solidFill>
                  <a:srgbClr val="ffff00"/>
                </a:solidFill>
                <a:latin typeface="Arial"/>
              </a:rPr>
              <a:t>zrenice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- </a:t>
            </a:r>
            <a:r>
              <a:rPr b="1" lang="sk-SK" sz="3000" spc="-1" strike="noStrike">
                <a:solidFill>
                  <a:srgbClr val="ffffff"/>
                </a:solidFill>
                <a:latin typeface="Arial"/>
              </a:rPr>
              <a:t>pupily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 ( mió-za</a:t>
            </a:r>
            <a:r>
              <a:rPr b="1" lang="en-US" sz="30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  <a:ea typeface="Arial"/>
              </a:rPr>
              <a:t>,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 slabé svetlo ku jej rozširovaniu (mydri-áza</a:t>
            </a:r>
            <a:r>
              <a:rPr b="1" lang="en-US" sz="30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. Tento tzv. </a:t>
            </a:r>
            <a:r>
              <a:rPr b="1" lang="sk-SK" sz="3000" spc="-1" strike="noStrike">
                <a:solidFill>
                  <a:srgbClr val="ffff00"/>
                </a:solidFill>
                <a:latin typeface="Arial"/>
              </a:rPr>
              <a:t>pupilárny reflex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 sa využíva v anesteziológii a v neurológii na zisťovanie hĺbky anestézie a stavu bdelosti. Dúhovka obsahuje aj </a:t>
            </a:r>
            <a:r>
              <a:rPr b="1" lang="sk-SK" sz="3000" spc="-1" strike="noStrike">
                <a:solidFill>
                  <a:srgbClr val="ffff00"/>
                </a:solidFill>
                <a:latin typeface="Arial"/>
              </a:rPr>
              <a:t>cievy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 a </a:t>
            </a:r>
            <a:r>
              <a:rPr b="1" lang="sk-SK" sz="3000" spc="-1" strike="noStrike">
                <a:solidFill>
                  <a:srgbClr val="ffff00"/>
                </a:solidFill>
                <a:latin typeface="Arial"/>
              </a:rPr>
              <a:t>pigment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, ktorý podmie-ňuje farbu očí</a:t>
            </a:r>
            <a:r>
              <a:rPr b="1" lang="en-US" sz="3000" spc="-1" strike="noStrike">
                <a:solidFill>
                  <a:srgbClr val="eaeaea"/>
                </a:solidFill>
                <a:latin typeface="Arial"/>
              </a:rPr>
              <a:t>.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 Veľa pigmentu = tmavohnedé oči, žiadny pigment = modré oči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64" name="Picture 3" descr="http://www.stlukeseye.com/images/illustrations/EyeExternal.jpg"/>
          <p:cNvPicPr/>
          <p:nvPr/>
        </p:nvPicPr>
        <p:blipFill>
          <a:blip r:embed="rId1"/>
          <a:stretch/>
        </p:blipFill>
        <p:spPr>
          <a:xfrm>
            <a:off x="3238560" y="0"/>
            <a:ext cx="5905440" cy="2276640"/>
          </a:xfrm>
          <a:prstGeom prst="rect">
            <a:avLst/>
          </a:prstGeom>
          <a:ln w="0">
            <a:noFill/>
          </a:ln>
        </p:spPr>
      </p:pic>
      <p:grpSp>
        <p:nvGrpSpPr>
          <p:cNvPr id="165" name="Group 4"/>
          <p:cNvGrpSpPr/>
          <p:nvPr/>
        </p:nvGrpSpPr>
        <p:grpSpPr>
          <a:xfrm>
            <a:off x="0" y="171360"/>
            <a:ext cx="704880" cy="1266840"/>
            <a:chOff x="0" y="171360"/>
            <a:chExt cx="704880" cy="1266840"/>
          </a:xfrm>
        </p:grpSpPr>
        <p:sp>
          <p:nvSpPr>
            <p:cNvPr id="166" name="Rectangle 7"/>
            <p:cNvSpPr/>
            <p:nvPr/>
          </p:nvSpPr>
          <p:spPr>
            <a:xfrm>
              <a:off x="0" y="1266840"/>
              <a:ext cx="70488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67" name="Rectangle 6"/>
            <p:cNvSpPr/>
            <p:nvPr/>
          </p:nvSpPr>
          <p:spPr>
            <a:xfrm>
              <a:off x="85680" y="742680"/>
              <a:ext cx="60012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68" name="Rectangle 5"/>
            <p:cNvSpPr/>
            <p:nvPr/>
          </p:nvSpPr>
          <p:spPr>
            <a:xfrm>
              <a:off x="304920" y="171360"/>
              <a:ext cx="38088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6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792612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Sklovec          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71" name="Picture 4" descr="Vitreous illustration"/>
          <p:cNvPicPr/>
          <p:nvPr/>
        </p:nvPicPr>
        <p:blipFill>
          <a:blip r:embed="rId1"/>
          <a:stretch/>
        </p:blipFill>
        <p:spPr>
          <a:xfrm>
            <a:off x="3419640" y="333360"/>
            <a:ext cx="4176720" cy="280836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5"/>
          <p:cNvSpPr/>
          <p:nvPr/>
        </p:nvSpPr>
        <p:spPr>
          <a:xfrm>
            <a:off x="900000" y="3431160"/>
            <a:ext cx="82440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Sklovec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- Corpus vitreum -  je uložený za šošovkou v zadnej očnej komore. Je tvorený priehľadnou huspeninovou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sklovcovou tekuti-nou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- humor vitreus,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ktorá má viskózno-elastic-ké vlastnosti a podmieňuje okrúhly tvar a elas-ticitu očnej gule.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479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SIETNICA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TINA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obsahuje 2 druhy fotore-ceptotorov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: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TYČINKY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(120 milli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ónov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/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oko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) a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ČAPÍKY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( 6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il</a:t>
            </a:r>
            <a:r>
              <a:rPr b="0" lang="sk-SK" sz="2800" spc="-1" strike="noStrike">
                <a:solidFill>
                  <a:srgbClr val="eaeaea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/ 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oko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), 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a po dve vrstvy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IPO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AR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NYCH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a GANGLIONAR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NYCH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buniek.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Tyčinky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sú citlivejšie na svetlo než Čapíky.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sk-SK" sz="3200" spc="-1" strike="noStrike" u="sng">
                <a:solidFill>
                  <a:srgbClr val="ffff00"/>
                </a:solidFill>
                <a:uFillTx/>
                <a:latin typeface="Arial"/>
              </a:rPr>
              <a:t>Tyčinky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sú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zodpovedné za nočné a čiernobiele videnie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(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kotopické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).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3200" spc="-1" strike="noStrike" u="sng">
                <a:solidFill>
                  <a:srgbClr val="ffff00"/>
                </a:solidFill>
                <a:uFillTx/>
                <a:latin typeface="Arial"/>
              </a:rPr>
              <a:t>Čapíky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za videnie farebné a videnie počas dňa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Fotopické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Žltá škrvna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 - Macula lutea 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je miesto najostrejšieho videnia s obsahom len čapíkov.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Slepá škrvna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optický disk- - tu vychádza z očnej gule optický  nerv a vstupu-jú a vystupujú cievy. Nie sú tu žiadne receptory.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74" name="Picture 1028" descr="http://www.stlukeseye.com/images/illustrations/retina.jpg"/>
          <p:cNvPicPr/>
          <p:nvPr/>
        </p:nvPicPr>
        <p:blipFill>
          <a:blip r:embed="rId1"/>
          <a:stretch/>
        </p:blipFill>
        <p:spPr>
          <a:xfrm>
            <a:off x="3276720" y="0"/>
            <a:ext cx="2590560" cy="1916280"/>
          </a:xfrm>
          <a:prstGeom prst="rect">
            <a:avLst/>
          </a:prstGeom>
          <a:ln w="0">
            <a:noFill/>
          </a:ln>
        </p:spPr>
      </p:pic>
      <p:grpSp>
        <p:nvGrpSpPr>
          <p:cNvPr id="175" name="Group 1029"/>
          <p:cNvGrpSpPr/>
          <p:nvPr/>
        </p:nvGrpSpPr>
        <p:grpSpPr>
          <a:xfrm>
            <a:off x="266760" y="685800"/>
            <a:ext cx="1539360" cy="1533600"/>
            <a:chOff x="266760" y="685800"/>
            <a:chExt cx="1539360" cy="1533600"/>
          </a:xfrm>
        </p:grpSpPr>
        <p:sp>
          <p:nvSpPr>
            <p:cNvPr id="176" name="Rectangle 1033"/>
            <p:cNvSpPr/>
            <p:nvPr/>
          </p:nvSpPr>
          <p:spPr>
            <a:xfrm>
              <a:off x="1436400" y="1631880"/>
              <a:ext cx="36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77" name="Rectangle 1032"/>
            <p:cNvSpPr/>
            <p:nvPr/>
          </p:nvSpPr>
          <p:spPr>
            <a:xfrm>
              <a:off x="266760" y="1244520"/>
              <a:ext cx="500040" cy="12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78" name="Rectangle 1031"/>
            <p:cNvSpPr/>
            <p:nvPr/>
          </p:nvSpPr>
          <p:spPr>
            <a:xfrm>
              <a:off x="820440" y="2119680"/>
              <a:ext cx="959040" cy="9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79" name="Rectangle 1030"/>
            <p:cNvSpPr/>
            <p:nvPr/>
          </p:nvSpPr>
          <p:spPr>
            <a:xfrm>
              <a:off x="458640" y="685800"/>
              <a:ext cx="45072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80" name="Rectangle 1034"/>
          <p:cNvSpPr/>
          <p:nvPr/>
        </p:nvSpPr>
        <p:spPr>
          <a:xfrm>
            <a:off x="0" y="207360"/>
            <a:ext cx="37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Sietnica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600" spc="-1" strike="noStrike">
              <a:solidFill>
                <a:srgbClr val="ffff00"/>
              </a:solidFill>
              <a:latin typeface="Arial"/>
              <a:ea typeface="Times New Roman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0" y="0"/>
            <a:ext cx="867564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Arial"/>
              </a:rPr>
              <a:t>                       </a:t>
            </a:r>
            <a:r>
              <a:rPr b="1" lang="cs-CZ" sz="3600" spc="-1" strike="noStrike">
                <a:solidFill>
                  <a:srgbClr val="ffff00"/>
                </a:solidFill>
                <a:latin typeface="Arial"/>
              </a:rPr>
              <a:t>Očné pozadie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zisťované oftalmoskopicky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3" name="Picture 4" descr="scan0007"/>
          <p:cNvPicPr/>
          <p:nvPr/>
        </p:nvPicPr>
        <p:blipFill>
          <a:blip r:embed="rId1"/>
          <a:stretch/>
        </p:blipFill>
        <p:spPr>
          <a:xfrm>
            <a:off x="395280" y="1413000"/>
            <a:ext cx="84978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Pri prechode lúčov okom 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tieto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na  sietnici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 pre-chádzajú najsk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ô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r cez vrstvy ganglionárnych a bipo-lárnych buniek a až nakoniec  sa dostávajú k tyčin-kám a k čapíkom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. </a:t>
            </a:r>
            <a:br>
              <a:rPr sz="28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Fotopigmenty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uložené v tyčinkách a v čapíkoch  podliehajú vplyvom svetla  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chemickému rozpadu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pri ktorom sa uvoľňujú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elektróny.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Tieto elektróny sú zodpovedné za vznik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GP vo vnútri Ganglionárnych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buniek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AP na  axónoch opúšťajúcich Ganglionárne bunky.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Teda GP a AP nevznikajú v tyčinkách a v ča-píkoch (tieto sú hyperpolarizované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2700360" y="0"/>
            <a:ext cx="12601440" cy="6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Tahoma"/>
              </a:rPr>
              <a:t>                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Rozpad fotopigmentov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Tyčinky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obsahujú fotopigment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odopsin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( 11 cis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retinal-opsine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,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purpurovej farby.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Svetlo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ho rozkladá na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Ops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í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n ( all-trans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retinal opsine) +  1 ele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tr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ó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, a pigment bledne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V  noci alebo pri zavretých očiach, sa 11 cis forma pigmentu obnovuje za katalytického účinku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Vitam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A.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ITAM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Í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je potrebný pre resyntézu rodopsínu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Ak Vit. A chýba v potrave vzniká Šerosleposť -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EMERALOP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IA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Tri druhy Čapíkov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obsahujú fotopigmenty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: Erytrolab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( červená farb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Chlorolab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(zelená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Cyanolab</a:t>
            </a:r>
            <a:r>
              <a:rPr b="1" lang="sk-SK" sz="3200" spc="-1" strike="noStrike">
                <a:solidFill>
                  <a:srgbClr val="993300"/>
                </a:solidFill>
                <a:latin typeface="Arial"/>
              </a:rPr>
              <a:t>,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(modrá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Farebné videnie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(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ELMHOLTZ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OVA-YAUNGOVA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EÓRI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. </a:t>
            </a:r>
            <a:br>
              <a:rPr sz="32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Ľudi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percipujú 3 základné farby (zelenú, červenú, modrú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eaeaea"/>
                </a:solidFill>
                <a:latin typeface="Arial"/>
              </a:rPr>
              <a:t>a množstvo farebných odtieňov. Je to preto, lebo sietnica obsahuje 3 druhy čapíkov s 3 druhmi fotoreceptorov. Normálne farebné videnie nazývame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RICHROM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ÁZIA a ľudí TRICHROMATI.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br>
              <a:rPr sz="2800"/>
            </a:br>
            <a:r>
              <a:rPr b="0" lang="sk-SK" sz="2800" spc="-1" strike="noStrike">
                <a:solidFill>
                  <a:srgbClr val="eaeaea"/>
                </a:solidFill>
                <a:latin typeface="Arial"/>
              </a:rPr>
              <a:t>Ak chýba jeden z 3 čapíkov, hovoríme o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CHROM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ÁZII a Dichromatoch. 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Týchto delíme na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deuteroanopov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úplná strata citlivosti na zelenú farb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,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protanopov 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(strata červenej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,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tritanopov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(</a:t>
            </a:r>
            <a:r>
              <a:rPr b="0" lang="sk-SK" sz="2800" spc="-1" strike="noStrike">
                <a:solidFill>
                  <a:srgbClr val="eaeaea"/>
                </a:solidFill>
                <a:latin typeface="Arial"/>
              </a:rPr>
              <a:t>strata modrej  a žltej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, alebo anomálov </a:t>
            </a:r>
            <a:r>
              <a:rPr b="0" lang="sk-SK" sz="2800" spc="-1" strike="noStrike">
                <a:solidFill>
                  <a:srgbClr val="eaeaea"/>
                </a:solidFill>
                <a:latin typeface="Arial"/>
              </a:rPr>
              <a:t>(čiastočná strata citlivosti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  <a:ea typeface="Arial"/>
              </a:rPr>
              <a:t>. 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Ak </a:t>
            </a:r>
            <a:r>
              <a:rPr b="0" lang="sk-SK" sz="2800" spc="-1" strike="noStrike">
                <a:solidFill>
                  <a:srgbClr val="eaeaea"/>
                </a:solidFill>
                <a:latin typeface="Arial"/>
              </a:rPr>
              <a:t>chýbajú všetky čapíky  hovoríme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ONOCHROM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ÁZII. Farbosleposť je dedičné ochorenie - 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matky ho pren-šajú na svojich synov, dcéry sú zdravé. Najčastejšie - až v 8% sa v populácii stretáme s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deuteranopiou.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163080"/>
            <a:ext cx="9144000" cy="646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komodáci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– 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je proces zaostrenia oka na blízke predmety.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A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komodácia umožňuje zaostriť pohľad zo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Vzdialeného bodu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( nad 6 m od oka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  <a:ea typeface="Arial"/>
              </a:rPr>
              <a:t> do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Blízkeho bodu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(do vzdialenosti niekoľkých cm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, tak aby sme videli predmet ostro.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Počas akomodácie,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sťah m. ciliáris vedie k relaxácii ligament , ktoré držia šošovku. Šošovka sa tak vlastnou elasticitou akoby “ pohne do strán“, zhrubne a nadobud-ne okrúhly tvar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Čím bližšie je predmet pri oku, tým v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ä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čšia musí byť akomodácia.    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Tzv.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refrakčná sila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oka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(lomivosť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sa meria v jednotkách :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DIOPTRI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                                 </a:t>
            </a:r>
            <a:br>
              <a:rPr sz="2800"/>
            </a:b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                                 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D= 1 / f (m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br>
              <a:rPr sz="28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Refrakčná sila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celého oka je cc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59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D,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z toho na rohovku pripadá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3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,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na šošovku asi 16-20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D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sk-SK" sz="4000" spc="-1" strike="noStrike">
                <a:solidFill>
                  <a:srgbClr val="ffff00"/>
                </a:solidFill>
                <a:latin typeface="Tahoma"/>
              </a:rPr>
              <a:t>!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AKOMODÁCIA 1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90" name="Object 4"/>
          <p:cNvGraphicFramePr/>
          <p:nvPr/>
        </p:nvGraphicFramePr>
        <p:xfrm>
          <a:off x="4600440" y="3795840"/>
          <a:ext cx="47628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0440" y="3795840"/>
                    <a:ext cx="4762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Zrak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- je najd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ô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  <a:ea typeface="Arial"/>
              </a:rPr>
              <a:t>ležitejší ľudský zmysel, ktorý zabezpečuje príjem viac než 80% informácií z okolia.</a:t>
            </a:r>
            <a:br>
              <a:rPr sz="3200"/>
            </a:br>
            <a:br>
              <a:rPr sz="32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Adekvátny zrakový podnet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  je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ele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tromag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netic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ké vlnenie fotónov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(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pre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Viditeĺné svetlo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 je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λ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= 380 – 780 nm).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Pr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ltr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afialové svetlo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λ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je pod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 380 nm,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pr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f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račervené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svetlo je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 λ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viac než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780 nm. </a:t>
            </a:r>
            <a:br>
              <a:rPr sz="3200"/>
            </a:br>
            <a:br>
              <a:rPr sz="32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Rýchlosť svetla vo vákuu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 je cca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300 000 km/s.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186 000 m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íl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/s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aeaea"/>
                </a:solidFill>
                <a:latin typeface="Tahoma"/>
              </a:rPr>
              <a:t>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AKOMODÁCIA</a:t>
            </a:r>
            <a:r>
              <a:rPr b="1" lang="sk-SK" sz="4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93" name="Object 4"/>
          <p:cNvGraphicFramePr/>
          <p:nvPr/>
        </p:nvGraphicFramePr>
        <p:xfrm>
          <a:off x="4400640" y="3795840"/>
          <a:ext cx="87624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00640" y="3795840"/>
                    <a:ext cx="87624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Refrakčné chyby: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Ametropie sférické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YOPIA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YPER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METR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PIA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,  PRESBYOPI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.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Ametropie asféric-ké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(ASTIGMATIZMUS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o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rmálne oko j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EMETROPIC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KÉ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s priemero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 = 2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c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. Svetelné lúče sú ohýbané rohovkou a šošovkou a fokusované do žltej škrvny na sietnici. Tam sa vytvár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skutočný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, zmenšený  a obrátený obraz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predmet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Picture 4" descr="eye_emmetrop"/>
          <p:cNvPicPr/>
          <p:nvPr/>
        </p:nvPicPr>
        <p:blipFill>
          <a:blip r:embed="rId1"/>
          <a:stretch/>
        </p:blipFill>
        <p:spPr>
          <a:xfrm>
            <a:off x="2124000" y="3716280"/>
            <a:ext cx="525636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MYOPIA  -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Krátkozrakosť</a:t>
            </a:r>
            <a:r>
              <a:rPr b="1" lang="sk-SK" sz="4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Príčiny: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priemer oka j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&gt;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2,5 cm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, alebo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lomivosť  oka (rohovky a/alebo šošovky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je v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ä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čšia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Preto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</a:rPr>
              <a:t>sa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obraz predmetu vytvár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pred sietnicou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Obraz je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rozmazaný,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človek ma problém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vidieť ostro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vzdia-ené predmety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. Postihnutí sa snažia korigovať chybu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prižmúrením viečok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. Plná korekcia je možná použitím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šošoviek-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rozptyliek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ktoré usmernia svetelné lúče do žltej škrvny na sietnici, alebo laserovou operáciou. S pribúdajúcim vekom sa myopia 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ô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že upraviť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Picture 4" descr="Myopia - Nearsightedness"/>
          <p:cNvPicPr/>
          <p:nvPr/>
        </p:nvPicPr>
        <p:blipFill>
          <a:blip r:embed="rId1"/>
          <a:stretch/>
        </p:blipFill>
        <p:spPr>
          <a:xfrm>
            <a:off x="4464000" y="4581360"/>
            <a:ext cx="468000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Hypermetropia - ďalekozrakosť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Príčiny: buď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j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2.5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m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, alebo lomivosť rohov-ky a /šošovky je malá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Preto s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obraz predmetu vytvára za sietnicou.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Človek má problém vidieť ostro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blízke predmety.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Často sa počas čítania vys-kytuje aj únava očí a bolesti hlavy v záhlaví. Korekcia chyby sa robí nasadením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SPOJNÝCH ŠOŠOVIEK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, ktoré usmernia svetelné lúče do žltej škvrny sietnic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3" name="Picture 4" descr="Fasighted eye - Hyperopia"/>
          <p:cNvPicPr/>
          <p:nvPr/>
        </p:nvPicPr>
        <p:blipFill>
          <a:blip r:embed="rId1"/>
          <a:stretch/>
        </p:blipFill>
        <p:spPr>
          <a:xfrm>
            <a:off x="3995640" y="4005360"/>
            <a:ext cx="3888000" cy="26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42640" y="352080"/>
            <a:ext cx="8001000" cy="608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RESBYOPIA- Starecké videnie –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je druhom ďalekozrakosti - hypermetropie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2400"/>
            </a:b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Je tiež známa ako Syndróm“ krátkych rúk“.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Podstatou chyby je, že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elasticita Šošovky s vekom postupne  klesá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. Preto u ľudí nad 45 rokov, klesá akomodačná sila oka, z dôvodu poklesu  eleasticity šošovky. Takto sa pos-tupne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Blízky bod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vzďaľuje viac a viac od oka a dosiahne hodnoty 45 - 100 - 400 cm. (viď praktiká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  <a:ea typeface="Arial"/>
              </a:rPr>
              <a:t>.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Chyba sa koriguje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spojnými šošov-kami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. 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Astigmatizmu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18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Patrí medzi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Asférické ametropie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Príčinou je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nerovný povrch rohovky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, kto-rá nie je dokonale hladká, ale „hrboľa-tá“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Človek buď nevidí ostro do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diaľky,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alebo na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blízk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Chyba sa koriguje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cylindrickými šošov-kami,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alebo operačne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excimerovým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laser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769644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  </a:t>
            </a:r>
            <a:r>
              <a:rPr b="1" lang="cs-CZ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Refrakčné sférické chyby oka  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08" name="Picture 3" descr="scan0008"/>
          <p:cNvPicPr/>
          <p:nvPr/>
        </p:nvPicPr>
        <p:blipFill>
          <a:blip r:embed="rId1"/>
          <a:stretch/>
        </p:blipFill>
        <p:spPr>
          <a:xfrm>
            <a:off x="755640" y="907920"/>
            <a:ext cx="806436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Object 1027"/>
          <p:cNvGraphicFramePr/>
          <p:nvPr/>
        </p:nvGraphicFramePr>
        <p:xfrm>
          <a:off x="4281480" y="3186000"/>
          <a:ext cx="581040" cy="4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1480" y="3186000"/>
                    <a:ext cx="58104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1066320" y="47592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164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900" spc="-1" strike="noStrike">
                <a:solidFill>
                  <a:srgbClr val="ffff00"/>
                </a:solidFill>
                <a:latin typeface="Verdana"/>
              </a:rPr>
              <a:t>               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900" spc="-1" strike="noStrike">
                <a:solidFill>
                  <a:srgbClr val="ffff00"/>
                </a:solidFill>
                <a:latin typeface="Verdana"/>
              </a:rPr>
              <a:t>                                      </a:t>
            </a:r>
            <a:r>
              <a:rPr b="1" lang="sk-SK" sz="3200" spc="-1" strike="noStrike">
                <a:solidFill>
                  <a:srgbClr val="ffff00"/>
                </a:solidFill>
                <a:latin typeface="Arial Black"/>
              </a:rPr>
              <a:t>Prajem Vám  pekný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 Black"/>
              </a:rPr>
              <a:t>             </a:t>
            </a:r>
            <a:r>
              <a:rPr b="1" lang="sk-SK" sz="3200" spc="-1" strike="noStrike">
                <a:solidFill>
                  <a:srgbClr val="ffff00"/>
                </a:solidFill>
                <a:latin typeface="Arial Black"/>
              </a:rPr>
              <a:t>a  úspešný  deň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ffff00"/>
                </a:solidFill>
                <a:latin typeface="Rockwell Extra Bold"/>
              </a:rPr>
              <a:t>         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2" name="Picture 6" descr="Winter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Tahoma"/>
              </a:rPr>
              <a:t>      </a:t>
            </a:r>
            <a:br>
              <a:rPr sz="4000"/>
            </a:br>
            <a:r>
              <a:rPr b="1" lang="sk-SK" sz="4000" spc="-1" strike="noStrike">
                <a:solidFill>
                  <a:srgbClr val="ffff00"/>
                </a:solidFill>
                <a:latin typeface="Tahoma"/>
              </a:rPr>
              <a:t>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Anatómia oka zvonka: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dúhovka, zrenica, bielko, spojivka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342864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Schopnosť vidieť zabezpečuje systém tzv.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Optického analyzátora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, ktorý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pozostáva z 3 častí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1" lang="sk-SK" sz="3200" spc="-1" strike="noStrike">
                <a:solidFill>
                  <a:srgbClr val="cc9900"/>
                </a:solidFill>
                <a:latin typeface="Arial"/>
              </a:rPr>
              <a:t>Očná guľa, Optické nervy (a nervové dráhy</a:t>
            </a:r>
            <a:r>
              <a:rPr b="1" lang="en-US" sz="3200" spc="-1" strike="noStrike">
                <a:solidFill>
                  <a:srgbClr val="cc9900"/>
                </a:solidFill>
                <a:latin typeface="Arial"/>
                <a:ea typeface="Arial"/>
              </a:rPr>
              <a:t>)</a:t>
            </a:r>
            <a:r>
              <a:rPr b="1" lang="sk-SK" sz="4000" spc="-1" strike="noStrike">
                <a:solidFill>
                  <a:srgbClr val="cc9900"/>
                </a:solidFill>
                <a:latin typeface="Arial"/>
              </a:rPr>
              <a:t>, </a:t>
            </a:r>
            <a:r>
              <a:rPr b="1" lang="sk-SK" sz="3200" spc="-1" strike="noStrike">
                <a:solidFill>
                  <a:srgbClr val="cc9900"/>
                </a:solidFill>
                <a:latin typeface="Arial"/>
              </a:rPr>
              <a:t>zrakový kortex v záhlavovom laloku mozg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4" descr="http://www.stlukeseye.com/images/illustrations/EyeExternal.jpg"/>
          <p:cNvPicPr/>
          <p:nvPr/>
        </p:nvPicPr>
        <p:blipFill>
          <a:blip r:embed="rId1"/>
          <a:stretch/>
        </p:blipFill>
        <p:spPr>
          <a:xfrm>
            <a:off x="684360" y="1052640"/>
            <a:ext cx="4176720" cy="273672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0" y="171360"/>
            <a:ext cx="704880" cy="1266840"/>
            <a:chOff x="0" y="171360"/>
            <a:chExt cx="704880" cy="1266840"/>
          </a:xfrm>
        </p:grpSpPr>
        <p:sp>
          <p:nvSpPr>
            <p:cNvPr id="122" name="Rectangle 8"/>
            <p:cNvSpPr/>
            <p:nvPr/>
          </p:nvSpPr>
          <p:spPr>
            <a:xfrm>
              <a:off x="0" y="1266840"/>
              <a:ext cx="70488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23" name="Rectangle 7"/>
            <p:cNvSpPr/>
            <p:nvPr/>
          </p:nvSpPr>
          <p:spPr>
            <a:xfrm>
              <a:off x="85680" y="742680"/>
              <a:ext cx="60012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24" name="Rectangle 6"/>
            <p:cNvSpPr/>
            <p:nvPr/>
          </p:nvSpPr>
          <p:spPr>
            <a:xfrm>
              <a:off x="304920" y="171360"/>
              <a:ext cx="38088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2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26" name="Group 11"/>
          <p:cNvGrpSpPr/>
          <p:nvPr/>
        </p:nvGrpSpPr>
        <p:grpSpPr>
          <a:xfrm>
            <a:off x="0" y="85680"/>
            <a:ext cx="3762360" cy="1647720"/>
            <a:chOff x="0" y="85680"/>
            <a:chExt cx="3762360" cy="1647720"/>
          </a:xfrm>
        </p:grpSpPr>
        <p:sp>
          <p:nvSpPr>
            <p:cNvPr id="127" name="Rectangle 22"/>
            <p:cNvSpPr/>
            <p:nvPr/>
          </p:nvSpPr>
          <p:spPr>
            <a:xfrm>
              <a:off x="3171960" y="1457280"/>
              <a:ext cx="38088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28" name="Rectangle 21"/>
            <p:cNvSpPr/>
            <p:nvPr/>
          </p:nvSpPr>
          <p:spPr>
            <a:xfrm>
              <a:off x="3162240" y="1162080"/>
              <a:ext cx="4474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29" name="Rectangle 20"/>
            <p:cNvSpPr/>
            <p:nvPr/>
          </p:nvSpPr>
          <p:spPr>
            <a:xfrm>
              <a:off x="3171960" y="866520"/>
              <a:ext cx="59040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0" name="Rectangle 19"/>
            <p:cNvSpPr/>
            <p:nvPr/>
          </p:nvSpPr>
          <p:spPr>
            <a:xfrm>
              <a:off x="3171960" y="542880"/>
              <a:ext cx="43776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1" name="Rectangle 18"/>
            <p:cNvSpPr/>
            <p:nvPr/>
          </p:nvSpPr>
          <p:spPr>
            <a:xfrm>
              <a:off x="3171960" y="247680"/>
              <a:ext cx="45720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2" name="Rectangle 17"/>
            <p:cNvSpPr/>
            <p:nvPr/>
          </p:nvSpPr>
          <p:spPr>
            <a:xfrm>
              <a:off x="0" y="1600200"/>
              <a:ext cx="61884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3" name="Rectangle 16"/>
            <p:cNvSpPr/>
            <p:nvPr/>
          </p:nvSpPr>
          <p:spPr>
            <a:xfrm>
              <a:off x="323640" y="1285920"/>
              <a:ext cx="27612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314280" y="990360"/>
              <a:ext cx="30456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5" name="Rectangle 14"/>
            <p:cNvSpPr/>
            <p:nvPr/>
          </p:nvSpPr>
          <p:spPr>
            <a:xfrm>
              <a:off x="199800" y="685800"/>
              <a:ext cx="428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6" name="Rectangle 13"/>
            <p:cNvSpPr/>
            <p:nvPr/>
          </p:nvSpPr>
          <p:spPr>
            <a:xfrm>
              <a:off x="428400" y="371520"/>
              <a:ext cx="2188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7" name="Rectangle 12"/>
            <p:cNvSpPr/>
            <p:nvPr/>
          </p:nvSpPr>
          <p:spPr>
            <a:xfrm>
              <a:off x="257040" y="85680"/>
              <a:ext cx="35208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38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9" name="Picture 24" descr="Conjunctiva - eye anatomy"/>
          <p:cNvPicPr/>
          <p:nvPr/>
        </p:nvPicPr>
        <p:blipFill>
          <a:blip r:embed="rId2"/>
          <a:stretch/>
        </p:blipFill>
        <p:spPr>
          <a:xfrm>
            <a:off x="5219640" y="1052640"/>
            <a:ext cx="35276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aeaea"/>
                </a:solidFill>
                <a:latin typeface="Tahoma"/>
              </a:rPr>
              <a:t>     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1" lang="sk-SK" sz="4400" spc="-1" strike="noStrike">
                <a:solidFill>
                  <a:srgbClr val="eaeaea"/>
                </a:solidFill>
                <a:latin typeface="Tahoma"/>
              </a:rPr>
              <a:t>    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Časti oka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41" name="Object 7"/>
          <p:cNvGraphicFramePr/>
          <p:nvPr/>
        </p:nvGraphicFramePr>
        <p:xfrm>
          <a:off x="4427640" y="3807000"/>
          <a:ext cx="77148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3807000"/>
                    <a:ext cx="7714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280" y="304920"/>
            <a:ext cx="8070840" cy="3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STAVBA OKA- schéma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6" descr="scan4"/>
          <p:cNvPicPr/>
          <p:nvPr/>
        </p:nvPicPr>
        <p:blipFill>
          <a:blip r:embed="rId1"/>
          <a:stretch/>
        </p:blipFill>
        <p:spPr>
          <a:xfrm>
            <a:off x="395280" y="981000"/>
            <a:ext cx="853272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193320"/>
            <a:ext cx="8077320" cy="635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Očná guľa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 ( </a:t>
            </a:r>
            <a:r>
              <a:rPr b="1" lang="sk-SK" sz="3600" spc="-1" strike="noStrike">
                <a:solidFill>
                  <a:srgbClr val="eaeaea"/>
                </a:solidFill>
                <a:latin typeface="Arial"/>
              </a:rPr>
              <a:t>okrúhly tvar s 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d = 2.5 cm)</a:t>
            </a:r>
            <a:r>
              <a:rPr b="1" lang="sk-SK" sz="3600" spc="-1" strike="noStrike">
                <a:solidFill>
                  <a:srgbClr val="eaeaea"/>
                </a:solidFill>
                <a:latin typeface="Arial"/>
              </a:rPr>
              <a:t>. </a:t>
            </a:r>
            <a:r>
              <a:rPr b="1" i="1" lang="sk-SK" sz="3600" spc="-1" strike="noStrike">
                <a:solidFill>
                  <a:srgbClr val="eaeaea"/>
                </a:solidFill>
                <a:latin typeface="Arial"/>
              </a:rPr>
              <a:t>Pozostáva z 3 častí (zvonka dovnútra</a:t>
            </a:r>
            <a:r>
              <a:rPr b="1" i="1" lang="en-US" sz="36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i="1" lang="sk-SK" sz="3600" spc="-1" strike="noStrike">
                <a:solidFill>
                  <a:srgbClr val="eaeaea"/>
                </a:solidFill>
                <a:latin typeface="Arial"/>
                <a:ea typeface="Arial"/>
              </a:rPr>
              <a:t>: </a:t>
            </a:r>
            <a:r>
              <a:rPr b="1" i="1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1" i="1" lang="sk-SK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eaeaea"/>
                </a:solidFill>
                <a:latin typeface="Arial"/>
              </a:rPr>
              <a:t>bielko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é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a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1" lang="sk-SK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cievovka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(chorioidea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sk-SK" sz="3600" spc="-1" strike="noStrike">
                <a:solidFill>
                  <a:srgbClr val="eaeaea"/>
                </a:solidFill>
                <a:latin typeface="Arial"/>
              </a:rPr>
              <a:t>.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sietnica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(retina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,</a:t>
            </a:r>
            <a:r>
              <a:rPr b="1" i="1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br>
              <a:rPr sz="3600"/>
            </a:br>
            <a:r>
              <a:rPr b="1" i="1" lang="sk-SK" sz="3600" spc="-1" strike="noStrike">
                <a:solidFill>
                  <a:srgbClr val="eaeaea"/>
                </a:solidFill>
                <a:latin typeface="Arial"/>
              </a:rPr>
              <a:t>a z 2 druhov tekutín:</a:t>
            </a:r>
            <a:br>
              <a:rPr sz="3600"/>
            </a:b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komorový mok</a:t>
            </a:r>
            <a:r>
              <a:rPr b="1" lang="sk-SK" sz="3600" spc="-1" strike="noStrike">
                <a:solidFill>
                  <a:srgbClr val="eaeaea"/>
                </a:solidFill>
                <a:latin typeface="Arial"/>
              </a:rPr>
              <a:t> -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humor aquens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, vypľňuje prednú očnú komoru </a:t>
            </a:r>
            <a:r>
              <a:rPr b="1" lang="sk-SK" sz="3600" spc="-1" strike="noStrike">
                <a:solidFill>
                  <a:srgbClr val="eaeaea"/>
                </a:solidFill>
                <a:latin typeface="Arial"/>
              </a:rPr>
              <a:t>a </a:t>
            </a:r>
            <a:r>
              <a:rPr b="1" lang="sk-SK" sz="3600" spc="-1" strike="noStrike">
                <a:solidFill>
                  <a:srgbClr val="eaeaea"/>
                </a:solidFill>
                <a:latin typeface="Arial"/>
                <a:ea typeface="Arial"/>
              </a:rPr>
              <a:t>sklovcová tekutina -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vitreus humor</a:t>
            </a:r>
            <a:r>
              <a:rPr b="1" lang="sk-SK" sz="3600" spc="-1" strike="noStrike">
                <a:solidFill>
                  <a:srgbClr val="eaeaea"/>
                </a:solidFill>
                <a:latin typeface="Arial"/>
              </a:rPr>
              <a:t>, vyplňuje zadnú očnú komoru.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8244000" cy="479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Bielko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kléra: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tenká v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ä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  <a:ea typeface="Arial"/>
              </a:rPr>
              <a:t>zivová vrstva, ktorá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 vpredu prechádza v priehľadnú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Rohovku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RNEA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. Má najvyšiu schop-nosť ohýbať svetelné lúče-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optickú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lomi-vosť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, obsahuje receptory bolesti, neobsa-huje cievy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.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Za rohovkou je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Predná očná komora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vyplnená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vodnatým komorovým mokom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(humor aquens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  <a:ea typeface="Arial"/>
              </a:rPr>
              <a:t>. Tento vytvára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vnútroočný tlak,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  <a:ea typeface="Arial"/>
              </a:rPr>
              <a:t> hodnotou cca 2,66 kPa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8" name="Picture 1027" descr="http://www.stlukeseye.com/images/illustrations/EyeExternal.jpg"/>
          <p:cNvPicPr/>
          <p:nvPr/>
        </p:nvPicPr>
        <p:blipFill>
          <a:blip r:embed="rId1"/>
          <a:stretch/>
        </p:blipFill>
        <p:spPr>
          <a:xfrm>
            <a:off x="2124000" y="333360"/>
            <a:ext cx="42847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8077320" cy="617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Cievovka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Cievovka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- chorioidea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je medzi sklérou a retinou.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Obsahuje početné cievy s fun-ciou vyživovacou. Vpredu prechádza cievovka do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Vráskovcového telesa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0" name="Picture 1028" descr="Choroid illustration"/>
          <p:cNvPicPr/>
          <p:nvPr/>
        </p:nvPicPr>
        <p:blipFill>
          <a:blip r:embed="rId1"/>
          <a:stretch/>
        </p:blipFill>
        <p:spPr>
          <a:xfrm>
            <a:off x="3492360" y="0"/>
            <a:ext cx="381636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1027" descr="CiliaryBody"/>
          <p:cNvPicPr/>
          <p:nvPr/>
        </p:nvPicPr>
        <p:blipFill>
          <a:blip r:embed="rId1"/>
          <a:stretch/>
        </p:blipFill>
        <p:spPr>
          <a:xfrm>
            <a:off x="539640" y="333360"/>
            <a:ext cx="7740720" cy="285264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1030"/>
          <p:cNvSpPr/>
          <p:nvPr/>
        </p:nvSpPr>
        <p:spPr>
          <a:xfrm>
            <a:off x="765000" y="5838840"/>
            <a:ext cx="2857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3" name="Picture 1028" descr="CiliaryBody"/>
          <p:cNvPicPr/>
          <p:nvPr/>
        </p:nvPicPr>
        <p:blipFill>
          <a:blip r:embed="rId2"/>
          <a:stretch/>
        </p:blipFill>
        <p:spPr>
          <a:xfrm>
            <a:off x="-3571920" y="-382680"/>
            <a:ext cx="2228760" cy="1324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4" name=""/>
          <p:cNvGraphicFramePr/>
          <p:nvPr/>
        </p:nvGraphicFramePr>
        <p:xfrm>
          <a:off x="0" y="3429000"/>
          <a:ext cx="9144000" cy="43592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3078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ráskovcové teleso-</a:t>
                      </a:r>
                      <a:r>
                        <a:rPr b="1" lang="sk-SK" sz="3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rpus ciliare </a:t>
                      </a:r>
                      <a:r>
                        <a:rPr b="1" lang="sk-SK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sa-huje akomodačný SVAL -</a:t>
                      </a:r>
                      <a:r>
                        <a:rPr b="1" lang="sk-SK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. ciliaris</a:t>
                      </a:r>
                      <a:r>
                        <a:rPr b="1" lang="sk-SK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,</a:t>
                      </a:r>
                      <a:r>
                        <a:rPr b="0" lang="sk-SK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sk-SK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podpor-né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GAMENT</a:t>
                      </a:r>
                      <a:r>
                        <a:rPr b="1" lang="sk-SK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Á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Zonul</a:t>
                      </a:r>
                      <a:r>
                        <a:rPr b="1" lang="sk-SK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</a:t>
                      </a: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),</a:t>
                      </a:r>
                      <a:r>
                        <a:rPr b="1" lang="sk-SK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ktoré fixujú ŠOŠOV-KU -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ENS</a:t>
                      </a:r>
                      <a:r>
                        <a:rPr b="1" lang="sk-SK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r>
                        <a:rPr b="0" lang="sk-SK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e štruktúry su významné pre</a:t>
                      </a:r>
                      <a:r>
                        <a:rPr b="1" lang="sk-SK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AKOMODÁCIU oka </a:t>
                      </a:r>
                      <a:r>
                        <a:rPr b="1" lang="sk-SK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.j. schopnosť oka zaostriť na blízke predmety.</a:t>
                      </a:r>
                      <a:endParaRPr b="1" lang="en-US" sz="32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81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11:04:02Z</dcterms:created>
  <dc:creator>Jakus</dc:creator>
  <dc:description/>
  <dc:language>en-US</dc:language>
  <cp:lastModifiedBy>Veronika Slováček Hagenová</cp:lastModifiedBy>
  <dcterms:modified xsi:type="dcterms:W3CDTF">2021-03-04T08:42:48Z</dcterms:modified>
  <cp:revision>609</cp:revision>
  <dc:subject/>
  <dc:title>Úvod</dc:title>
</cp:coreProperties>
</file>