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38.gif" ContentType="image/gif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9FE-7C62-4FE9-9CEC-D0142763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319-39B2-41E5-8D0F-A24B4B85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4BC-141E-459D-8FEB-BE047487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6AB-3C77-41D2-BB63-14AA8559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699-C5D7-4B5B-A565-AF519081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626-15FD-44D6-B5F8-F7BA27C5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ECB-D9E5-498E-8B83-19A27A22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084-A94F-4277-B78F-834220F4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586-CBE6-4420-BBE0-BB432815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63B-7F42-4A7B-A429-96C81C8A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DA5-76BD-4DAE-9100-E5CF6D09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E66-7089-4CBB-9B32-979C9739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20FC-E5A6-45E9-8492-C766AAEC7E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Hybnosť </a:t>
            </a:r>
            <a:r>
              <a:rPr b="1" lang="sk-SK" sz="3600" spc="-1" strike="noStrike">
                <a:solidFill>
                  <a:srgbClr val="333399"/>
                </a:solidFill>
                <a:latin typeface="Berlin Sans FB Demi"/>
              </a:rPr>
              <a:t>č</a:t>
            </a: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loveka,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svalová kontrak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án Jaku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tograf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ch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sarkomé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arcomere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5905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979640" y="359712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580000" y="359712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6364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4036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708360" y="6405480"/>
            <a:ext cx="144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653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nk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300720" y="4149720"/>
            <a:ext cx="23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ub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979640" y="4581360"/>
            <a:ext cx="71280" cy="2160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908000" y="4941720"/>
            <a:ext cx="287640" cy="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49x38motor-unit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290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 sú izolované spojivovým tkaniv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us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y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neu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st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hujú sa na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äčšinou je v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ckých jednotiek rozličnej veľk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é 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pomal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o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rýchly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a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okohyb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356000" y="4762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67280" y="270828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lo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24360" y="321300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xón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83280" y="68400"/>
            <a:ext cx="216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Nervo-svalová platn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77080" y="5661000"/>
            <a:ext cx="14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valové vlákna (bunk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gure0815"/>
          <p:cNvPicPr/>
          <p:nvPr/>
        </p:nvPicPr>
        <p:blipFill>
          <a:blip r:embed="rId1"/>
          <a:stretch/>
        </p:blipFill>
        <p:spPr>
          <a:xfrm>
            <a:off x="1258920" y="765000"/>
            <a:ext cx="7921440" cy="594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itment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(nábor) mo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ický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jedno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08000" y="1484280"/>
            <a:ext cx="203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úca 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oto-neu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upn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iv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torických jedno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 vyšším prah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40000" y="386064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43280" y="5445000"/>
            <a:ext cx="576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1- nízkoprahová (aktivuje sa 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43280" y="5756400"/>
            <a:ext cx="26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843280" y="6116760"/>
            <a:ext cx="61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3- vysokoprahová (aktivuje sa ne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rotox_10_botox_alternative_info_clip_image001"/>
          <p:cNvPicPr/>
          <p:nvPr/>
        </p:nvPicPr>
        <p:blipFill>
          <a:blip r:embed="rId1"/>
          <a:stretch/>
        </p:blipFill>
        <p:spPr>
          <a:xfrm>
            <a:off x="108000" y="1125360"/>
            <a:ext cx="6408720" cy="5615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084720" y="1052640"/>
            <a:ext cx="30592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synaptic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aktivuje napätím riadené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kaná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v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uly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euro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mite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 (AC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výlučný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transmiter nervo-svalovej platničky – uvolni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synaptic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štrbin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torické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xó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) v motorickom nerve ved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č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platni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Image:Acethylcholine receptor.png"/>
          <p:cNvPicPr/>
          <p:nvPr/>
        </p:nvPicPr>
        <p:blipFill>
          <a:blip r:embed="rId1"/>
          <a:stretch/>
        </p:blipFill>
        <p:spPr>
          <a:xfrm>
            <a:off x="6496200" y="115920"/>
            <a:ext cx="2468520" cy="602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ACh-stick.png"/>
          <p:cNvPicPr/>
          <p:nvPr/>
        </p:nvPicPr>
        <p:blipFill>
          <a:blip r:embed="rId2"/>
          <a:stretch/>
        </p:blipFill>
        <p:spPr>
          <a:xfrm>
            <a:off x="169920" y="1407960"/>
            <a:ext cx="4546440" cy="4469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298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etylch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le:Acetylcholine.svg"/>
          <p:cNvPicPr/>
          <p:nvPr/>
        </p:nvPicPr>
        <p:blipFill>
          <a:blip r:embed="rId3"/>
          <a:stretch/>
        </p:blipFill>
        <p:spPr>
          <a:xfrm>
            <a:off x="324000" y="4883040"/>
            <a:ext cx="4248000" cy="1714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929120" y="57466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4920" y="11592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kotínové recep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synaptickej membrá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rvo-svalove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čk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bunky – 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kanálov – depolariz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notkový platničkov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tenciál -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3884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b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ácie môže náhod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ikulus uvoln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h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tic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ej štrbiny, čo vyvol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atúrny EPS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r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konč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úpln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tential (PP)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tor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ždy dosiah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level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prahovú úroveň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 na svalovej bun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rozšíri pozdĺ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ce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ubulárny systé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alovej bu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ic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551664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vaný (zo synaptickej štrbiny) rozkla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z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action%20potent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5928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6764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63640" y="32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651640" y="371628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506920" y="608040"/>
            <a:ext cx="1513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380360" y="139860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4508640"/>
            <a:ext cx="417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 je zmena membránového potenciálu na plazmatickej membráne bunky, kedy sa stáva vnútro bunky menej negatívne (vonkajšok bunky menej pozitívne) nab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148360" y="4489560"/>
            <a:ext cx="3995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čas depolarizačnej fázy AP sa MP zmení z približne -85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 asi +20 mV. Počas fázy repolarizácie dochádza k postupnému návratu na hodnotu kľudového membránového potenciálu asi -85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227640" y="4149720"/>
            <a:ext cx="151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619280" y="414972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erger8"/>
          <p:cNvPicPr/>
          <p:nvPr/>
        </p:nvPicPr>
        <p:blipFill>
          <a:blip r:embed="rId1"/>
          <a:stretch/>
        </p:blipFill>
        <p:spPr>
          <a:xfrm>
            <a:off x="71280" y="1177920"/>
            <a:ext cx="6301080" cy="5635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14292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Sarkoplazmatické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obklopuj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myofibri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 obsahuje záso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riečn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– tubu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árny systém je cestou pre akčn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otenciál, aby sa tento dostal n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84720" y="1413000"/>
            <a:ext cx="305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ubuloch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iv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pätím riad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a kan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ýchto štruktúr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(prienik) – influx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 intracelul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eh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estor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ého 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– 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ej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1844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92428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rminálne cist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9280" y="3213000"/>
            <a:ext cx="172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 - tub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4076640"/>
            <a:ext cx="19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plazmatické retik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5280" y="522936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92720" y="2205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yo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0" y="3213000"/>
            <a:ext cx="100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5364000" y="386064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364000" y="4797360"/>
            <a:ext cx="115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 lí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365800" y="5589720"/>
            <a:ext cx="11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ren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4292640"/>
            <a:ext cx="1042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5516640"/>
            <a:ext cx="1042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sarkoplaz. retik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66560" y="6323040"/>
            <a:ext cx="17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Uvolnenie Ca ió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484360" y="4869000"/>
            <a:ext cx="104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394668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roteín citlivý na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132000" y="3946680"/>
            <a:ext cx="295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Depolarizovaná 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788000" y="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932360" y="47628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003640" y="1052640"/>
            <a:ext cx="93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a kan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788000" y="1844640"/>
            <a:ext cx="12967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T-tubuly zformované z prliačenia plazmatickej membr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716360" y="292428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arkoplazmatické reti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:SlidingMyofibril.svg"/>
          <p:cNvPicPr/>
          <p:nvPr/>
        </p:nvPicPr>
        <p:blipFill>
          <a:blip r:embed="rId1"/>
          <a:stretch/>
        </p:blipFill>
        <p:spPr>
          <a:xfrm>
            <a:off x="142920" y="79200"/>
            <a:ext cx="8858160" cy="6662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79280" y="3429000"/>
            <a:ext cx="60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ál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é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e oko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48000" y="3141720"/>
            <a:ext cx="115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lax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933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kontrah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STNOSTI S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5480" y="98100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a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e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che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ne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mechanickú prácu - pohy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ove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ho tkaniva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ciu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cia (skrát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citabil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hopnosť odpoveda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 tkanivo môže by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káln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 chemickými podne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ic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užnos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y obsahuj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ast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, ktoré zabezpečujú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ch pružnosť (návrat do pôvodnej dĺžk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oztiahnu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 je možné natiahnuť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ší, než je jeho kľudov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aly môžu len ťaha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e tlači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ile:Myofilament.svg"/>
          <p:cNvPicPr/>
          <p:nvPr/>
        </p:nvPicPr>
        <p:blipFill>
          <a:blip r:embed="rId1"/>
          <a:stretch/>
        </p:blipFill>
        <p:spPr>
          <a:xfrm>
            <a:off x="108000" y="2565360"/>
            <a:ext cx="889308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24000" y="26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sa de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-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tenké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-ových (hrub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pomyoz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kľ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krý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obné mi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5280" y="248616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enký 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227640" y="263052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myoz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16360" y="407052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n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96000" y="4508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zín hrubého fi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canImage95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9280" y="333360"/>
            <a:ext cx="842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ní sa t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po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, ktor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dkryje väzobné m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íne aktínového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vyžaduje aj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 uvolnenie ohnut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 hláv z väzb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 aktínu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ich vyrovnanie je potreb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ozín hydrolyzu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ATP (rozkladá ho na ADP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á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čim získa energ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ycle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1280" y="71280"/>
            <a:ext cx="88934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ým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TP p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tom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a s aktí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rovn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á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krač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 neustá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an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umpou – ATP-ázo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zad do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(a T-tubulo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udržuje vysoká jeho uvolňovaním z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u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lšími akčnými potenciá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tropomyozín vráti do tva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orý blok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ové miesta aktínového vlákna – zastavenie kontrak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eďže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P nevyhnutné na 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u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 – 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 : RIGOR MOR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uscleTimeGraph"/>
          <p:cNvPicPr/>
          <p:nvPr/>
        </p:nvPicPr>
        <p:blipFill>
          <a:blip r:embed="rId1"/>
          <a:stretch/>
        </p:blipFill>
        <p:spPr>
          <a:xfrm>
            <a:off x="0" y="-27000"/>
            <a:ext cx="673272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64000" y="11592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výšen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racel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a koncentr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uvolnené zo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opla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trvá dlhš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ež akčný poten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dlhšie trvá jednotkové svalové tr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4508640"/>
            <a:ext cx="8424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eďže má kostrový sv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rátk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refr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tórnu periód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čný potenciál n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rozšíri z 1 nervo-svalovej platničky pozdĺž celej membrány,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U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to na úrovni uvolňovan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superpozície svalových trhnut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59280" y="620640"/>
            <a:ext cx="273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14141"/>
                </a:solidFill>
                <a:latin typeface="Arial"/>
              </a:rPr>
              <a:t>Svalov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4895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alové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rh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lnitý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úpln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tanus.gif"/>
          <p:cNvPicPr/>
          <p:nvPr/>
        </p:nvPicPr>
        <p:blipFill>
          <a:blip r:embed="rId1"/>
          <a:stretch/>
        </p:blipFill>
        <p:spPr>
          <a:xfrm>
            <a:off x="216000" y="4000680"/>
            <a:ext cx="8748720" cy="2741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twitch_mc.gif"/>
          <p:cNvPicPr/>
          <p:nvPr/>
        </p:nvPicPr>
        <p:blipFill>
          <a:blip r:embed="rId2"/>
          <a:stretch/>
        </p:blipFill>
        <p:spPr>
          <a:xfrm>
            <a:off x="5153040" y="260280"/>
            <a:ext cx="3859200" cy="388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Tetanická kontrakcia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 – motorická jednotka je stimulovaná vysokou frekvenciou akčných potenciálov z príslušného motoneurón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Čas medzi stimulmi je kratší než svalové trhnutie – málo času na relaxáci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Sila kontrakcie sa zvyšuje – pridáva sa k predchádzajúcim trhnutiam - maximálna 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kontrakc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38920" y="76500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596360" y="2276640"/>
            <a:ext cx="15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zometrick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946920" y="3789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3640" y="189000"/>
            <a:ext cx="79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92720" y="1916280"/>
            <a:ext cx="647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3203640" y="6345360"/>
            <a:ext cx="180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ABKEOFa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39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ABKEOFb"/>
          <p:cNvPicPr/>
          <p:nvPr/>
        </p:nvPicPr>
        <p:blipFill>
          <a:blip r:embed="rId2"/>
          <a:stretch/>
        </p:blipFill>
        <p:spPr>
          <a:xfrm>
            <a:off x="5148360" y="1692360"/>
            <a:ext cx="34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ABKEOFc"/>
          <p:cNvPicPr/>
          <p:nvPr/>
        </p:nvPicPr>
        <p:blipFill>
          <a:blip r:embed="rId3"/>
          <a:stretch/>
        </p:blipFill>
        <p:spPr>
          <a:xfrm>
            <a:off x="179280" y="3649680"/>
            <a:ext cx="3600720" cy="3044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3995640" y="3571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ofrekvenčné stimu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čné potenciá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volaj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c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hnu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724360" y="494172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komplet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924360" y="5950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ple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ý (hladký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331"/>
          <p:cNvPicPr/>
          <p:nvPr/>
        </p:nvPicPr>
        <p:blipFill>
          <a:blip r:embed="rId1"/>
          <a:stretch/>
        </p:blipFill>
        <p:spPr>
          <a:xfrm>
            <a:off x="0" y="0"/>
            <a:ext cx="7812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12000" y="115920"/>
            <a:ext cx="313200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Zhr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svalove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3520" y="180720"/>
            <a:ext cx="814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rovnanie vlastností kostrového, srdcového a hladkého sv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39680"/>
          <a:ext cx="9144000" cy="5747040"/>
        </p:xfrm>
        <a:graphic>
          <a:graphicData uri="http://schemas.openxmlformats.org/drawingml/2006/table">
            <a:tbl>
              <a:tblPr/>
              <a:tblGrid>
                <a:gridCol w="2560680"/>
                <a:gridCol w="2011320"/>
                <a:gridCol w="2286000"/>
                <a:gridCol w="2286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lastn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str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rdc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ladk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iečna pruhovanosť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latívna rýchlosť 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ak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ýc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tredná rýchl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omal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oluntárna kontro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fraktórna perióda membr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lh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dier v bun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e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ola kontrak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ontánna,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ovo modulova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rmón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atiahnu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unky prepojené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erkalárnymi diskami alebo Gap Junc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ladk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3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dký sval (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c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l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 vnútorných orgánoch a ciev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ne priečne pruh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rstvy pod sliznicami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ávia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uhové vrstvy v stenách ciev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ktery (zvierač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lové vlákna hladkých sval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retenovitý tvar (fuziform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irší v strede a tenší na konc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20-5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er aktínu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6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kostrovom sv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~ 4 : 1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rdcovom sv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16.5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hladkom s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ššia elasticita a schopnosť sa natiahnuť pričom si stále zachovať kontraktilitu v porovnaní s priečne pruhovanými sva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ostr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iečne pruhované svalové tkaniv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ontrolo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matic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ého nervového systém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oluntárna kontr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rdc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špeciálne priečne pruhované svalové tkan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acujúce automatick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pod modulácio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utonómny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vo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ý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tkanivo bez priečneho pruhov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timulované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ómnym nervovým systé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rm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ál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lebo jednoducho natiahnut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7488360" cy="648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15280" y="188640"/>
            <a:ext cx="262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Hladký sval čre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124000" y="189000"/>
            <a:ext cx="3743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uhové vrstvy okolo čreva vykonávajú kontrakciou segment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340000" y="6039000"/>
            <a:ext cx="540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ongitudinálne vrstvy pozdĺž čreva vykonávajú vlnité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268360" y="981000"/>
            <a:ext cx="358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651640" y="620640"/>
            <a:ext cx="3585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195640" y="5805360"/>
            <a:ext cx="30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659640" y="5805360"/>
            <a:ext cx="1836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51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kcia a relaxá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ame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m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ón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neurotransmiter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lie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tkanivo je spojené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u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m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rv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 vo vrstve či zvä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šíri c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a ty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sused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kontrahu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o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 sa môže kontrahova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o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é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ďaka dynamike ión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ná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mak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ým bunk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á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j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trointest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ho tra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Glatte_Muskelzellen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2344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eristalsis"/>
          <p:cNvPicPr/>
          <p:nvPr/>
        </p:nvPicPr>
        <p:blipFill>
          <a:blip r:embed="rId2"/>
          <a:stretch/>
        </p:blipFill>
        <p:spPr>
          <a:xfrm>
            <a:off x="6249960" y="3573360"/>
            <a:ext cx="2760840" cy="302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ile:Gap cell junction en.svg"/>
          <p:cNvPicPr/>
          <p:nvPr/>
        </p:nvPicPr>
        <p:blipFill>
          <a:blip r:embed="rId3"/>
          <a:stretch/>
        </p:blipFill>
        <p:spPr>
          <a:xfrm>
            <a:off x="2268360" y="2592360"/>
            <a:ext cx="3959280" cy="278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6300720" y="4005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300720" y="43070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zifá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300720" y="4594320"/>
            <a:ext cx="136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kontrak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300720" y="508464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 pehltnutá predtý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5516640"/>
            <a:ext cx="1440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relaxova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300720" y="5950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fink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300720" y="616572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Žalúd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020000" y="3429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eristal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P026_smooth_muscle_contraction"/>
          <p:cNvPicPr/>
          <p:nvPr/>
        </p:nvPicPr>
        <p:blipFill>
          <a:blip r:embed="rId1"/>
          <a:stretch/>
        </p:blipFill>
        <p:spPr>
          <a:xfrm>
            <a:off x="3209760" y="2708280"/>
            <a:ext cx="5754960" cy="398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179280" y="8920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iacjednotkový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tonómnym nervovým systémom sú inervované jednotlivé bu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mná kontr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rad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 odpoveď podobne ako pri skeletáln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trachea, elast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ri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Žiad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amiesto neh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od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ul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ný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hladk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ktiež tropomyozín nemá regulačnú funkciu, ako v priečne pruhovaných svalo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začí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reg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-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ivova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v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ké fila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ého sva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sah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es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MuscleCardiacCells"/>
          <p:cNvPicPr/>
          <p:nvPr/>
        </p:nvPicPr>
        <p:blipFill>
          <a:blip r:embed="rId1"/>
          <a:stretch/>
        </p:blipFill>
        <p:spPr>
          <a:xfrm>
            <a:off x="0" y="512640"/>
            <a:ext cx="6095880" cy="5077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rdcov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92720" y="189000"/>
            <a:ext cx="36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rdcov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eľa kratšie bunk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srdcovéh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u sa vetvi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jú spojeni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y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m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chem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poje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á sie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ujú ako cel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51418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e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ob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ie totožné usporiadanie myofilamento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 má kostrov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hé bunky srdcového svalu s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g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n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ajú vo svale, neprichádzajú z nervového systé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rdcový ryt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8000" y="126828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kalárne d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268360" y="126828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572000" y="1341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cy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635280" y="170028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alárne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rdcov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1130400"/>
            <a:ext cx="7273800" cy="3070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2171880"/>
            <a:ext cx="18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junction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ytváraj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topl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st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814160" y="134604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812000" y="1851120"/>
            <a:ext cx="125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t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451640" y="300348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bunko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740720" y="379584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nkov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5280" y="472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myocytoch srdcov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flux N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us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d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va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 uvolne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z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í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iade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n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arkoleme, čo vedie k uvoln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634544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476360" y="260280"/>
            <a:ext cx="6624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2920" y="3233880"/>
            <a:ext cx="19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16360" y="1844640"/>
            <a:ext cx="295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 C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 inicializácia kontrak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372360" y="3500280"/>
            <a:ext cx="18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on z bunky 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236000" y="473220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ľudov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79280" y="572616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80000" y="5726160"/>
            <a:ext cx="15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File:Pacemaker potential annotate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119700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84360" y="45086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059280" y="1052640"/>
            <a:ext cx="453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ce-makerový“ 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859280" y="458136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164360" y="464652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0" descr="634540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2356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b66"/>
                </a:solidFill>
                <a:latin typeface="Arial"/>
              </a:rPr>
              <a:t>and its relation to the EC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0" y="595008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lhotrvajúci akčný potenciál – dlhá refraktórna peri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iadna časová sumácia - žiadna tetanická kon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15920"/>
            <a:ext cx="6696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 jeho vzťah k EKG kri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640" y="301788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40360" y="3357720"/>
            <a:ext cx="17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repolarizácia 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059280" y="1844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284720" y="2060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waves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ť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tric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mechanic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ra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is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rdcovej a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56360" y="1773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a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859280" y="285264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ľavej k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221440" y="3500280"/>
            <a:ext cx="28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 ľavej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572000" y="51498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995640" y="63752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Image:ECG Principle fast.gif"/>
          <p:cNvPicPr/>
          <p:nvPr/>
        </p:nvPicPr>
        <p:blipFill>
          <a:blip r:embed="rId1"/>
          <a:stretch/>
        </p:blipFill>
        <p:spPr>
          <a:xfrm>
            <a:off x="-36360" y="0"/>
            <a:ext cx="60004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5580000" y="333360"/>
            <a:ext cx="3384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Šírenie 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ej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čné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ciál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oa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t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ani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rdcový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redsien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rioven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tkaniva srdcových komô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o záznamom príslušného EK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pevnený ku kostiam šľa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koľko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ýchlos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drž, ún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ila, veľkosť motorickej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štruktú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lh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iacjadro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ylind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ick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ĺžka niekoľ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a ľudského kostrového sva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- 150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poruje tvar 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ZHRNU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280" y="909360"/>
            <a:ext cx="889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kladné vlastnosti svalov a svalového tkan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strový, srdcový, hladký sval a rozdiely med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svalu a svalovej bunky (myofibrila, sarkomera, aktí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á platnič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cetylcho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ničkov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at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um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valového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ntrakcia svalu, jej kontro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ropo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l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alové trhnut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perpozícia, sumáci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hladk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a viacjednotkový hladký sval, spojenie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junctio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tkaniva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volané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jeh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51960" y="6237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tochem.tamu.edu/MuscleStrucContractswf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oti sebe pôsobiace svaly s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ť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cles-voluntary1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14960" y="508320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nie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kdy úp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ierne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hybu udržovaní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ý po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uscle_structur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360" y="21600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 každý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317080" y="2492280"/>
            <a:ext cx="57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508720" y="5157720"/>
            <a:ext cx="136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627280" y="5157720"/>
            <a:ext cx="273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stáva svalový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alom, ktor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 do šľa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55640" y="5157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ľacha -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génových vlák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920" y="-360"/>
            <a:ext cx="43578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truktúra kostrového sv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76500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80360" y="620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236000" y="1844640"/>
            <a:ext cx="19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172360" y="2492280"/>
            <a:ext cx="97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451640" y="465300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svalov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e001"/>
          <p:cNvPicPr/>
          <p:nvPr/>
        </p:nvPicPr>
        <p:blipFill>
          <a:blip r:embed="rId1"/>
          <a:stretch/>
        </p:blipFill>
        <p:spPr>
          <a:xfrm>
            <a:off x="142920" y="11160"/>
            <a:ext cx="889308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lboká štruktúra kostrov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356000" y="501336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dnotlivé svalové vlá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80000" y="5445000"/>
            <a:ext cx="86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357336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407664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63640" y="30686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556000" y="242100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 vlák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valov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lák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alová bu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ej bu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strov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rdcovéh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ladk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ie signá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točn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i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í 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enká v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sachar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 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novými vlákn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ktorý prechádza do vlákien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ľa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plaz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t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organe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lind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til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 (myofilament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ák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á  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štantn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iekoľk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vané do opakujúcich sa podjednotiek pozdĺ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m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rnym systé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ý vodiv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587640" y="4842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alov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uscle fibres"/>
          <p:cNvPicPr/>
          <p:nvPr/>
        </p:nvPicPr>
        <p:blipFill>
          <a:blip r:embed="rId1"/>
          <a:stretch/>
        </p:blipFill>
        <p:spPr>
          <a:xfrm>
            <a:off x="0" y="0"/>
            <a:ext cx="6804000" cy="569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ile:Myofibril.svg"/>
          <p:cNvPicPr/>
          <p:nvPr/>
        </p:nvPicPr>
        <p:blipFill>
          <a:blip r:embed="rId2"/>
          <a:stretch/>
        </p:blipFill>
        <p:spPr>
          <a:xfrm>
            <a:off x="2411280" y="4941720"/>
            <a:ext cx="6301080" cy="185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780000" y="51120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8000" y="871560"/>
            <a:ext cx="26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plazma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126828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tik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168640"/>
            <a:ext cx="17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364000" y="2492280"/>
            <a:ext cx="18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z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4360" y="458136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88000" y="443700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843280" y="501336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292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300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276720" y="609300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124000" y="623736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140360" y="623268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19640" y="623736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i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11:00Z</dcterms:created>
  <dc:creator>Ivan Poliacek</dc:creator>
  <dc:description/>
  <dc:language>en-US</dc:language>
  <cp:lastModifiedBy>Veronika Slováček Hagenová</cp:lastModifiedBy>
  <dcterms:modified xsi:type="dcterms:W3CDTF">2021-03-04T08:45:03Z</dcterms:modified>
  <cp:revision>264</cp:revision>
  <dc:subject/>
  <dc:title>Snímka 1</dc:title>
</cp:coreProperties>
</file>