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402E3-0C88-497D-8652-C7C5EDC687A4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EB8A4-AB69-4724-A874-282364C5FE47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Zástupný symbol čísla snímky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BD629-8477-419D-9B7D-BB5160F6B42F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CCF2-F6A1-47D1-98C9-EFC0FDF76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8607-1933-40A0-93CF-53CEC4DF1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655A-2E4F-41CE-A96A-BD0147817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8358-3819-42B8-BE72-78ABC3737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2C5C7-F049-4495-B4F8-7E5D017E3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B605B-E6C2-4E70-825A-F2610D6DE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C8B59-1E76-4D67-96C9-A8DA1AAB9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6D156-A1C2-4A5F-8295-740880FF0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E718C-C7C7-4F1A-8219-B0915A5B1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84B1D-09C1-4BF5-858A-83D978D88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20A61-6A86-4C00-982F-D274179D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9C26-0155-4A1C-B48C-8DD954440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1F2E3-C7D9-4D7F-9426-559DFD18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E790C-7536-458C-9BBC-BE35FED0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F4E17-CE38-4D48-9F3F-2A84F791B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0B2D8-A3A4-4A7E-817F-B2D662E41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AEA63-A264-4527-AAA7-849C96F4D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C05F-377B-4158-BB9C-E102EC92D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9E77-C355-4BE2-B7DB-69E489308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16A5-4109-466A-9AD2-A5460203B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960B-CCE8-4603-8BAF-BD9CE348A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8757-DD3F-43A2-95D9-8257A071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45EA-BBE3-4683-8304-427EC341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082E-5DEA-4D66-ADFC-AC7E1659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1AFA2-B40B-4D47-B150-826313249D48}" type="slidenum">
              <a:rPr b="0" lang="sk-SK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D798D-06A5-45E1-A8CE-237C1E275E95}" type="slidenum">
              <a:rPr b="0" lang="sk-SK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844640"/>
            <a:ext cx="914400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Exkrečné funkcie organizmu- fyziologie ledvin</a:t>
            </a:r>
            <a:br>
              <a:rPr sz="2800"/>
            </a:br>
            <a:br>
              <a:rPr sz="2800"/>
            </a:b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Ján Jakuš</a:t>
            </a:r>
            <a:br>
              <a:rPr sz="3600"/>
            </a:br>
            <a:br>
              <a:rPr sz="2800"/>
            </a:br>
            <a:br>
              <a:rPr sz="28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15640" y="115920"/>
            <a:ext cx="75438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Ledviny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836640"/>
            <a:ext cx="88200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Párový orgán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brušnej dutiny, 12x9,5 cm, dobre zásobované artériou a venou s prietokom krvi cca 1250 ml/sec. (cca 23% MV srdc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Stavba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: Zákl. funkčná jednotka je</a:t>
            </a:r>
            <a:r>
              <a:rPr b="1" lang="sk-SK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Nefron</a:t>
            </a:r>
            <a:r>
              <a:rPr b="1" lang="sk-SK" sz="2000" spc="-1" strike="noStrike" u="sng">
                <a:solidFill>
                  <a:srgbClr val="ffffff"/>
                </a:solidFill>
                <a:uFillTx/>
                <a:latin typeface="Arial"/>
              </a:rPr>
              <a:t>-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kôra a  dreň .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1.Kôra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obsahuje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GLOMERULY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( 1,5 mil) s filtračnou plochou cca 1,2 m</a:t>
            </a:r>
            <a:r>
              <a:rPr b="1" lang="sk-SK" sz="2000" spc="-1" strike="noStrike" baseline="30000">
                <a:solidFill>
                  <a:srgbClr val="ffffff"/>
                </a:solidFill>
                <a:latin typeface="Arial"/>
              </a:rPr>
              <a:t>2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a priemerom 300 um</a:t>
            </a:r>
            <a:r>
              <a:rPr b="1" lang="sk-SK" sz="2000" spc="-1" strike="noStrike" u="sng" baseline="30000">
                <a:solidFill>
                  <a:srgbClr val="ffff00"/>
                </a:solidFill>
                <a:uFillTx/>
                <a:latin typeface="Arial"/>
              </a:rPr>
              <a:t>.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2. Dreň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obsahuje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Tubuly</a:t>
            </a:r>
            <a:r>
              <a:rPr b="1" lang="sk-SK" sz="2000" spc="-1" strike="noStrike">
                <a:solidFill>
                  <a:srgbClr val="b8b8ff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Proximálny, Henleho klučku a Distálny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Činnosť ledvin: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Filtrácia krvi a tvorba primárneho moča  v glomeruloch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Rezorbcia vody, solí a látok v tubuloc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Aktívna sekrécia látok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               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(vid obr.s.107-110 Michalský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5" descr="F:\ OPAVA obr. Fyziol\schema lokalizacie nadobliciek.jpg"/>
          <p:cNvPicPr/>
          <p:nvPr/>
        </p:nvPicPr>
        <p:blipFill>
          <a:blip r:embed="rId1"/>
          <a:stretch/>
        </p:blipFill>
        <p:spPr>
          <a:xfrm>
            <a:off x="5219640" y="4008600"/>
            <a:ext cx="3638520" cy="2592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F:\ OPAVA obr. Fyziol\nefron.jpg"/>
          <p:cNvPicPr/>
          <p:nvPr/>
        </p:nvPicPr>
        <p:blipFill>
          <a:blip r:embed="rId2"/>
          <a:stretch/>
        </p:blipFill>
        <p:spPr>
          <a:xfrm>
            <a:off x="936720" y="4005360"/>
            <a:ext cx="39020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sk-SK" sz="24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             </a:t>
            </a:r>
            <a:br>
              <a:rPr sz="24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                    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Tvorba moča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1.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Glomeruly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:</a:t>
            </a:r>
            <a:br>
              <a:rPr sz="2400"/>
            </a:br>
            <a:r>
              <a:rPr b="1" i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Moč primárny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–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tvorí sa ultrafiltráciou (rýchlosť GF= 120 ml/min.)  z krvi glomerulárnych kapilár do Bowmanovho puzdra, v množstve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180 l /24 hod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. (Efektívny filtračný tlak= 11 torr,  Stredný artériový tlak= 50 torr.)</a:t>
            </a:r>
            <a:br>
              <a:rPr sz="1800"/>
            </a:b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Obsahuje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: H</a:t>
            </a:r>
            <a:r>
              <a:rPr b="1" lang="sk-SK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0, Tkan.mok, Glukózu, AK, Kreatinin, Močovinu (bez bielkovín, a krvných buniek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89265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2.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Primárny tubulus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: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Pasívna rezorbcia (až 75% z ultrafiltátu):   H</a:t>
            </a:r>
            <a:r>
              <a:rPr b="1" lang="sk-SK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0 + Na,+ Cl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, Močovina, Bikarbonáty, K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, Ca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+,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fosfáty. Do zost. časti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3. </a:t>
            </a:r>
            <a:r>
              <a:rPr b="1" lang="sk-SK" sz="1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Henleho </a:t>
            </a:r>
            <a:r>
              <a:rPr b="1" lang="sk-SK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klučky (HK)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 prichádza izotonická tekutina, tu sa rezorbuje daľšia H</a:t>
            </a:r>
            <a:r>
              <a:rPr b="1" lang="sk-SK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0 .Vo vzost .časti Henle-ho klučky sa rezorbujú  Cl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, Na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moč je izotonická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Kedze HK a Zberné kanaliky sú v DRENI, ktorá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je hypertonická pracuje tu tzv.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protiprúdový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multiplikačný systém,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úcinkom ktorého sa dalej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moč zahusťuj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4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.Distálny tubulus</a:t>
            </a:r>
            <a:r>
              <a:rPr b="1" lang="sk-SK" sz="1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: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vplyvom hormónov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Aldosteron a Antidiuretického hormonu (ADH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dochádza k sekrécii Kys. močovej, H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, NH</a:t>
            </a:r>
            <a:r>
              <a:rPr b="1" lang="sk-SK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K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, Ca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+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 do tubulu a k 5% rezorbcii H</a:t>
            </a:r>
            <a:r>
              <a:rPr b="1" lang="sk-SK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. Zberné </a:t>
            </a:r>
            <a:r>
              <a:rPr b="1" lang="sk-SK" sz="1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kanáliky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: vstrebávanie H</a:t>
            </a:r>
            <a:r>
              <a:rPr b="1" lang="sk-SK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0 definitívny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Moč je sterilný a izotonický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ká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5" descr="F:\ OPAVA obr. Fyziol\schema tubulov - zmeny osmolality mocu ....jpg"/>
          <p:cNvPicPr/>
          <p:nvPr/>
        </p:nvPicPr>
        <p:blipFill>
          <a:blip r:embed="rId1"/>
          <a:stretch/>
        </p:blipFill>
        <p:spPr>
          <a:xfrm>
            <a:off x="5580000" y="3254400"/>
            <a:ext cx="363528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85672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i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Definitívny moč </a:t>
            </a:r>
            <a:r>
              <a:rPr b="1" lang="sk-SK" sz="2000" spc="-1" strike="noStrike">
                <a:solidFill>
                  <a:srgbClr val="eaeaea"/>
                </a:solidFill>
                <a:latin typeface="Arial"/>
                <a:ea typeface="Arial"/>
              </a:rPr>
              <a:t>-  </a:t>
            </a:r>
            <a:r>
              <a:rPr b="1" lang="sk-SK" sz="1800" spc="-1" strike="noStrike">
                <a:solidFill>
                  <a:srgbClr val="eaeaea"/>
                </a:solidFill>
                <a:latin typeface="Arial"/>
                <a:ea typeface="Arial"/>
              </a:rPr>
              <a:t>v množstve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1,5-2,0 l/ 24 hod</a:t>
            </a:r>
            <a:r>
              <a:rPr b="1" lang="sk-SK" sz="1800" spc="-1" strike="noStrike">
                <a:solidFill>
                  <a:srgbClr val="eaeaea"/>
                </a:solidFill>
                <a:latin typeface="Arial"/>
                <a:ea typeface="Arial"/>
              </a:rPr>
              <a:t>. nazltlej farby (urobilinogén) s ph 5,5, odteká do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ledvinných panvicek </a:t>
            </a:r>
            <a:r>
              <a:rPr b="1" lang="sk-SK" sz="1800" spc="-1" strike="noStrike">
                <a:solidFill>
                  <a:srgbClr val="eaeaea"/>
                </a:solidFill>
                <a:latin typeface="Arial"/>
                <a:ea typeface="Arial"/>
              </a:rPr>
              <a:t>s objemom 5ml, ktoré smerujú moč do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močovodu</a:t>
            </a:r>
            <a:r>
              <a:rPr b="1" lang="sk-SK" sz="1800" spc="-1" strike="noStrike">
                <a:solidFill>
                  <a:srgbClr val="eaeaea"/>
                </a:solidFill>
                <a:latin typeface="Arial"/>
                <a:ea typeface="Arial"/>
              </a:rPr>
              <a:t>( ureter). Uretery sú svalové trubice s dlžkou  35 cm a priemerom cca 7 mm, Transport moča je aktívny dej s rýchlisťou 1-6 cm/sec,  a moč v podobe „močového vretienka odteká do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močového mechúra </a:t>
            </a:r>
            <a:r>
              <a:rPr b="1" lang="sk-SK" sz="1800" spc="-1" strike="noStrike">
                <a:solidFill>
                  <a:srgbClr val="eaeaea"/>
                </a:solidFill>
                <a:latin typeface="Arial"/>
                <a:ea typeface="Arial"/>
              </a:rPr>
              <a:t>a z neho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moč. cestami (uretra -  cm u ženy a 15 cm u muža) von z tela</a:t>
            </a:r>
            <a:br>
              <a:rPr sz="1800"/>
            </a:b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Močový mechúr- </a:t>
            </a:r>
            <a:r>
              <a:rPr b="1" lang="sk-SK" sz="1800" spc="-1" strike="noStrike">
                <a:solidFill>
                  <a:srgbClr val="eaeaea"/>
                </a:solidFill>
                <a:latin typeface="Arial"/>
                <a:ea typeface="Arial"/>
              </a:rPr>
              <a:t>tvorený zo zvazkov hladkej svaloviny so zvieracmi </a:t>
            </a:r>
            <a:br>
              <a:rPr sz="1800"/>
            </a:b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1844640"/>
            <a:ext cx="9036000" cy="5013360"/>
          </a:xfrm>
          <a:prstGeom prst="rect">
            <a:avLst/>
          </a:prstGeom>
          <a:noFill/>
          <a:ln w="9360">
            <a:solidFill>
              <a:srgbClr val="66ccff"/>
            </a:solidFill>
            <a:miter/>
          </a:ln>
        </p:spPr>
        <p:txBody>
          <a:bodyPr anchor="t">
            <a:normAutofit fontScale="92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Funkcie ledvin: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Vylucovanie kyslých katabolitov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            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Regulácia objemu ECT vody v tele, (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Aldost. ADH, Angiotenzin II,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Regulácia AB rovnováh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Regulácia tvorby moč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Polyúria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-nad 2l/den,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oligúria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- 200-600 ml/den,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 anúria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- 0-200ml/de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1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Vplyv na glomeruly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: Angiotenzín II 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(vznika z Reninu tvoreného v oblasti glomerula ledvin) nasledkom je vasokonstrikcia co vedie ku zvýšeniu filtračného tlaku v glomerule ( norma je 55 mmHg) a ku zvýšeniu GF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Vplyv na tubuly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:  Aldosteron-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mineralkortikoid z kory nadobličiek, vedie ku rezorbcii Na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a sekrécii K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ADH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(Vasopresin, Antidiuretický hormon)-  hormon neurohypofýzy, zvyšuje rezorbciu H</a:t>
            </a:r>
            <a:r>
              <a:rPr b="1" lang="sk-SK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O  v dist tubuloch a zberných kanalikoch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ANP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( Atriálny nátriuretický peptid)-vzniká v predsienach srdc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vedie ku vylucovaniu Na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 a ku poklesu T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             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Endoteliny a Kalikrein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– vyzokonstrikcia a vazodilatacia arteriol glomerulov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8675640" cy="6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Parathormón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hormón z prištítnych telies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ok štítnej žlazy Udrzuje hladinu Ca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na 2,25-2,75 mmol/l, robí zpatnu rezorbciu Ca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</a:rPr>
              <a:t>2+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v ledvinách a zvysuje vylučovanie fosfátov</a:t>
            </a:r>
            <a:br>
              <a:rPr sz="18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Prostaglandín PGl2 –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vaz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odilatacia ciev a prekrvenie ledvin</a:t>
            </a:r>
            <a:br>
              <a:rPr sz="1800"/>
            </a:br>
            <a:br>
              <a:rPr sz="1800"/>
            </a:b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( pozri aj Michalský s. 106-112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-306720" y="1628640"/>
            <a:ext cx="945036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ahoma"/>
              </a:rPr>
              <a:t>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66320" y="47592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164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900" spc="-1" strike="noStrike">
                <a:solidFill>
                  <a:srgbClr val="ffff00"/>
                </a:solidFill>
                <a:latin typeface="Verdana"/>
              </a:rPr>
              <a:t>               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900" spc="-1" strike="noStrike">
                <a:solidFill>
                  <a:srgbClr val="ffff00"/>
                </a:solidFill>
                <a:latin typeface="Verdana"/>
              </a:rPr>
              <a:t>                                      </a:t>
            </a:r>
            <a:r>
              <a:rPr b="1" lang="sk-SK" sz="3200" spc="-1" strike="noStrike">
                <a:solidFill>
                  <a:srgbClr val="ffff00"/>
                </a:solidFill>
                <a:latin typeface="Arial Black"/>
              </a:rPr>
              <a:t>Prajem Vám  pekný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 Black"/>
              </a:rPr>
              <a:t>             </a:t>
            </a:r>
            <a:r>
              <a:rPr b="1" lang="sk-SK" sz="3200" spc="-1" strike="noStrike">
                <a:solidFill>
                  <a:srgbClr val="ffff00"/>
                </a:solidFill>
                <a:latin typeface="Arial Black"/>
              </a:rPr>
              <a:t>a  úspešný  deň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ffff00"/>
                </a:solidFill>
                <a:latin typeface="Rockwell Extra Bold"/>
              </a:rPr>
              <a:t>         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11:04:02Z</dcterms:created>
  <dc:creator>Jakus</dc:creator>
  <dc:description/>
  <dc:language>en-US</dc:language>
  <cp:lastModifiedBy>Veronika Slováček Hagenová</cp:lastModifiedBy>
  <dcterms:modified xsi:type="dcterms:W3CDTF">2021-03-04T08:44:22Z</dcterms:modified>
  <cp:revision>727</cp:revision>
  <dc:subject/>
  <dc:title>Úvod</dc:title>
</cp:coreProperties>
</file>