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1A3B-D359-4978-8236-ACFA2043C3A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43CA-4E80-4972-8D66-1295311851B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6BB-1A46-4417-B303-3BFA8ECD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7036-5E41-4CD2-97F5-849BE7A5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66E3-81EB-41F7-9186-5BED851C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191B-1DFA-41AD-9AF8-9EDAE5F4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40A9-CE9A-4925-B2DD-314EE5DE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6BD2-6F79-4365-9448-7EB8BD57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84B0-7A19-4A99-AC6A-E6009C6B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3A12-79B6-4C24-BB39-03F17BB5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6676-20AA-4DAB-9699-3D1F6851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30D9-FFEE-4210-9850-ACEFACD0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6232-7CF4-4857-A76D-8E3880CB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E55C-9518-40BD-A020-A9AD64C9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0FC8-E7BA-44DF-A265-F544A30E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E248-B90B-4DF5-992A-50E860AB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B98F-6AD4-45DF-8EE2-4FFF14F6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8981-E95B-4B2B-AAE6-D02EB99B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35B6-A5DF-4587-B1CB-09978A42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A34-D848-44CD-86A2-C209ECAF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7A77-7DFB-4FDB-A787-F558CA1C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832-7FC6-447D-8A81-7D0B6C97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535F-31FB-458C-AAC7-9D83C126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F596-62BE-496E-9A4F-A67A9F02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131-A9A3-434F-8237-DA848217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3DE-BC15-45E5-A2C4-EE4B6B29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FB35-7A16-4B79-9E48-416792938EF5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E2C0-55D3-4D62-8889-A4874ADD3A16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unkcie gastrointestinálneho traktu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5438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Tráviaci trakt morfológia a funkci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8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Tráviaca trubic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utina ústna,Hltan, Jazyk, Zuby,Jícen, Žalúdok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vanástnik,Tenké črevo, Hrubé črevo, rekt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rídatné orgány tráveni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linné žlazy(3 páry), játra, žlčník,slinivka brušn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Stavb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liznica, podslizničná vrstva,hladká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valovina, pobrušnic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valovi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(vid obr.s.91 Michalsk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Funkci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íjem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pracovanie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strebávanie živín z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emena vstrebaných živí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kladovanie metabolitov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ylučovanie odpadových lát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F:\ OPAVA obr. Fyziol\transport potravy v gastrointestinalnom systeme.jpg"/>
          <p:cNvPicPr/>
          <p:nvPr/>
        </p:nvPicPr>
        <p:blipFill>
          <a:blip r:embed="rId1"/>
          <a:stretch/>
        </p:blipFill>
        <p:spPr>
          <a:xfrm>
            <a:off x="5940360" y="2637000"/>
            <a:ext cx="3240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    </a:t>
            </a:r>
            <a:br>
              <a:rPr sz="4000"/>
            </a:b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Dutina ústna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umožňuje  príjem potravy, jej odhryznutie a rozdrobenie pomocou zubov, premiešavanie jazykom so slinami (hlen-mucín), chemické  tráveni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škrobu: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slinnou alfa – amylázo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a kontrolu fyzikálnych a chemických vlastností ( chuťové receptory jazyka)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nožstvo slín: 2l/deň , pH= 6-7   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7760" y="1700280"/>
            <a:ext cx="8675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olykací refle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dráždením korena jazyka je sústo potravy  zatlačené do jícnu a pohybom priecnej aj pozdĺžnej svaloviny jícnu sa dostane do žalúdka.Centrum reflexu-predlžená miecha, n. IX a 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(Žvýkací reflex, sací reflex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.Žalúdok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obsah 1,5-2 l ,časti :kardia, fundus , pylorus - skladovanie, peristaltické pohyby, mechanické premiešavanie a chemické trávenie potrav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žal. šťavou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(2-3l/deň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Funkcie žal.šťav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HCl, denaturuje bielkoviny,ničí baktér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ení Fe 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na Fe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viaže C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ako CaCl</a:t>
            </a:r>
            <a:r>
              <a:rPr b="1" lang="sk-SK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,aktivuje Pepsin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gen na Pepsín ( tento rozkladá  biekoviny na peptid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yprázdňovanie žalúdk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tzv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Pylorickou pumpo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, vylučovanie natráveniny ( chymusu) do dvanástnika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rogastrický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reflexom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ylorus sa nakrátko uzavrie ,ked sa chym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dostane do dvanástnika a posunie do jejuna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F:\ OPAVA obr. Fyziol\absorpcia zeleza prijateho v potrave.jpg"/>
          <p:cNvPicPr/>
          <p:nvPr/>
        </p:nvPicPr>
        <p:blipFill>
          <a:blip r:embed="rId1"/>
          <a:stretch/>
        </p:blipFill>
        <p:spPr>
          <a:xfrm>
            <a:off x="7524720" y="3716280"/>
            <a:ext cx="17067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</a:t>
            </a:r>
            <a:br>
              <a:rPr sz="36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Duodenum (dvanástnik)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je na začiatku tenkého čreva,pokračzje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jejunom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a konči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leom.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o duodena v miest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aterskej papil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4) sa vlieva žlč cez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ductus choledochus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5) a pankreatická štava  cez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ductus pancrea-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icus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6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.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 I.  Žlč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vori sa v  jatrech  0.8-1 l/den, žlutohnedej farby  usklad-ňuje v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žlčník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7), obsahuje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žlčové kyselin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cholová, deoxycholová), vyzrážajú tuky v (emulgácia).</a:t>
            </a:r>
            <a:br>
              <a:rPr sz="20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24360" y="1773000"/>
            <a:ext cx="945036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2) Bilirubín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produkt žltej farby  z rozpadu Hemoglobínu) ak sa dostane do krvi vzniká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Icter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        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3) Bikarbonát, voda, ió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pH=8,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. Pankreatická štav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: 1-2 l/den, bezfarebná,pH =8,2), obsahuje: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.Proteolytické enzým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 trypsinogén→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trypsí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, chymotrypsinogén→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chy-motrypsi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karboxipeptidáz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elastáza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všetky štiepia bielkovin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a peptidy na aminokyseli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  <a:ea typeface="Tahoma"/>
              </a:rPr>
              <a:t>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Alfa amyláz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krob 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glykogé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I. Pankreatická lipáza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 tuk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na glycerol + Mastné kysel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V. DNK-áza a RNA-áza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a N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+ hlien, alkalická fosfatáza, bikarb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nát etc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F:\ OPAVA obr. Fyziol\pankreas, duodenum a zlcove cesty.jpg"/>
          <p:cNvPicPr/>
          <p:nvPr/>
        </p:nvPicPr>
        <p:blipFill>
          <a:blip r:embed="rId1"/>
          <a:stretch/>
        </p:blipFill>
        <p:spPr>
          <a:xfrm>
            <a:off x="435600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C.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Tenké črevo (duodenum,jejunum,ileum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) - klky obsahujú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é bunk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enterocyty), ktoré tvori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ú šťavu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3l/den, pH =8) s obsahom enzýmov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peptidáz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štiepia peptidy na AK) 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acharázy, maltáz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štiepia oligo- na monosacharidy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ú lipázu.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zorbcia: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cukrov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,( v duodene a jejune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tukov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v jejune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bielkovín , A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od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v ileu a v hrubom čreve) , minerálov a vitamínov.- rezorbované látky  idú do jater na resyntézu  a vznik stavebných látok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ohyby čreva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emiešavajú  a posúvajú tekutý chýmus . Sú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miestne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tam a spat) 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eristaltické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pohyby ( asi 12/min dopredu ku hrubému črevu) 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Aktivácia sympatikovej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časti vegetatívneho NS ( a podanie mediátorov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drenalínu a noradrenalínu)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spomaľujú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pohyby čreva .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Aktivácia parasympatikovej čast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i VNS,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 podanie mediátora Acetylcholínu) </a:t>
            </a:r>
            <a:br>
              <a:rPr sz="2000"/>
            </a:b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zrýchľujú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ohyby čreva.</a:t>
            </a:r>
            <a:br>
              <a:rPr sz="2000"/>
            </a:br>
            <a:r>
              <a:rPr b="1" lang="sk-SK" sz="2200" spc="-1" strike="noStrike" u="sng">
                <a:solidFill>
                  <a:srgbClr val="ffff00"/>
                </a:solidFill>
                <a:uFillTx/>
                <a:latin typeface="Arial"/>
              </a:rPr>
              <a:t>D. Hrubé črevo ( colon</a:t>
            </a:r>
            <a:br>
              <a:rPr sz="2200"/>
            </a:b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servoar stolice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- rezorbcia </a:t>
            </a: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vody</a:t>
            </a:r>
            <a:br>
              <a:rPr sz="2200"/>
            </a:b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E. Rektum-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defekačný reflex</a:t>
            </a:r>
            <a:br>
              <a:rPr sz="2200"/>
            </a:b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Funkce jater-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pozri Michalský </a:t>
            </a:r>
            <a:br>
              <a:rPr sz="2200"/>
            </a:b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s. 97.</a:t>
            </a:r>
            <a:endParaRPr b="1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4" descr="F:\ OPAVA obr. Fyziol\crevny klk - funkcna organizacia.jpg"/>
          <p:cNvPicPr/>
          <p:nvPr/>
        </p:nvPicPr>
        <p:blipFill>
          <a:blip r:embed="rId1"/>
          <a:stretch/>
        </p:blipFill>
        <p:spPr>
          <a:xfrm>
            <a:off x="4529160" y="3789360"/>
            <a:ext cx="45957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4:42Z</dcterms:modified>
  <cp:revision>703</cp:revision>
  <dc:subject/>
  <dc:title>Úvod</dc:title>
</cp:coreProperties>
</file>