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259EE-6B7F-4F34-BE3B-5B73D16091F8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9BFA7-D5A5-400F-81B7-DAC9D79DD84F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4020-DF5A-4C82-8499-DC10BFC9F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D1A4-4E48-484D-9D48-59582E2CB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82DB-47B9-4337-A758-5A0ED09D2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692B-57C0-4692-9958-279E986AE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CCB75-FD29-40E8-A968-F08DDEEBC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AAD31-BC4A-4F77-8780-23371A52E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C05F0-2643-44DC-BA74-E77029847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E8088-3EC5-4A85-9FB3-9268EE89A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64F5D-9E2D-4C30-B876-5A63AA4C6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191BD-BCED-4507-BE67-EEA802CEC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A8CBC-43E1-4D41-A458-26914B623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1875-5392-4254-8EDC-353945D29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5207E-0020-49D3-BDD3-0A671B35B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604EC-18F3-4FF7-B203-DDE45EF5E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C8E71-4EAE-409D-A4DE-9619DFAD0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7CCBE-2EFB-43EE-81C0-9D0CCF535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14E13-5A09-448E-A6A2-2017B1305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E059-291D-46E6-86DE-605FF3BAC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CB75-94D4-4989-91FC-38E184CBD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C25F-C90A-4C0C-8FB1-335AA6E51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267E-BFB3-477A-88A9-0E0D81EBA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05A1-A4BB-4257-ADEB-0E7F2B6BA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8436-970E-4AF1-AFA1-4B4A3C525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70A8-8269-4C28-8AD3-637ADC09D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FD206-FB41-4412-9204-07753287C913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43840" y="501840"/>
                  <a:ext cx="43128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40360" y="264600"/>
                  <a:ext cx="8096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40200" y="1404720"/>
                  <a:ext cx="2710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59640"/>
                  <a:ext cx="29016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84360" y="194760"/>
                  <a:ext cx="2872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8DF0C-E1D7-4212-B46E-F59D448A11EF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0920" y="907920"/>
            <a:ext cx="7574040" cy="216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990000"/>
                </a:solidFill>
                <a:latin typeface="Comic Sans MS"/>
              </a:rPr>
              <a:t>RIZIKA PODNIKÁNÍ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00000" y="4868640"/>
            <a:ext cx="78487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doc. Ing. Pavlína PELLEŠOVÁ, Ph.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Členění rizik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4428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hmotné riziko – zpravidla se dá měřit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nehmotné riziko – označované jako psychologické riziko, souvisí spíše s duševní činnost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čisté riziko – má vždy negativní dopad a manažer se mu snaží vyhnout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pekulativní riziko – podstupuje podnik záměrně s vidinou zisku z rizika, neexistuje na ně pojištěn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ystematické riziko – nedá se žádným způsobem regulovat, vztahuje se k více projektům, plyne z celkového ekonomického vývoje a postihuje všechny subjekty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nesystematické riziko – váže se k jednomu projektu/subjektu, nebo k určité skupině projektů a je na ostatních nezávislé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jistitelné a nepojistitelné riziko – uplatňuje se tam, kde je možné přenést riziko za úplatu na třetí osobu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trategické riziko – můžeme najít v činnosti strategického managementu a odpovídá na otázku „co se má dělat“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operační riziko – je součást operačního managementu a jeho rozhodování v otázce „jak se to má dělat“.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Členění rizik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116000" y="92520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obecná rizika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 -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zemětřesení, požáry, výbuch plynu, protržení přehradních hrází, zavalení silnic a železnic, zřícení budov, poškození energetických sítí, povodně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izika související s podnikatelskou činností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–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dodržení podmínek smlouvy, s ohledem na kvalitu a parametry produkt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dodržení dohodnutého termínu dodávky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 případě rizika poskytovatele jde o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převzetí produktu ze strany objednavatele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uhrazení kupní ceny, případně neuhrazení v pož.termín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izika vyplývající z nedostatečné odbornosti provádění některých činností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riziko nesprávného odhadu budoucího vývoje  a riziko nepřímých důsledků porušování předpisů upravujících podnikání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dnocení rizik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1116000" y="92520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3 fáze analýzy rizika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hodnocení rizika –správná identifikace rizika - znát strategické, taktické a operativní cíle podniku, je vhodné použít Strategickou situační analýzu podniku (vychází z PEST analýzy), nebo lze požít Paretova modelu pěti sil, analýzy pro identifikaci rizik a příležitostí nebo provést analýzu intuitivním způsobem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řízení rizika –tak, aby zajistil proces vedoucí k nastavení cílů, které odpovídají strategickým záměrům, a jsou v souladu s mírou ochoty akceptovat rizika; koncept řízení rizik vychází z 3 typů příčin rizik: riziko založené na nejistotě, riziko založené na příležitosti, riziko založené na ohrožení; rozlišujeme 2 přístupy k řízení rizik: intuitivní a systémový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informování o riziku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dnocení rizik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116000" y="1557360"/>
            <a:ext cx="6624720" cy="48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rčení faktorů rizika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anovení významnosti faktorů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anovení rizika – to je možné určit přímo číselně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hodnocení rizik a přijetí opatření na jeho snížení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říprava plánu korekčních opatření -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dnocení rizika – 2 typ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1115640" y="1125360"/>
            <a:ext cx="7343640" cy="523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kvalitativní hodnocení rizik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hodnotíme stupnicí rozdělenou na rizika vysoká, střední a nízká či jiné kategorie; hodnocení rizika = rozsah, jaký mohou mít potenciální události na dosažení cílů; existují dvě perspektivy: pravděpodobnost nastoupení/výskytu, dopad; při kvalitativním hodnocení pravděpodobnosti výskytu lze stanovit např. úroveň rizika 1 – téměř jisté, 2 – pravděpodobné, 3 – možné, 4 – nepravděpodobné, 5 – téměř vyloučené; u hodnocení významu vlivu lze stanovit úrovně: 1 – téměř vyloučené, 2 – nepravděpodobné, 3 – možné, 4 – pravděpodobné, 5 – katastrofické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kvantitativní hodnocení rizik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hodnotí se rizika ve finančním vyjádření, tzn., že máme vytvořeny předpoklady pro hodnocení dopadu rizik ve finančním vyjádření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risk managemen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1115640" y="1483920"/>
            <a:ext cx="6769080" cy="48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e zabývá řízením rizik v podnik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měřuje se jak na provozní rizika, i na strategické riziko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 podniku je nezbytné stanovit osobu nebo útvar zodpovědný za risk management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měřuje se na identifikaci a kvantifikaci rizika, analýzu příčin rizika a řízení (zvládnutí) rizik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Model řízení rizi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1115640" y="1341360"/>
            <a:ext cx="7343640" cy="50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izika podnikatelského prostřed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inanční rizika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ocesní rizik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perační rizik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izika informací potřebných pro rozhodová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Systém řízení rizi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115640" y="1483920"/>
            <a:ext cx="6985080" cy="48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  modelu řízení rizik vychází systém řízení rizika -  zahrnuje vzájemně se doplňující činnosti a tvoří cyklu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identifikování rizik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ěření rizik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řešení rizik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eportování o rizicích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ři minimalizaci rizi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115640" y="1125360"/>
            <a:ext cx="7343640" cy="523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získejte plnohodnotné (dostačující) informace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yčerpejte všechny možnosti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roveďte zhodnocení rizik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alokujte na projekt zkušené zaměstnance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zpracujte projektový plán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investujte průběžně – v jednotlivých vývojových fázích projektu, jako jsou průzkum trhu, konstrukční návrh, příprava stanoviště, objednání vybavení, instalace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a zprovoznění vybaven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zabudujte flexibilit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ravidelně kontrolujte vývoj a sledujte informace zvenč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rozložte riziko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1042560" y="2276640"/>
            <a:ext cx="7704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DĚKUJI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ZA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POZORNOST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654192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Comic Sans MS"/>
              </a:rPr>
              <a:t>Struktura přednáš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31640" y="1699920"/>
            <a:ext cx="7124760" cy="436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definovat podnikatelské riziko a faktory,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klasifikovat druhy rizika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identifikace rizika a zhodnocení rizika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roces řízení rizika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obecný model řízení rizika a systém řízení rizika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Riziko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94428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iziko - nejistota výskytu určitých událostí a/nebo jejich následků, které by mohly mít významný dopad na podnikatelské cíle společnosti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atelské riziko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- nebezpečí, že skutečně dosažené hospodářské výsledky podnikatelské činnosti se budou odchylovat od výsledků předpokládaných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zitivní stránka – je spojována s nadějí na úspěch, s uplatněním se na trhu; spojeno s dosahováním lepších výsledků, než předpokládal podnikatelský plán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gativní – projevuje se nebezpečím dosažení horších hospodářských výsledků, než podnikatel předpokládal, vznikem ztráty, v krajním případě bankrotem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Riziko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1341000"/>
            <a:ext cx="69818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ignorovat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- pokud vznikne malá ztráta, kterou je možné bez problémů unést, jedná se o tzv. nepojištěné riziko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akceptovat odpovědnost za výši možného rizika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– podnik má dostatečné vnitřní zdroje k pokrytí případné ztrát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ytvořit bezpečnostní systém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bezpečující únosnou míru rizik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Riziko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ři skupiny investorů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investory s averzí k riziku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investory s neutrálním postojem neb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investory s vysokým sklonem k riziku s očekáváním vysokého výnos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Riziko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stup jak „ovládnout riziko“, je řízení rizika, kroky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ajít faktory, které významně mohou působit na výsledek podnikatelské aktivity, což současně znamená, nezabývat se dopadem méně důležitých faktorů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vantifikovat možné riziko projektu a rozhodnout, zda je projekt i s tímto rizikem realizovatelný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o je třeba udělat, aby se dopad ovlivnitelných faktorů minimalizoval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Řízení rizika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náplň řízení rizika projektu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- kroky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rčení faktoru rizika projekt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anovení významnosti faktoru rizik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anovení rizika projekt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hodnocení rizika projektu a přijetí opatření na jeho snížen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estavování plánu korekčních opatře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Faktory ovlivňující rizik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nější faktory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- politické, finanční, měnové, právní, daňové, sociální, konkurence, dumpingové praktiky zahraniční konkurence, ekonomická recese v odvětví, nesolventnost odběratelů, ztráta dodavatele apod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nitřní faktory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- strategické chyby, problémy růstu podniku, nesolventnost podniku, špatná organizační struktura, jednostranný výběr odběratelů nebo dodavatelů, nízká produktivita, chybně nastavená cena apo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Členění rizik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440" y="1197000"/>
            <a:ext cx="71262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iziko tržní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– riziko spojené s fungováním podniku v určitém vnějším ekonomickém prostřed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iziko specifické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– spojené s fungováním podniku, obvykle se dělí na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ovozní (náklady) a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inanční riziko  (zapojení cizích zdrojů ve financování podniku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9T11:03:34Z</dcterms:created>
  <dc:creator>Pavlína Pellešová</dc:creator>
  <dc:description/>
  <dc:language>en-US</dc:language>
  <cp:lastModifiedBy>pellesova</cp:lastModifiedBy>
  <dcterms:modified xsi:type="dcterms:W3CDTF">2017-09-23T19:30:24Z</dcterms:modified>
  <cp:revision>718</cp:revision>
  <dc:subject/>
  <dc:title>mikro-P1</dc:title>
</cp:coreProperties>
</file>