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2BEF-FEE6-4AAC-8E37-5305ADD2FCC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B329-5D11-431C-A763-30DDFCF6239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AE8A-22B0-4184-B8CC-3EB8D2DD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0B7B-A463-4401-80DD-5F523315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D04A-D0ED-47D8-8898-25C295FA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FEA4-7250-44C9-9360-9F35DFEE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79EB-DDC6-48A8-AC2F-81AA0796D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6406-5A29-42CE-B515-B3245B46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71CA-1631-49E8-ACB3-473B0A30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657C-423D-49D1-8C65-83E629F6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49B8-5F2C-4C7B-8A80-B65FE153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55D1-69BD-44FE-A46B-C428EC0D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7896-24ED-4E6A-8374-2B36F1B3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05BF-2398-4708-BF4A-A2C2EC57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EF0D-9D90-4062-9561-4942B110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288B-4FEE-4A44-ABED-B3AAD659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C9AE-5B27-4800-B3B3-35A274B0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0238-CC09-4783-8E0B-F16FD160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4859-6BDA-42FD-A1E1-67CFD6241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A324-4C04-4A59-A8D3-6638DD22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4C15-994C-4E6A-B796-BAC37B19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652C-FDAE-4D74-94C6-CE9F6CEE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4081-9E39-4CE5-8DC0-36A42153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4CBC-3533-4466-A686-4C1DA0FE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6FB8-C270-42B4-9961-ECAEA517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D0D2-1107-43E9-8818-7615A116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6669-9BEB-4246-8CDC-9E7917905BB5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B363-79DC-4C1F-BCB1-A9AA38413851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ŘÍZENÍ LIDSKÝCH ZDROJŮ V HOTELNICTV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5444640"/>
            <a:ext cx="5472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Pavlína PELLEŠO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rámci jednotlivých činností řízení lidských zdrojů plní manažeři úko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a analýza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zování volných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acovního výkonu a hodnoce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éče o zaměstnan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personálního informačního systém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ktivit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799920"/>
            <a:ext cx="73440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LZ se pro splnění hlavních úkolů zaměřuje n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tivit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pracovní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rganizační rozvoj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pracovních úkolů, pracovních míst a organizačních strukt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personálu organiza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personálního výzkumu a funkčnosti personálního informačního systém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a zaměstnanecké výh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covní vztahy, především pak vztahy s odb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 pracovníků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personálního útva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 katego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personální strategie ve spolupráci s managementem podniku, včetně principů a politiky říz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a respektování pravidel, předpisů a zákon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jištění operativního řízení personál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ojek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informací a vyjedná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r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 -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836640"/>
            <a:ext cx="70567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tráková a kol. (2011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t v podniku prostředí, aby počet a struktura prac. míst byly v dynamickém souladu s počtem a strukturou zaměstnanců, přičemž každé prac. místo musí být obsazené zaměstnancem, který splní požadavky na výkon práce, zároveň prac. místo musí poskytovat zaměstnanci prostor na seberealizaci a při plnění cílů podniku dosáhnout i osobní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ustále rozvíjet lidské zdroje a vytvářet pro ně motivující pracovní a životní podmínky, což přispěje k plnění cíl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at týmy, efektivní styl vedení lidí a zdravé mezilidské vztahy v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836640"/>
            <a:ext cx="7488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áhat podniku přizpůsobovat se různým zájmům zainteresovaných osob - vlastníků, zaměstnanců, odborových organizací, zákazníků, dodavatelů, státní sprá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samospráv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ledovat místní, celostátní i mezinárodní vývoj ovlivňující praxi zaměstnávání osob a interpretovat a objasňovat jeho důsledky pro strategii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zájmu úspěšného fungování podniku poskytovat přímo anebo nepřímo potřeb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611280"/>
            <a:ext cx="784836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nalýza pracovních míst pro stanovení specifických potřeb podniku v oblasti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ognózovaní a plánování potřeby pracovních sil a pokrytí této potřeby. V této souvislosti realizaci průzkumů trhu práce, populačního vývoje a hodnotové orientace lid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hledávání a získávání zaměstnanců potřebných pro plnění úkolů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běr a přijím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rientace a adaptace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Rozmísťovaní zaměstnanců tak, aby byli optimálně využité jejich pracovní schopnosti ve prospěch podniku a pro zvýšení spokojenosti samotných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ání a rozvoj zaměstnanců podniku, aby byli připraveni zvládnout nejen nové požadavky na pracovní místo, ale aby byli připraveni i na změnu svého pracovního zařazení v rámc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programů řízení a rozvoje organizace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vhodných systémů hodnocení pracovního výkonu a postojů k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agendy penzionování a propouště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11280"/>
            <a:ext cx="82818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zpracování a realizaci plánů jejich kariéry, plánů jejich personálního a sociálního rozvoj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odměňov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lupráce mezi podnikem a odbo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systémů projednávání disciplinárních záležitostí a stížností a péče o jejich fungován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podmínek pro tvorbu dobrých mezilidských vztah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programů, které se týkají bezpečnosti a ochrany zdraví zaměstnanců při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sociální práce v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řešení osobních problémů, které by mohly ovlivnit jejich pracovní výk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zabezpečování systému komunikace se zaměstnan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personálního informačního systému, zřizování, aktualizace a uchovávání dokumentů týkajících se jednotlivých zaměstnanců, zpracovávání příslušné statistiky a analýz poskytujících údajovou základnu a pomoc při rozhodovaní, zjišťování názorů a postojů zaměstnanců k aktuálním problémům a záměrům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dodržování zákonů v oblasti práce, zaměstnávaní osob a lidských práv a vytváření dobré zaměstnanecké pověst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činnosti řízení lidských zdroj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Obrázek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1680" y="174600"/>
          <a:ext cx="8964720" cy="6665760"/>
        </p:xfrm>
        <a:graphic>
          <a:graphicData uri="http://schemas.openxmlformats.org/drawingml/2006/table">
            <a:tbl>
              <a:tblPr/>
              <a:tblGrid>
                <a:gridCol w="2519280"/>
                <a:gridCol w="6445440"/>
              </a:tblGrid>
              <a:tr h="280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innosti Ř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Účel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tváření a analýza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ování pracovních úkolů (a souvisejících povinností, pravomocí, odpovědnosti, podmínek a požadavků vykonané práce) a jejich seskupování do prac. míst, zpracování popisů a specifikací pracovních míst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lidsk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potřeby, pokrytí potřeby a pers. rozvoje zaměstnanců, zpracování plánů personálních činnost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volných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nově vytvořených nebo uvolněných prac. míst v organizaci, získání vhodných uchazečů, výběr nejvhodnějších uchazečů, přijímání uchazečů, adaptace přijatých uchazeč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Řízení pracovního výkonu a hodnoce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ěrňování a podněcování zaměstnanců k vykonávání sjednané práce a dosahování požadovaného výkonu pomocí systematického získávání a poskytování zpětné vazby (infce o skutečném výkon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měňová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ňování skutečného výkonu zaměstnanců a stimulace zaměstnanců k dosaže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zdělávání a rozvoj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tváření, prohlubování a rozšiřování schopností zaměstnanců k vykonávání sjednané práce a dosahová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éče o zaměst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ahování příznivých hodnot všech proměnných, které ovlivňují zaměstnance v prac. procesu při vykonávání sjednané práce a dosahování požadovaného výkonu (prac. doba, prac. prostředí, bezpečnost a ochrana zdraví při práci, pracovní vztahy apod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užívání personálního informační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pracování pers. údajů potřebných k plnění povinností vyplývajících z právních předpisů a zabezpečování personální práce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é strategické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560" y="1483920"/>
            <a:ext cx="7488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těchto otáze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ou podnikatelskou filozofii si chce podnik vytvořit, jaké chce mít poslání a jakou roli si přeje hrát na trhu či ve společnost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m pozitivním a negativním vnějším faktorům musí podnik čel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přednosti a nedostatky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ch cílů chce podnik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chce těchto cílů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mezit pojem řízení lidských zdrojů a odlišit od personálního řízen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sat cíle a činnosti řízení lidských zdroj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rakterizovat jednotlivé úkoly řízení lidských zdroj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o řeší ŘLZ nejp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2920" y="836640"/>
            <a:ext cx="74883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míry souladu mezi prac. místy a             pracovníky chce podnik v budoucnu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je současná míra souladu a z ní plynoucí úroveň produktivity práce a osobního rozvoje pracovníků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změny v politice a praktické činnosti jsou nezbytné, aby bylo dosaženou žádoucího souladu mezi pracovními místy a pracovník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lik a jaký druh pracovníků bude podnik potřebov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nabídka PS se perspektivně předpokládá v podniku i mimo něj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potřeba udělat pro pokrytí potřeb pracovníků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413000"/>
            <a:ext cx="81309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ŘLZ) je práce s lidmi takovým způsobem, který vede ke zvýšení výkonnosti podniku při dosažení osobních cílů zaměstnanců. Je záležitostí všech manažerů a vedoucích týmů (Vetráková a kol., 2011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bývá obvykle definováno jako proces dosahování podnikových cílů prostřednictvím získávání, stabilizování, propouštění, rozvoje a optimálního využívání lidského potenciálu (Vochozka, Mulač a kol., 201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836280"/>
            <a:ext cx="820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manažerský přístup k využívání úsilí, schopnosti a oddanosti lidí k vykonávání požadované práce způsobem, který organizaci zajistí perspektivní budoucnost (Watson, 2010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souhrnem metodologií a rozhodování, jejichž cílem je řídit a rozvíjet lidský potenciál ve všech druzích organizací. Řízení lidských zdrojů lze definovat jako proces dosahování podnikových cílů prostřednictvím získávání, stabilizování, propouštění, rozvoje a optimálního využívání lidí v organizaci. Tato definice ukazuje rozdílnost charakteristiky personalistiky, která je „jen“ obsazováním pozic v organizační struktuře a udržování jejich obsazení (Wagnerová a Matusiková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34720" y="3207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a personální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rázek 4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4705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ozdíly a shodné ry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560" y="119700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dosahování strategických cílů organizace vytvářením a uplatňováním strategií lidských zdrojů v souladu se strategií podniku (strategické řízení lidských zdrojů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ispívat k rozvíjení kultury zaměřené na dosahování vysokého výkon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at organizaci talentované, kvalifikované a oddané lid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vytváření pozitivních pracovních vztahů a navozování vzájemné důvěry mezi managementem a zaměstnanc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uplatňování etického přístupu k řízení lid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ý cíl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03280" y="1125360"/>
            <a:ext cx="73440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zajistit, aby byl podnik schopen prostřednictvím lidí úspěšně plnit cíle v oblaste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a rozvoje pracovníků – předvídat a uspokojovat budoucí potřeby pracovních sil, zvyšovat a rozvíjet podstatné schopnosti lidí, potenciál a zaměstnatelnost (příležitost k soustavnému vzdělání a rozvoji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cenění pracovníků – zvyšovat motivaci za oddanost, znalosti, dovednosti, schop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 mezi managementem a pracovníky – vytvářet ovzduší pro udržování dobrých vztahů a důvě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úkoly ŘLZ 5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zařazení správného člověka na správné místo a snažit se o to, aby byl tento člověk neustále připraven přizpůsobovat se měnícím se požadavkům pracovního místa, uplatňuje se tzv. „tailoring“ neboli „šití“ pracovních úkolů a pracovních míst na míru pracovníko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timální využívání prac. sil v podniku - pracovní doby, pracovních schopnost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týmu, efektivního stylu vedení lidí a zdravých mezilidských vztah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ersonální a sociální rozvoj pracovník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držování zákonů v oblasti práce, zaměstnávaní osob a lidských práv a vytváření dobré zaměstnanecké pověsti podn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0-19T20:14:40Z</dcterms:modified>
  <cp:revision>724</cp:revision>
  <dc:subject/>
  <dc:title>mikro-P1</dc:title>
</cp:coreProperties>
</file>