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6AFEC-62D4-431F-B1C2-A5B483F6A10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9A46F-67A6-4367-8E2D-DAC56B3C2D7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CE60-73F1-41BF-835A-77FA3DCFF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6728-7BB8-484F-8907-D21AC5FF5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850A-0A19-4004-8E1C-0570E8891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FAB9-F10D-4E42-B398-6CA05F374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C99B4-8CF7-45A9-BFC9-0E820D6DF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BE341-3315-41C6-A661-6DB830C96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5D209-C8CB-4B5C-9A30-A597EF0BC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B3670-7511-4E6B-A951-6E6C88B81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69AA6-5DE5-46E3-93C8-74E0E55A0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1E076-9BB9-4FC5-8507-2A2742E9C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4C876-39E1-45B1-B5F3-7AB9C05AD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E35D-7731-4734-BA5F-0B07E3538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27DC6-C1B5-4919-9EF4-3E0F012F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C6AFA-04D2-4D37-AC3E-49C67E623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A73AD-D088-4B35-809F-1E8CA44C8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61EEC-498A-4B82-B1ED-F8DF6AFE4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81E2A-0FF1-4B9D-80FD-D250E0027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A1B2-C3EE-4547-9317-4C6C5AC9D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27CF-BD6B-4998-9335-D71C76688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654D-139D-46B0-9BAC-4FD21432E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F9A7-63BA-43C0-B3B3-6327E9821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AFCC-29B1-4AE7-AEED-E1094494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0D62-D829-4540-8FE5-F71A5EE9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B53B-152D-481C-8B19-1C9FFAC0A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A05F3-015D-446E-905B-8BA347220AF3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27CE5-338F-40BA-8A54-CBC61530DC20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920"/>
            <a:ext cx="7574040" cy="21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ŘÍZENÍ LIDSKÝCH ZDROJŮ V HOTELNICTVÍ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76720" y="5444640"/>
            <a:ext cx="54720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Pavlína PELLEŠOVÁ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332000" y="873000"/>
            <a:ext cx="720072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 rámci jednotlivých činností řízení lidských zdrojů plní manažeři úkol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tváření a analýza pracovních mí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ánování lidských zdroj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sazování volných pracovních mí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ízení pracovního výkonu a hodnocení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dměňování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dělávání a rozvoj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éče o zaměstnanc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užívání personálního informačního systém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Aktivity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547640" y="799920"/>
            <a:ext cx="7344000" cy="52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LZ se pro splnění hlavních úkolů zaměřuje n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aktivit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dělávání a rozvoj pracovník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rganizační rozvoj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tváření pracovních úkolů, pracovních míst a organizačních struktu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ování personálu organizac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ování personálního výzkumu a funkčnosti personálního informačního systém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ánování lidských zdroj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dměňování a zaměstnanecké výhod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acovní vztahy, především pak vztahy s odbo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moc pracovníků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personálního útvar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115640" y="1125360"/>
            <a:ext cx="73436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6 kategorií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pracování personální strategie ve spolupráci s managementem podniku, včetně principů a politiky říze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pracování a respektování pravidel, předpisů a zákon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jištění operativního řízení personál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ízení projekt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kytování informací a vyjednává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kytování ra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ŘLZ - 6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547640" y="836640"/>
            <a:ext cx="705672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tráková a kol. (2011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tvářet v podniku prostředí, aby počet a struktura prac. míst byly v dynamickém souladu s počtem a strukturou zaměstnanců, přičemž každé prac. místo musí být obsazené zaměstnancem, který splní požadavky na výkon práce, zároveň prac. místo musí poskytovat zaměstnanci prostor na seberealizaci a při plnění cílů podniku dosáhnout i osobní cí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eustále rozvíjet lidské zdroje a vytvářet pro ně motivující pracovní a životní podmínky, což přispěje k plnění cílů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ovat týmy, efektivní styl vedení lidí a zdravé mezilidské vztahy v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971640" y="836640"/>
            <a:ext cx="748800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máhat podniku přizpůsobovat se různým zájmům zainteresovaných osob - vlastníků, zaměstnanců, odborových organizací, zákazníků, dodavatelů, státní správy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 samospráv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ledovat místní, celostátní i mezinárodní vývoj ovlivňující praxi zaměstnávání osob a interpretovat a objasňovat jeho důsledky pro strategii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 zájmu úspěšného fungování podniku poskytovat přímo anebo nepřímo potřebné služb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ersonální činnost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10920" y="611280"/>
            <a:ext cx="784836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Analýza pracovních míst pro stanovení specifických potřeb podniku v oblasti prác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rognózovaní a plánování potřeby pracovních sil a pokrytí této potřeby. V této souvislosti realizaci průzkumů trhu práce, populačního vývoje a hodnotové orientace lidí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hledávání a získávání zaměstnanců potřebných pro plnění úkolů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ýběr a přijímání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rientace a adaptace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Rozmísťovaní zaměstnanců tak, aby byli optimálně využité jejich pracovní schopnosti ve prospěch podniku a pro zvýšení spokojenosti samotných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zdělávání a rozvoj zaměstnanců podniku, aby byli připraveni zvládnout nejen nové požadavky na pracovní místo, ale aby byli připraveni i na změnu svého pracovního zařazení v rámci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realizace programů řízení a rozvoje organizace prác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prosazování vhodných systémů hodnocení pracovního výkonu a postojů k prá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abezpečování agendy penzionování a propouštění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ersonální činnost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10920" y="611280"/>
            <a:ext cx="828180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moc zaměstnancům při zpracování a realizaci plánů jejich kariéry, plánů jejich personálního a sociálního rozvoj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realizace systémů odměňování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lupráce mezi podnikem a odbory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systémů projednávání disciplinárních záležitostí a stížností a péče o jejich fungování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abezpečování podmínek pro tvorbu dobrých mezilidských vztah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prosazování programů, které se týkají bezpečnosti a ochrany zdraví zaměstnanců při prá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realizace systémů sociální práce v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moc zaměstnancům při řešení osobních problémů, které by mohly ovlivnit jejich pracovní výko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zabezpečování systému komunikace se zaměstnan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personálního informačního systému, zřizování, aktualizace a uchovávání dokumentů týkajících se jednotlivých zaměstnanců, zpracovávání příslušné statistiky a analýz poskytujících údajovou základnu a pomoc při rozhodovaní, zjišťování názorů a postojů zaměstnanců k aktuálním problémům a záměrům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abezpečování dodržování zákonů v oblasti práce, zaměstnávaní osob a lidských práv a vytváření dobré zaměstnanecké pověsti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00000" y="76500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lavní činnosti řízení lidských zdrojů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Obrázek 4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7200720" cy="47512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31680" y="174600"/>
          <a:ext cx="8964720" cy="6665760"/>
        </p:xfrm>
        <a:graphic>
          <a:graphicData uri="http://schemas.openxmlformats.org/drawingml/2006/table">
            <a:tbl>
              <a:tblPr/>
              <a:tblGrid>
                <a:gridCol w="2519280"/>
                <a:gridCol w="6445440"/>
              </a:tblGrid>
              <a:tr h="28008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Činnosti ŘL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Účel činnos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1119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ytváření a analýza pracovních mí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finování pracovních úkolů (a souvisejících povinností, pravomocí, odpovědnosti, podmínek a požadavků vykonané práce) a jejich seskupování do prac. míst, zpracování popisů a specifikací pracovních míst v organizac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559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lánování lidských zdroj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lánování potřeby, pokrytí potřeby a pers. rozvoje zaměstnanců, zpracování plánů personálních činností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83952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bsazování volných pracovních mí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bsazování nově vytvořených nebo uvolněných prac. míst v organizaci, získání vhodných uchazečů, výběr nejvhodnějších uchazečů, přijímání uchazečů, adaptace přijatých uchazečů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1119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Řízení pracovního výkonu a hodnocení zaměstnanc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směrňování a podněcování zaměstnanců k vykonávání sjednané práce a dosahování požadovaného výkonu pomocí systematického získávání a poskytování zpětné vazby (infce o skutečném výkonu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559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dměňování zaměstnanc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ceňování skutečného výkonu zaměstnanců a stimulace zaměstnanců k dosažení požadovaného výkonu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559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zdělávání a rozvoj zaměstnanc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tváření, prohlubování a rozšiřování schopností zaměstnanců k vykonávání sjednané práce a dosahování požadovaného výkonu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1119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éče o zaměstn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sahování příznivých hodnot všech proměnných, které ovlivňují zaměstnance v prac. procesu při vykonávání sjednané práce a dosahování požadovaného výkonu (prac. doba, prac. prostředí, bezpečnost a ochrana zdraví při práci, pracovní vztahy apod.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83952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yužívání personálního informačního systém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Zpracování pers. údajů potřebných k plnění povinností vyplývajících z právních předpisů a zabezpečování personální práce v organizac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</a:tbl>
          </a:graphicData>
        </a:graphic>
      </p:graphicFrame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Obecné strategické říz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042560" y="1483920"/>
            <a:ext cx="748836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ešení těchto otázek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ou podnikatelskou filozofii si chce podnik vytvořit, jaké chce mít poslání a jakou roli si přeje hrát na trhu či ve společnosti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m pozitivním a negativním vnějším faktorům musí podnik čeli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jsou přednosti a nedostatky podniku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ch cílů chce podnik dosáhno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 chce těchto cílů dosáhno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1699920"/>
            <a:ext cx="7124760" cy="43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ymezit pojem řízení lidských zdrojů a odlišit od personálního řízení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psat cíle a činnosti řízení lidských zdrojů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charakterizovat jednotlivé úkoly řízení lidských zdrojů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Co řeší ŘLZ nejprv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402920" y="836640"/>
            <a:ext cx="748836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míry souladu mezi prac. místy a             pracovníky chce podnik v budoucnu dosáhno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á je současná míra souladu a z ní plynoucí úroveň produktivity práce a osobního rozvoje pracovníků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změny v politice a praktické činnosti jsou nezbytné, aby bylo dosaženou žádoucího souladu mezi pracovními místy a pracovníky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lik a jaký druh pracovníků bude podnik potřebova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á nabídka PS se perspektivně předpokládá v podniku i mimo něj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o je potřeba udělat pro pokrytí potřeb pracovníků podniku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LZ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50920" y="1413000"/>
            <a:ext cx="8130960" cy="50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(ŘLZ) je práce s lidmi takovým způsobem, který vede ke zvýšení výkonnosti podniku při dosažení osobních cílů zaměstnanců. Je záležitostí všech manažerů a vedoucích týmů (Vetráková a kol., 2011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bývá obvykle definováno jako proces dosahování podnikových cílů prostřednictvím získávání, stabilizování, propouštění, rozvoje a optimálního využívání lidského potenciálu (Vochozka, Mulač a kol., 2012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2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LZ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78920" y="836280"/>
            <a:ext cx="82090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 manažerský přístup k využívání úsilí, schopnosti a oddanosti lidí k vykonávání požadované práce způsobem, který organizaci zajistí perspektivní budoucnost (Watson, 2010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je souhrnem metodologií a rozhodování, jejichž cílem je řídit a rozvíjet lidský potenciál ve všech druzích organizací. Řízení lidských zdrojů lze definovat jako proces dosahování podnikových cílů prostřednictvím získávání, stabilizování, propouštění, rozvoje a optimálního využívání lidí v organizaci. Tato definice ukazuje rozdílnost charakteristiky personalistiky, která je „jen“ obsazováním pozic v organizační struktuře a udržování jejich obsazení (Wagnerová a Matusiková, 200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34720" y="3207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LZ a personální říz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Obrázek 4" descr=""/>
          <p:cNvPicPr/>
          <p:nvPr/>
        </p:nvPicPr>
        <p:blipFill>
          <a:blip r:embed="rId1"/>
          <a:stretch/>
        </p:blipFill>
        <p:spPr>
          <a:xfrm>
            <a:off x="1835280" y="944640"/>
            <a:ext cx="5470560" cy="5734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ozdíly a shodné rysy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Obrázek 4" descr=""/>
          <p:cNvPicPr/>
          <p:nvPr/>
        </p:nvPicPr>
        <p:blipFill>
          <a:blip r:embed="rId1"/>
          <a:stretch/>
        </p:blipFill>
        <p:spPr>
          <a:xfrm>
            <a:off x="1692360" y="836640"/>
            <a:ext cx="6264360" cy="5832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Cíle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258560" y="1197000"/>
            <a:ext cx="734364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porovat dosahování strategických cílů organizace vytvářením a uplatňováním strategií lidských zdrojů v souladu se strategií podniku (strategické řízení lidských zdrojů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ispívat k rozvíjení kultury zaměřené na dosahování vysokého výkon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ovat organizaci talentované, kvalifikované a oddané lid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silovat o vytváření pozitivních pracovních vztahů a navozování vzájemné důvěry mezi managementem a zaměstnanc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porovat uplatňování etického přístupu k řízení lid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Obecný cíl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403280" y="1125360"/>
            <a:ext cx="734400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 zajistit, aby byl podnik schopen prostřednictvím lidí úspěšně plnit cíle v oblastech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ování a rozvoje pracovníků – předvídat a uspokojovat budoucí potřeby pracovních sil, zvyšovat a rozvíjet podstatné schopnosti lidí, potenciál a zaměstnatelnost (příležitost k soustavnému vzdělání a rozvoji)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cenění pracovníků – zvyšovat motivaci za oddanost, znalosti, dovednosti, schopnost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tah mezi managementem a pracovníky – vytvářet ovzduší pro udržování dobrých vztahů a důvěr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lavní úkoly ŘLZ 5-9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332000" y="873000"/>
            <a:ext cx="720072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silovat o zařazení správného člověka na správné místo a snažit se o to, aby byl tento člověk neustále připraven přizpůsobovat se měnícím se požadavkům pracovního místa, uplatňuje se tzv. „tailoring“ neboli „šití“ pracovních úkolů a pracovních míst na míru pracovníkov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timální využívání prac. sil v podniku - pracovní doby, pracovních schopnost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ování týmu, efektivního stylu vedení lidí a zdravých mezilidských vztah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ersonální a sociální rozvoj pracovníků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držování zákonů v oblasti práce, zaměstnávaní osob a lidských práv a vytváření dobré zaměstnanecké pověsti podnik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10-19T20:14:40Z</dcterms:modified>
  <cp:revision>724</cp:revision>
  <dc:subject/>
  <dc:title>mikro-P1</dc:title>
</cp:coreProperties>
</file>