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DC6D1-8E38-4AB7-B452-DA7F0A8CBAC6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8A41F-E58B-441A-9008-A7CC7E47C8CD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CD338-2086-4C5C-AED9-D17AECEB4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56CF1-2E71-4C21-A990-BC0B9537A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41A01-9997-49E9-AD3C-E15780E63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8FDC4-26EB-4C9B-942B-06B73687A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CADC8-DA01-4E9D-BF85-78081B573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30E1F-1520-4D3E-9C4B-C56542A70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AB30B-5A88-4E1B-94B2-DE8217AC3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A1677-E60B-43A3-BAB1-739406E22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5EB21-E5AB-48BC-817A-42ACF329D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2945E-D36D-4612-9B1C-37E0CFD0D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79292-6936-43E0-8850-4250743D9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4C299-8B8B-4682-9BFA-DA4C7DC00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C818B-8F02-4ED1-8925-0D60B7618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BF8CB-42F2-4066-AB23-D9DCB446E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80BB2-AA13-41BC-A29F-8EC569769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8BBE8-5697-490B-BFBD-1A157D67C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5DF8F-B162-4EC6-BF78-4D3FE52A3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E5816-89B3-48E3-9250-476EC5127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795DD-79B7-4ECD-99CC-169270EC3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1DE89-7B82-4D99-B025-4451D0BE8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01AA0-C2F8-43B8-B83A-45B0BEEEE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65FCB-B763-43DD-B6F8-6ED8D3758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ECA45-086B-432F-89D9-EB94B94EC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E972D-288B-4309-89D4-42FA7B958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349FE-9A22-4AC9-AA7B-82D90741933B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43840" y="501840"/>
                  <a:ext cx="43128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40360" y="264600"/>
                  <a:ext cx="80964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40200" y="1404720"/>
                  <a:ext cx="27108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8320" y="1259640"/>
                  <a:ext cx="29016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84360" y="194760"/>
                  <a:ext cx="28728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520" y="4318920"/>
            <a:ext cx="978120" cy="1158480"/>
            <a:chOff x="7796520" y="4318920"/>
            <a:chExt cx="978120" cy="115848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520" y="4318920"/>
              <a:ext cx="978120" cy="1158480"/>
              <a:chOff x="7796520" y="4318920"/>
              <a:chExt cx="978120" cy="115848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040" y="5064120"/>
                <a:ext cx="93960" cy="9612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200" y="4652280"/>
                <a:ext cx="1058760" cy="49176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3400" y="4758120"/>
                <a:ext cx="749520" cy="2782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480"/>
                <a:ext cx="100080" cy="18612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52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A1F53-8960-4127-B094-D1CF16C4DEDE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10920" y="764640"/>
            <a:ext cx="7574040" cy="324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990000"/>
                </a:solidFill>
                <a:latin typeface="Comic Sans MS"/>
              </a:rPr>
              <a:t>PODNIKÁNÍ                          V HOTELNICTVÍ</a:t>
            </a:r>
            <a:br>
              <a:rPr sz="4000"/>
            </a:br>
            <a:br>
              <a:rPr sz="4000"/>
            </a:br>
            <a:r>
              <a:rPr b="1" lang="cs-CZ" sz="4000" spc="-1" strike="noStrike">
                <a:solidFill>
                  <a:srgbClr val="660033"/>
                </a:solidFill>
                <a:latin typeface="Comic Sans MS"/>
              </a:rPr>
              <a:t>Podnikatelské prostředí v hotelovém průmyslu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00000" y="4868640"/>
            <a:ext cx="784872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doc. Ing. Pavlína PELLEŠOVÁ, Ph.D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70c0"/>
                </a:solidFill>
                <a:latin typeface="Comic Sans MS"/>
              </a:rPr>
              <a:t>Vnější prostředí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85800" y="1197000"/>
            <a:ext cx="7696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ekonomické činitele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-ekonomická situace země, její vývoj, růst ekonomiky, inflační tendence, nezaměstnanost, úroveň příjmů, struktura výdajů ve státním rozpočtu, daňové a celní podmínky, úrokové sazby aj.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technologické činitele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-technologický rozvoj v zemi, zavádění nových technologií, tempo technologických změn, inovační potenciál země aj.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přírodní faktory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- podnebí, přír.zdroje, ŽP, aj.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politickou situaci a její předpokládaný vývoj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legislativní podmínky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Vnější prostředí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jako prostředí zahrnuje veškeré vlivy působící na organizaci z jejího okolí, zahrnuje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zákazníky,     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konkurenty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dodavatelé a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lidské zdroje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70c0"/>
                </a:solidFill>
                <a:latin typeface="Comic Sans MS"/>
              </a:rPr>
              <a:t>Vnější prostředí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685800" y="1197000"/>
            <a:ext cx="7696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Jakubíková  - </a:t>
            </a: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vnější prostředí firmy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makroprostředí a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mikroprostředí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technologie informačních sítí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globalizace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deregulace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privatizace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zvýšená konkurence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konvergence odvětví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přeměna maloobchodu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eliminace prostředníků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kupní síla spotřebitelů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informovanost spotřebitelů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účast spotřebitelů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zdor spotřebitelů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70c0"/>
                </a:solidFill>
                <a:latin typeface="Comic Sans MS"/>
              </a:rPr>
              <a:t>Činitelé okolí podnik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685800" y="1197000"/>
            <a:ext cx="7696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Kučerová, Strašík a Šebová (2010)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mic Sans MS"/>
              </a:rPr>
              <a:t>ekologické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 – kvalita životního prostředí, legislativní úprava v oblasti ochrany ŽP, úroveň environmentálního uvědomění návštěvníků, negativní vlivy znečištění životního prostředí,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mic Sans MS"/>
              </a:rPr>
              <a:t>technologické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 – informační technologie, dopravních technologií, technologií používaných při výrobě jídel a nápojů, technologií používaných při výstavbě a provozu zařízení CR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mic Sans MS"/>
              </a:rPr>
              <a:t>ekonomické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 – například úroveň vývoje ekonomiky státu, míra inflace, vývoj úrokové míry, vývoj HDP, zapojení do integračních procesů, vývoj veřejných financí, úroveň a zaměření státní pomoci, úroveň minimální mzdy, systém sociálního zabezpečení, apod.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mic Sans MS"/>
              </a:rPr>
              <a:t>společensko – politické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 – stabilita politického prostředí, image země, jak země uznávající hodnoty demokracie a svobody, úroveň kriminality a bezpečnosti, úroveň všeobecného zdraví, výskyt etnických, náboženských a rasových konfliktů, hrozba terorizmu, apod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Geografické prostřed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85800" y="1700280"/>
            <a:ext cx="769608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do značné míry předurčuje jeho logistiku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řírodní podmínky, klimatické podmínky, kulturní zvyklosti atd.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kvalita dopravní infrastruktury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sociologické a ekonomické podmínky daného státu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celá řada dalších faktorů a prakticky všechny následující roviny.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440" y="620640"/>
            <a:ext cx="68706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litické prostřed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85800" y="1844280"/>
            <a:ext cx="76960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Nejzávažnější politickou podmínkou je politická stabilita a mír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například politickou kulturu, volební chování a jednání, důvěru obyvatel v politiku a personální vztahy mezi jednotlivými politiky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Důležitou roli hraje i hospodářská politika daného státu, členství v mezinárodních organizacích, členství v EU, programy na podporu podnikání, …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440" y="620640"/>
            <a:ext cx="68706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Ekonomické prostřed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85800" y="1844280"/>
            <a:ext cx="748656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Dostupnost a ceny výrobních faktorů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Daňová zátěž podniků - daňová politika státu u nás hledá cestu mezi dvěma póly - musí zajistit takový daňový výnos a současně nezatížil podniky tak, aby ztratily motivaci k podnikání. Sazby  DPH a spotřební daně působí i na chování spotřebitelů, mají i přímý dopad na poptávku po zbož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Hospodářský růst, měnový a devizový vývoj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K ekonomickému okolí patří také odběratelé (zákazníci) a dodavatelé podniku a finanční instituce (zejména banky)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998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Interakce podniku a okol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85800" y="1197000"/>
            <a:ext cx="748656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ztahy se zákazníky - komunikace prostřednictvím celé řady komunikačních kanálů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ztahy s dodavateli - je možné použít marketingové nástroje (tzv. nákupní marketing), management rozhoduje, zda bude nákup uskutečněn, či nikoliv, nemusí tomu tak však být vždy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ztahy s konkurencí - se vyznačují jistou mírou vzájemné rivality, vzájemné spolupráce, oborové asociace a podobné instituce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ztahy se státní správou a dozorovými orgány, vztahy s místní samosprávou - mohou ovlivnit chod podniku,  dodržení předepsaných postupů, legislativy a  kompetence jednotlivých orgánů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ztahy se širším okolím (neziskový sektor, občanská společnost a další)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7318080" cy="50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7635"/>
                </a:solidFill>
                <a:latin typeface="Comic Sans MS"/>
              </a:rPr>
              <a:t>Hodnocení kvality podnik.prostřed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23640" y="765000"/>
            <a:ext cx="828036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iturka a kol. (2010) šestnáct faktorů - šest skupin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obchodní faktory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- největší význam, tvoří 4 faktory: blízkost trhů, koncentrace významných podniků, přítomnost zahraničních podniků, podpůrné služby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pracovní faktory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- 3 faktory: dostupnost pracovních sil, kvalita pracovních sil a flexibilita pracovních sil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infrastrukturní faktory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- 3 faktory: kvalita silnic a železnic, kvalita informačních a komunikačních technologií, blízkost mezinárodních letišť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lokální faktory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tvoří - podnikové a znalostní báze a  asistence veřejné správy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cenové faktory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ypovídají o úrovni D a S na relevantních trzích, zahrnují faktor ceny práce a faktor ceny nemovitostí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environmentální faktory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ypovídají o specifických stránkách kvality života, které spoluvytvářejí podnikatelské prostředí a zahrnují faktor urbanistické a přírodní atraktivity území a faktor environmentální kvality území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dnikatelské prostřed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685800" y="1700280"/>
            <a:ext cx="769608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hlavní rysy podnikatelského prostředí v ČR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ekonomické a finanční faktor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litické faktor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české legislativní prostředí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polečenské faktor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Zdroje informací pro podnik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685800" y="1197000"/>
            <a:ext cx="7696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Synek, Kislingerová a kol., 2010: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vládní a jiné prognózy střednědobého a krátkodobého vývoje ekonomiky (ekonomický růst, inflace, měnový kurz atd.)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informace produkované zájmovými průmyslovými a podnikatelskými svazy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vlastní historické a prognostické informace o situaci na trhu, cenách, zákaznících a jejich potřebách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informace o vývoji technik a technologie v daném oboru, získané na veletrzích, výstavách, z nabídkových katalogů atd.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informace o situaci v konkurenčních firmách a jeho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očekávaném chování.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782964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7030a0"/>
                </a:solidFill>
                <a:latin typeface="Comic Sans MS"/>
              </a:rPr>
              <a:t>Podmínky absolvování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971280" y="1557360"/>
            <a:ext cx="788508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vypracování sem. práce a její úspěšná obhajoba – 15 b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60% povinná účast na seminářích – 10 b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průběžný test – 15 b, TERMÍN </a:t>
            </a:r>
            <a:r>
              <a:rPr b="1" lang="cs-CZ" sz="2000" spc="-1" strike="noStrike">
                <a:solidFill>
                  <a:srgbClr val="ff0000"/>
                </a:solidFill>
                <a:latin typeface="Comic Sans MS"/>
              </a:rPr>
              <a:t>21.11.2017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písemná zkouška - 60 b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_____________________________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Celkové hodnocení: 100 bodů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1835280" y="4508640"/>
          <a:ext cx="2160360" cy="1957320"/>
        </p:xfrm>
        <a:graphic>
          <a:graphicData uri="http://schemas.openxmlformats.org/drawingml/2006/table">
            <a:tbl>
              <a:tblPr/>
              <a:tblGrid>
                <a:gridCol w="811080"/>
                <a:gridCol w="1349280"/>
              </a:tblGrid>
              <a:tr h="326520">
                <a:tc>
                  <a:txBody>
                    <a:bodyPr lIns="68760" rIns="68760" tIns="0" bIns="0" anchor="t">
                      <a:noAutofit/>
                    </a:bodyPr>
                    <a:p>
                      <a:pPr marL="22860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7030a0"/>
                          </a:solidFill>
                          <a:latin typeface="Comic Sans MS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28600"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7030a0"/>
                          </a:solidFill>
                          <a:latin typeface="Comic Sans MS"/>
                        </a:rPr>
                        <a:t>91-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760" rIns="68760" tIns="0" bIns="0" anchor="t">
                      <a:noAutofit/>
                    </a:bodyPr>
                    <a:p>
                      <a:pPr marL="22860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28600"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1-9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760" rIns="68760" tIns="0" bIns="0" anchor="t">
                      <a:noAutofit/>
                    </a:bodyPr>
                    <a:p>
                      <a:pPr marL="22860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7030a0"/>
                          </a:solidFill>
                          <a:latin typeface="Comic Sans MS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28600"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7030a0"/>
                          </a:solidFill>
                          <a:latin typeface="Comic Sans MS"/>
                        </a:rPr>
                        <a:t>71-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760" rIns="68760" tIns="0" bIns="0" anchor="t">
                      <a:noAutofit/>
                    </a:bodyPr>
                    <a:p>
                      <a:pPr marL="22860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28600"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1-7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760" rIns="68760" tIns="0" bIns="0" anchor="t">
                      <a:noAutofit/>
                    </a:bodyPr>
                    <a:p>
                      <a:pPr marL="22860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7030a0"/>
                          </a:solidFill>
                          <a:latin typeface="Comic Sans MS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28600"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7030a0"/>
                          </a:solidFill>
                          <a:latin typeface="Comic Sans MS"/>
                        </a:rPr>
                        <a:t>51-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760" rIns="68760" tIns="0" bIns="0" anchor="t">
                      <a:noAutofit/>
                    </a:bodyPr>
                    <a:p>
                      <a:pPr marL="22860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c00000"/>
                          </a:solidFill>
                          <a:latin typeface="Comic Sans MS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28600"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c00000"/>
                          </a:solidFill>
                          <a:latin typeface="Comic Sans MS"/>
                        </a:rPr>
                        <a:t>0-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1042560" y="2276640"/>
            <a:ext cx="770436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DĚKUJI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ZA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POZORNOST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1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6" dur="5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1" dur="5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" dur="5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" dur="5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709280" y="115920"/>
            <a:ext cx="6588360" cy="789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7030a0"/>
                </a:solidFill>
                <a:latin typeface="Comic Sans MS"/>
              </a:rPr>
              <a:t>Literatura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1186920" y="904680"/>
            <a:ext cx="7705800" cy="547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RYGLOVÁ, K., BURIAN, M.a I.VAJČNEROVÁ, 2011. Cestovní ruch - podnikatelské přístupy apříležitosti v praxi. Praha: Grada Publishing. ISBN 978-80-247-4039-3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KOSMÁK, P., 2005. Hotelové podnikání a integrační procesy. Praha: VŠH. ISBN 80-86578-50-X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KORÁB, V., PETERKA, J. a M. REŽŇÁKOVÁ, 2007. Podnikatelský plán. Brno: Computer Press. ISBN 978-80-251-1605-0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BERÁNEK, J. Provozujeme pohostinství a ubytování. Praha: Grada Publishing, 2004. ISBN 80-86724-02-6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KOUBEK, J., 2007. Řízení lidských zdrojů - základy moderní personalistiky. Praha: Management Press.ISBN 978-80-7261-168-3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NOVACKÁ, L. a kol.,2013. Cestovný ruch, udržateľnosť a zodpovednosť na medzinárodnom trhu.Bratislava: EKONÓM. ISBN 978-80-225-3475-8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46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70c0"/>
                </a:solidFill>
                <a:latin typeface="Comic Sans MS"/>
              </a:rPr>
              <a:t>Struktura předmětu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85800" y="620640"/>
            <a:ext cx="79819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dnikatelské prostředí v hotelovém průmyslu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dnikání v hotelnictví, podnikavost, integrační procesy v hotelnictví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Charakteristika podnikatelského subjektu, typy a vlastnosti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Základní principy a právní aspekty založení podniku, činnosti podniku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Formy podnikatelských struktur v gastro., hotel. a lázeňství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dnikatelský zámě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Rizika podnikání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rodukt v gastronomii, hotelnictví a lázeňství, jeho vlastnosti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Kvalita produktu, standardy kvality, hodnocení kvality služeb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Řízení lidských zdrojů v hotelnictví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dnikatelská etika a společensky zodpovědné podnikání v podmínkách hotelnictví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Analýza konkurence a formy spolupráce v hotelnictví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dpora podnikání v České republic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332000" y="475920"/>
            <a:ext cx="6541920" cy="93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Comic Sans MS"/>
              </a:rPr>
              <a:t>Struktura přednášk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86920" y="2060640"/>
            <a:ext cx="7269480" cy="400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Podnikatelské prostřed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Vnější prostřed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Hodnocení kvality podnikatelského prostřed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Podnikatelské prostředí v Č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70c0"/>
                </a:solidFill>
                <a:latin typeface="Comic Sans MS"/>
              </a:rPr>
              <a:t>Podnikatelské prostředí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685800" y="981000"/>
            <a:ext cx="76960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Podnikatelské prostředí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jako soubor vnějších faktorů ovlivňujících ekon. postavení, motivaci a chování konkrétních podnikat. subjektů (Vochozka, Mulač a kol., 2012)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dnikatelské prostředí je blíže konkretizováno především zákonodárnými sbory a ministerstvy, orgány státní správy, státem zřízenými nebo státem podporovanými institucemi a agenturami, soudy, orgány veřejné samosprávy, vzdělávacími zařízeními všech typů, výzkumnými a vývojovými pracovišti, subjekty působícími v oblasti peněžnictví, institucemi kapitálového trhu, leasingovými společnostmi, podnikatelskou samosprávou (komory, svazy, asociace, spolky, a další)a poradenskými, zprostředkovatelskými a jinými organizacemi, dále také pochopitelně tržními subjekty, kterými jsou současní a potenciální konkurenti a současní a potenciální spolupracující subjekty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70c0"/>
                </a:solidFill>
                <a:latin typeface="Comic Sans MS"/>
              </a:rPr>
              <a:t>Podnikatelské prostředí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685800" y="981000"/>
            <a:ext cx="76960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Grublová a kol. (2001) - souhrn podstatných vlivů působících jak na podnikatele, tak i na podnik a podnikání. Podnikatelské prostředí tedy zahrnuje vlivy, které působí na soustavnou činnost prováděnou podnikatelem nebo podnikem vlastním jménem a na jeho vlastní zodpovědnost za účelem zhodnocení podnikatelského potenciálu, např. v podobě dosaženého zisku. Vedle složek ek. a přír. v podnikatelském prostředí mají významnou roli i složky nehmotného prostředí (kultura, právo, sociální vztahy, vědecké poznatky apod.)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Ludvík, 2005 - souhrn podstatných vlivů působících na podnikatele, podnik a podnikání.  Podnikatelské prostředí představuje prostředí života podnikatelských subjektů a vztahů s ostatními subjekty. Zároveň je součástí životního prostředí a nedílnou součástí života každého člověka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70c0"/>
                </a:solidFill>
                <a:latin typeface="Comic Sans MS"/>
              </a:rPr>
              <a:t>Podnikatelské prostředí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685800" y="981000"/>
            <a:ext cx="76960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nitřní (interní) podnikatelské prostředí – mikropodnikatelské prostředí je plně v kompetenci podnikatele, je základním stavebním prvkem podnikání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nější (externí) podnikatelské prostředí je vhodné pro účely podnikání rozčlenit do dvou vrstev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nejvzdálenější vrstva – makropodnikatelské prostředí (makroprostředí) – „celkový obal“, celospolečenské podnikatelské klima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druhá vrstva – mezzopodnikatelské prostředí (mezzoprostředí) – je spojena s působením regionálních a místních faktorů, firma ho spoluvytváří, má možnost zasahovat a ovlivňovat ho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70c0"/>
                </a:solidFill>
                <a:latin typeface="Comic Sans MS"/>
              </a:rPr>
              <a:t>Vnější prostředí – okolí podnik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685800" y="980640"/>
            <a:ext cx="769608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nější prostředí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liticko-právn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ekonomické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technologické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ekologické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sociáln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kulturní a etické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Okolí podniku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má </a:t>
            </a: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prvky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geografické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sociáln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litické a právn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ekonomické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ekologické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etické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kulturně historické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9T11:03:34Z</dcterms:created>
  <dc:creator>Pavlína Pellešová</dc:creator>
  <dc:description/>
  <dc:language>en-US</dc:language>
  <cp:lastModifiedBy>pellesova</cp:lastModifiedBy>
  <dcterms:modified xsi:type="dcterms:W3CDTF">2017-09-17T16:05:13Z</dcterms:modified>
  <cp:revision>701</cp:revision>
  <dc:subject/>
  <dc:title>mikro-P1</dc:title>
</cp:coreProperties>
</file>