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CF57-C975-4E91-8EAD-85E55C45B30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9805-92E6-4480-B5D6-B06DB1B6021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3DF9-3572-49B7-B88C-B5B027E5F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BEDF-9CA8-4CA2-ACC5-5A774826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693C-D9BB-4C5D-B36A-E4938AFE7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D51B-AD64-4407-BB1C-C44FF16C3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4E8D-66E6-47A9-8654-9E65623E4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C1D3-07D2-4037-A9D0-D48AD5BD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E396-3A93-48D1-BCD4-CD906DAC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8FFB-F934-440D-AB78-FEC5A9BD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4E30-6E7F-4A2F-81F4-10709780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8100-9B4A-445C-B1B7-654915D8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9F77-749D-41AF-9E7A-B49AC7C4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BA14-3693-4E2C-AD63-8D9D628D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578D-F2B3-4D42-B5AD-46B697B4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5D80-F568-495E-AE44-5E3E211C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37D4-8D8D-46FF-A360-7E2B86C7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CF13-BFA8-47FC-B6EC-A3E1F5D06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FEF3-EDAA-4B56-A6CD-F7C8340C5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9644-4B7B-4B04-9247-48B777CB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2D97-8786-4116-9018-35D0A208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DD78-30C9-409F-9217-08DA289D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EE46-754A-45D1-B11A-D29FE979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8C7A-4B62-40DA-8F6C-8790C1B0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5439-4D2D-4ECF-BA81-0545018B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2909-B9D6-4D1A-A61D-BD7A89DB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6524-16BF-46C3-9E4D-258313014B51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5550-6968-4665-A282-378CDEEE2BB7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RIZIKA PODNIK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hmotné riziko – zpravidla se dá měři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hmotné riziko – označované jako psychologické riziko, souvisí spíše s duševní činnos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čisté riziko – má vždy negativní dopad a manažer se mu snaží vyhnou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ekulativní riziko – podstupuje podnik záměrně s vidinou zisku z rizika, neexistuje na ně pojiště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ystematické riziko – nedá se žádným způsobem regulovat, vztahuje se k více projektům, plyne z celkového ekonomického vývoje a postihuje všechny subjekt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systematické riziko – váže se k jednomu projektu/subjektu, nebo k určité skupině projektů a je na ostatních nezávislé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jistitelné a nepojistitelné riziko – uplatňuje se tam, kde je možné přenést riziko za úplatu na třetí osob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rategické riziko – můžeme najít v činnosti strategického managementu a odpovídá na otázku „co se má dělat“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perační riziko – je součást operačního managementu a jeho rozhodování v otázce „jak se to má dělat“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ecná rizik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emětřesení, požáry, výbuch plynu, protržení přehradních hrází, zavalení silnic a železnic, zřícení budov, poškození energetických sítí, povodně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související s podnikatelskou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podmínek smlouvy, s ohledem na kvalitu a parametry produk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dohodnutého termínu dodávky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 případě rizika poskytovatele jde 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převzetí produktu ze strany objednavatel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uhrazení kupní ceny, případně neuhrazení v pož.termín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vyplývající z nedostatečné odbornosti provádění některých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o nesprávného odhadu budoucího vývoje  a riziko nepřímých důsledků porušování předpisů upravujících podniká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3 fáze analýzy rizik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dnocení rizika –správná identifikace rizika - znát strategické, taktické a operativní cíle podniku, je vhodné použít Strategickou situační analýzu podniku (vychází z PEST analýzy), nebo lze požít Paretova modelu pěti sil, analýzy pro identifikaci rizik a příležitostí nebo provést analýzu intuitivním způsobem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rizika –tak, aby zajistil proces vedoucí k nastavení cílů, které odpovídají strategickým záměrům, a jsou v souladu s mírou ochoty akceptovat rizika; koncept řízení rizik vychází z 3 typů příčin rizik: riziko založené na nejistotě, riziko založené na příležitosti, riziko založené na ohrožení; rozlišujeme 2 přístupy k řízení rizik: intuitivní a systémový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formování o rizik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16000" y="1557360"/>
            <a:ext cx="66247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ů rizik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ů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– to je možné určit přímo číselně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 a přijetí opatření na jeho snížen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prava plánu korekčních opatření -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 – 2 typ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l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me stupnicí rozdělenou na rizika vysoká, střední a nízká či jiné kategorie; hodnocení rizika = rozsah, jaký mohou mít potenciální události na dosažení cílů; existují dvě perspektivy: pravděpodobnost nastoupení/výskytu, dopad; při kvalitativním hodnocení pravděpodobnosti výskytu lze stanovit např. úroveň rizika 1 – téměř jisté, 2 – pravděpodobné, 3 – možné, 4 – nepravděpodobné, 5 – téměř vyloučené; u hodnocení významu vlivu lze stanovit úrovně: 1 – téměř vyloučené, 2 – nepravděpodobné, 3 – možné, 4 – pravděpodobné, 5 – katastrofické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nt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 se rizika ve finančním vyjádření, tzn., že máme vytvořeny předpoklady pro hodnocení dopadu rizik ve finančním vyjádř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sk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5640" y="1483920"/>
            <a:ext cx="6769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 zabývá řízením rizik v 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jak na provozní rizika, i na strategick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podniku je nezbytné stanovit osobu nebo útvar zodpovědný za risk managemen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na identifikaci a kvantifikaci rizika, analýzu příčin rizika a řízení (zvládnutí)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del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15640" y="134136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podnikatelského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a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ces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erač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informací potřebných pro rozhodo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ystém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15640" y="1483920"/>
            <a:ext cx="6985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  modelu řízení rizik vychází systém řízení rizika -  zahrnuje vzájemně se doplňující činnosti a tvoří cyklu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dentifiková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portování o rizicí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ři minimalizaci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ískejte plnohodnotné (dostačující) informa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čerpejte všechny možnost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veďte zhodnocení rizik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lokujte na projekt zkušené zaměstnan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pracujte projektov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vestujte průběžně – v jednotlivých vývojových fázích projektu, jako jsou průzkum trhu, konstrukční návrh, příprava stanoviště, objednání vybavení, instalac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 zprovoznění vybave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abudujte flexibili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avidelně kontrolujte vývoj a sledujte informace zvenč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zložte rizik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ovat podnikatelské riziko a faktory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lasifikovat druhy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dentifikace rizika a zhodnoc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roces říz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becný model řízení rizika a systém řízení rizik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4428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o - nejistota výskytu určitých událostí a/nebo jejich následků, které by mohly mít významný dopad na podnikatelské cíle společ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riziko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nebezpečí, že skutečně dosažené hospodářské výsledky podnikatelské činnosti se budou odchylovat od výsledků předpokládaných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zitivní stránka – je spojována s nadějí na úspěch, s uplatněním se na trhu; spojeno s dosahováním lepších výsledků, než předpokládal podnikatelsk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gativní – projevuje se nebezpečím dosažení horších hospodářských výsledků, než podnikatel předpokládal, vznikem ztráty, v krajním případě bankro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6981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ignorova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pokud vznikne malá ztráta, kterou je možné bez problémů unést, jedná se o tzv. nepojištěn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ceptovat odpovědnost za výši možného rizi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– podnik má dostatečné vnitřní zdroje k pokrytí případné ztrát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ytvořit bezpečnostní systém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ující únosnou míru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ři skupiny investorů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averzí k rizik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neutrálním postojem neb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vysokým sklonem k riziku s očekáváním vysokého výnos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tup jak „ovládnout riziko“, je řízení rizika,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jít faktory, které významně mohou působit na výsledek podnikatelské aktivity, což současně znamená, nezabývat se dopadem méně důležitých faktor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vantifikovat možné riziko projektu a rozhodnout, zda je projekt i s tímto rizikem realizovatel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třeba udělat, aby se dopad ovlivnitelných faktorů minimalizova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ízení rizik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áplň řízení rizika projekt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u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u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a projektu a přijetí opatření na jeho sníž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stavování plánu korekčních opatř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aktory ovlivňující rizik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ějš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politické, finanční, měnové, právní, daňové, sociální, konkurence, dumpingové praktiky zahraniční konkurence, ekonomická recese v odvětví, nesolventnost odběratelů, ztráta dodavatele apo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itřn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trategické chyby, problémy růstu podniku, nesolventnost podniku, špatná organizační struktura, jednostranný výběr odběratelů nebo dodavatelů, nízká produktivita, chybně nastavená cena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440" y="1197000"/>
            <a:ext cx="7126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trž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riziko spojené s fungováním podniku v určitém vnějším ekonomickém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specifické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pojené s fungováním podniku, obvykle se dělí n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vozní (náklady) 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o  (zapojení cizích zdrojů ve financování podnik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23T19:30:24Z</dcterms:modified>
  <cp:revision>718</cp:revision>
  <dc:subject/>
  <dc:title>mikro-P1</dc:title>
</cp:coreProperties>
</file>