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791C2-84F6-4E76-8116-9B79D507F4C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84942-1778-4D0F-92B6-F2ABAE4E6B8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644E-AAEF-4A6F-8956-86B1F3231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C3D1-1467-4693-849D-7D56C7CFA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EE8F-C395-4EA2-B9F2-8D546F8E0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9FFA-5CB1-4C11-A4E4-DA5E329D0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474EB-2984-4C1D-B1FC-5F97B667B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6C093-B34B-4B29-A133-8B3579D59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F8424-1199-4409-898A-DBF98830B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77076-C844-4DBA-B298-54E37CB18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BDCE6-3104-4F39-88C2-98852056C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E57C4-2C4D-4B12-BB16-D59FB8EF3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AF098-0347-45E1-B1F2-C443ECC6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7CA5-9809-4640-A1B3-B175BFAF6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36233-72A1-4FC0-B8A5-CA7B1CB2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B07EF-A5E2-429B-9244-AA21D821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C6CBA-C6B8-4E91-A7F7-1D7BF8E9D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EEAB1-746F-4707-8600-CFD28A027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5217B-CF00-486A-9735-B89C075B1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A2A1-4C04-4A53-94A8-EB112C81B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94D0-EB3B-41F9-BB84-BB9492374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7C29-9763-455A-98D2-C82E48F2F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A6EF-24D1-4A60-B0F6-E9EAEABF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566C-1792-40CC-BA5C-F779B85F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4CE3-983B-407F-9AD3-CC4CE9A4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9CCF-FF47-4D78-80B7-146E1D22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6F377-F2C1-4E26-BB22-1A8DC74B859E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2960A-97FA-4F18-BD91-94059382F623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57404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ŘÍZENÍ LIDSKÝCH ZDROJŮ V HOTELNICTV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76720" y="5444640"/>
            <a:ext cx="54720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Pavlína PELLEŠOVÁ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332000" y="873000"/>
            <a:ext cx="720072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rámci jednotlivých činností řízení lidských zdrojů plní manažeři úkol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ní a analýza pracovních mí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ánování lidských zdroj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sazování volných pracovních mí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ízení pracovního výkonu a hodnocení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dměňování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dělávání a rozvoj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éče o zaměstnanc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užívání personálního informačního systém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Aktivit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547640" y="799920"/>
            <a:ext cx="7344000" cy="52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LZ se pro splnění hlavních úkolů zaměřuje n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ktivit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dělávání a rozvoj pracovník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rganizační rozvoj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ní pracovních úkolů, pracovních míst a organizačních struktu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ání personálu organizac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ání personálního výzkumu a funkčnosti personálního informačního systém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ánování lidských zdroj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dměňování a zaměstnanecké výhod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acovní vztahy, především pak vztahy s odb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moc pracovníků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personálního útvar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6 kategorií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pracování personální strategie ve spolupráci s managementem podniku, včetně principů a politiky říze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pracování a respektování pravidel, předpisů a zákon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jištění operativního řízení personál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ízení projekt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kytování informací a vyjednáv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kytování ra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 - 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547640" y="836640"/>
            <a:ext cx="705672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tráková a kol. (2011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t v podniku prostředí, aby počet a struktura prac. míst byly v dynamickém souladu s počtem a strukturou zaměstnanců, přičemž každé prac. místo musí být obsazené zaměstnancem, který splní požadavky na výkon práce, zároveň prac. místo musí poskytovat zaměstnanci prostor na seberealizaci a při plnění cílů podniku dosáhnout i osobní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eustále rozvíjet lidské zdroje a vytvářet pro ně motivující pracovní a životní podmínky, což přispěje k plnění cílů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at týmy, efektivní styl vedení lidí a zdravé mezilidské vztahy v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971640" y="836640"/>
            <a:ext cx="748800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máhat podniku přizpůsobovat se různým zájmům zainteresovaných osob - vlastníků, zaměstnanců, odborových organizací, zákazníků, dodavatelů, státní správ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 samospráv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ledovat místní, celostátní i mezinárodní vývoj ovlivňující praxi zaměstnávání osob a interpretovat a objasňovat jeho důsledky pro strategii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zájmu úspěšného fungování podniku poskytovat přímo anebo nepřímo potřebné služb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ersonální činnos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10920" y="611280"/>
            <a:ext cx="784836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Analýza pracovních míst pro stanovení specifických potřeb podniku v oblasti prác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rognózovaní a plánování potřeby pracovních sil a pokrytí této potřeby. V této souvislosti realizaci průzkumů trhu práce, populačního vývoje a hodnotové orientace lidí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hledávání a získávání zaměstnanců potřebných pro plnění úkolů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ýběr a přijímá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rientace a adaptace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Rozmísťovaní zaměstnanců tak, aby byli optimálně využité jejich pracovní schopnosti ve prospěch podniku a pro zvýšení spokojenosti samotných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ělávání a rozvoj zaměstnanců podniku, aby byli připraveni zvládnout nejen nové požadavky na pracovní místo, ale aby byli připraveni i na změnu svého pracovního zařazení v rámci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programů řízení a rozvoje organizace prác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prosazování vhodných systémů hodnocení pracovního výkonu a postojů k prá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agendy penzionování a propouště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ersonální činnos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10920" y="611280"/>
            <a:ext cx="828180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moc zaměstnancům při zpracování a realizaci plánů jejich kariéry, plánů jejich personálního a sociálního rozvoj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systémů odměňová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lupráce mezi podnikem a odbory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systémů projednávání disciplinárních záležitostí a stížností a péče o jejich fungování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podmínek pro tvorbu dobrých mezilidských vztah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prosazování programů, které se týkají bezpečnosti a ochrany zdraví zaměstnanců při prá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systémů sociální práce v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moc zaměstnancům při řešení osobních problémů, které by mohly ovlivnit jejich pracovní výko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zabezpečování systému komunikace se zaměstnan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personálního informačního systému, zřizování, aktualizace a uchovávání dokumentů týkajících se jednotlivých zaměstnanců, zpracovávání příslušné statistiky a analýz poskytujících údajovou základnu a pomoc při rozhodovaní, zjišťování názorů a postojů zaměstnanců k aktuálním problémům a záměrům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dodržování zákonů v oblasti práce, zaměstnávaní osob a lidských práv a vytváření dobré zaměstnanecké pověsti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00000" y="76500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lavní činnosti řízení lidských zdroj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Obrázek 4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7200720" cy="4751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31680" y="174600"/>
          <a:ext cx="8964720" cy="6665760"/>
        </p:xfrm>
        <a:graphic>
          <a:graphicData uri="http://schemas.openxmlformats.org/drawingml/2006/table">
            <a:tbl>
              <a:tblPr/>
              <a:tblGrid>
                <a:gridCol w="2519280"/>
                <a:gridCol w="6445440"/>
              </a:tblGrid>
              <a:tr h="28008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Činnosti ŘL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Účel činnos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ytváření a analýza pracovních mí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finování pracovních úkolů (a souvisejících povinností, pravomocí, odpovědnosti, podmínek a požadavků vykonané práce) a jejich seskupování do prac. míst, zpracování popisů a specifikací pracovních míst v organizac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ánování lidských zdroj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ánování potřeby, pokrytí potřeby a pers. rozvoje zaměstnanců, zpracování plánů personálních činnost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8395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bsazování volných pracovních mí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bsazování nově vytvořených nebo uvolněných prac. míst v organizaci, získání vhodných uchazečů, výběr nejvhodnějších uchazečů, přijímání uchazečů, adaptace přijatých uchazečů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Řízení pracovního výkonu a hodnocení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směrňování a podněcování zaměstnanců k vykonávání sjednané práce a dosahování požadovaného výkonu pomocí systematického získávání a poskytování zpětné vazby (infce o skutečném výkonu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dměňování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eňování skutečného výkonu zaměstnanců a stimulace zaměstnanců k dosažení požadovaného výkonu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zdělávání a rozvoj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tváření, prohlubování a rozšiřování schopností zaměstnanců k vykonávání sjednané práce a dosahování požadovaného výkonu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éče o zaměstn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ahování příznivých hodnot všech proměnných, které ovlivňují zaměstnance v prac. procesu při vykonávání sjednané práce a dosahování požadovaného výkonu (prac. doba, prac. prostředí, bezpečnost a ochrana zdraví při práci, pracovní vztahy apod.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8395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yužívání personálního informačního systém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Zpracování pers. údajů potřebných k plnění povinností vyplývajících z právních předpisů a zabezpečování personální práce v organizac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Obecné strategické říz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042560" y="1483920"/>
            <a:ext cx="748836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ešení těchto otázek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ou podnikatelskou filozofii si chce podnik vytvořit, jaké chce mít poslání a jakou roli si přeje hrát na trhu či ve společnosti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m pozitivním a negativním vnějším faktorům musí podnik čeli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jsou přednosti a nedostatky podniku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ch cílů chce podnik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 chce těchto cílů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1699920"/>
            <a:ext cx="712476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mezit pojem řízení lidských zdrojů a odlišit od personálního řízen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psat cíle a činnosti řízení lidských zdrojů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charakterizovat jednotlivé úkoly řízení lidských zdrojů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o řeší ŘLZ nejprv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402920" y="836640"/>
            <a:ext cx="748836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míry souladu mezi prac. místy a             pracovníky chce podnik v budoucnu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á je současná míra souladu a z ní plynoucí úroveň produktivity práce a osobního rozvoje pracovníků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změny v politice a praktické činnosti jsou nezbytné, aby bylo dosaženou žádoucího souladu mezi pracovními místy a pracovníky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lik a jaký druh pracovníků bude podnik potřebova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á nabídka PS se perspektivně předpokládá v podniku i mimo něj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o je potřeba udělat pro pokrytí potřeb pracovníků podniku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50920" y="1413000"/>
            <a:ext cx="813096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(ŘLZ) je práce s lidmi takovým způsobem, který vede ke zvýšení výkonnosti podniku při dosažení osobních cílů zaměstnanců. Je záležitostí všech manažerů a vedoucích týmů (Vetráková a kol., 2011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bývá obvykle definováno jako proces dosahování podnikových cílů prostřednictvím získávání, stabilizování, propouštění, rozvoje a optimálního využívání lidského potenciálu (Vochozka, Mulač a kol., 2012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2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78920" y="836280"/>
            <a:ext cx="82090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 manažerský přístup k využívání úsilí, schopnosti a oddanosti lidí k vykonávání požadované práce způsobem, který organizaci zajistí perspektivní budoucnost (Watson, 2010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je souhrnem metodologií a rozhodování, jejichž cílem je řídit a rozvíjet lidský potenciál ve všech druzích organizací. Řízení lidských zdrojů lze definovat jako proces dosahování podnikových cílů prostřednictvím získávání, stabilizování, propouštění, rozvoje a optimálního využívání lidí v organizaci. Tato definice ukazuje rozdílnost charakteristiky personalistiky, která je „jen“ obsazováním pozic v organizační struktuře a udržování jejich obsazení (Wagnerová a Matusiková, 200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34720" y="3207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a personální říz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Obrázek 4" descr=""/>
          <p:cNvPicPr/>
          <p:nvPr/>
        </p:nvPicPr>
        <p:blipFill>
          <a:blip r:embed="rId1"/>
          <a:stretch/>
        </p:blipFill>
        <p:spPr>
          <a:xfrm>
            <a:off x="1835280" y="944640"/>
            <a:ext cx="5470560" cy="5734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ozdíly a shodné rys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Obrázek 4" descr=""/>
          <p:cNvPicPr/>
          <p:nvPr/>
        </p:nvPicPr>
        <p:blipFill>
          <a:blip r:embed="rId1"/>
          <a:stretch/>
        </p:blipFill>
        <p:spPr>
          <a:xfrm>
            <a:off x="1692360" y="836640"/>
            <a:ext cx="6264360" cy="5832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íle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258560" y="1197000"/>
            <a:ext cx="734364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ovat dosahování strategických cílů organizace vytvářením a uplatňováním strategií lidských zdrojů v souladu se strategií podniku (strategické řízení lidských zdrojů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ispívat k rozvíjení kultury zaměřené na dosahování vysokého výkon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at organizaci talentované, kvalifikované a oddané lid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silovat o vytváření pozitivních pracovních vztahů a navozování vzájemné důvěry mezi managementem a zaměstnanc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ovat uplatňování etického přístupu k řízení lid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Obecný cíl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403280" y="1125360"/>
            <a:ext cx="734400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 zajistit, aby byl podnik schopen prostřednictvím lidí úspěšně plnit cíle v oblastech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ání a rozvoje pracovníků – předvídat a uspokojovat budoucí potřeby pracovních sil, zvyšovat a rozvíjet podstatné schopnosti lidí, potenciál a zaměstnatelnost (příležitost k soustavnému vzdělání a rozvoji)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cenění pracovníků – zvyšovat motivaci za oddanost, znalosti, dovednosti, schopnost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tah mezi managementem a pracovníky – vytvářet ovzduší pro udržování dobrých vztahů a důvěr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lavní úkoly ŘLZ 5-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332000" y="873000"/>
            <a:ext cx="720072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silovat o zařazení správného člověka na správné místo a snažit se o to, aby byl tento člověk neustále připraven přizpůsobovat se měnícím se požadavkům pracovního místa, uplatňuje se tzv. „tailoring“ neboli „šití“ pracovních úkolů a pracovních míst na míru pracovníkov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timální využívání prac. sil v podniku - pracovní doby, pracovních schopnost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ání týmu, efektivního stylu vedení lidí a zdravých mezilidských vztah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ersonální a sociální rozvoj pracovníků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držování zákonů v oblasti práce, zaměstnávaní osob a lidských práv a vytváření dobré zaměstnanecké pověsti podnik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10-19T20:14:40Z</dcterms:modified>
  <cp:revision>724</cp:revision>
  <dc:subject/>
  <dc:title>mikro-P1</dc:title>
</cp:coreProperties>
</file>