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EBC8-33BE-48CD-B62F-15F065882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E59C-A1AE-4EAB-ADE2-7F7313849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F7A9-3999-4191-8DAB-B6137065E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53FC-84B8-42B6-96B1-742807E76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7DD61-DBF2-4DFE-9A99-CC24690B9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C3E43-D5CF-4D86-B6F6-39A0E5299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72D6D-5A55-4A91-ABA9-26EE20049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4C66A-1712-4282-B017-0279BF7B8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6011E-27FE-46D5-A630-DFE70A60B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5C231-A4C7-4F43-8808-5278D5873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A4A49-D8A8-4001-B9C5-F9CC8603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0953-42FE-4512-88EC-74E2F6DF3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1C5F1-9B42-4E74-8AEB-CE7286B6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3E141-5858-48C5-9E4E-9D06FA33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81F0E-11BB-428B-8535-24361067A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FE509-78F8-4577-B877-7174F3798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49B04-E4A0-428A-85D3-018FE7488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0B96-F616-4EC0-9536-D89FAB3E3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9141-A860-49B6-AAF5-17676B6E4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CBD7-276D-4EEE-A095-EB205A92F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273D-0A8D-4056-A926-D0A1F947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33E1-AEAA-48A0-AA43-36A8AE61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9D84-5FBD-4A2B-A476-9EB5C935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382D-C5E6-4074-A1D9-12F6CB6C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6389F-F3A3-4C01-BA69-7C887F37D7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15CFE-0D2E-4C0F-A874-3D2C435544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6535800"/>
            <a:ext cx="434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6 © Dale Carnegie &amp; Associates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826280"/>
            <a:ext cx="6248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ování stromů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en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místění stro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balení a příprava pů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čáteční rozpis zalé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Zdroje odborné pomoci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acovníci firmy 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efonní číslo odborné pomo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de se můžete zastavit na r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ánky na Intern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hledejte si podle jména stromu, který chcete přesadit, možné zdroje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78487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éče o přesazený strom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 dva týd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ch šest měsí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 šesti měsících a dá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</a:t>
            </a: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hrnut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vám může společnost Naše Zahrada, a.s. nabídn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Volný překlad ukázkového souboru kapitoly 14 Office XP SBS</dc:description>
  <dc:language>en-US</dc:language>
  <cp:lastModifiedBy>Jan Pokorný</cp:lastModifiedBy>
  <dcterms:modified xsi:type="dcterms:W3CDTF">2002-01-24T14:16:33Z</dcterms:modified>
  <cp:revision>3</cp:revision>
  <dc:subject/>
  <dc:title>Přesazování stromů</dc:title>
</cp:coreProperties>
</file>