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6DEA2-A758-4585-919F-4B4DA113F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57926-447A-491E-AAB1-5E2C0FCD5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C9079-CC18-4C98-B633-39FC06538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D55C2-6691-4397-87AE-583B5DF08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33DD3-0062-42F6-9E0B-F8E333E19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77091-7088-45C7-B7C6-ABEDDC5CE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3EDE2-F719-488F-A43F-8307290F5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3FB89-7C8B-4873-BB79-1C15BC7D4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97EBA-322F-4127-9652-433A1BC56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28240" y="317520"/>
            <a:ext cx="746748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BDB84-069E-45F2-8745-60C16AF3A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036A1-6B5A-4632-8745-312CE2DB6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7D732-7D00-4994-87E1-702797D28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FAA44-ED14-40B1-AEB2-034247F36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E7F9F-025B-4927-9B8D-A75313A56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927E1-9C8F-4150-A8D0-3D91E1BEF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C4EE4-44D6-483C-BF08-951016DC8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C922E-52C9-4E0D-BD7C-BA6D0714F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26CEA-C1BF-4281-B3A7-78C361B97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BA8D5-63C9-4702-BE87-AB33258CD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9ED97-DE6A-4480-A2A1-CE41575B6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240" y="317520"/>
            <a:ext cx="746748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5F122-BB27-4742-8CDF-8C6BDBD19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ECE5B-EB1C-4CF7-861D-C52020271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DE3BC-44EB-4B22-89D0-97E274C25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39C90-EBE6-4437-9DDA-9F3723BF5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45976" b="0"/>
          <a:stretch/>
        </p:blipFill>
        <p:spPr>
          <a:xfrm>
            <a:off x="7353360" y="0"/>
            <a:ext cx="179064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24852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09320" y="6248520"/>
            <a:ext cx="3505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24816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09231-B46D-413F-B1E8-564EB8AE8F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rcRect l="0" t="0" r="13799" b="0"/>
          <a:stretch/>
        </p:blipFill>
        <p:spPr>
          <a:xfrm>
            <a:off x="6292800" y="-1440"/>
            <a:ext cx="2857680" cy="68688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256680" y="6248520"/>
            <a:ext cx="162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2108160" y="6248520"/>
            <a:ext cx="2997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5486400" y="624852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A8A66-D37E-4AAD-959C-FF3B50CB1C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f5f5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371600" y="6535800"/>
            <a:ext cx="4343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Copyright, 1996 © Dale Carnegie &amp; Associates, Inc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4920" y="1826280"/>
            <a:ext cx="62481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00"/>
                </a:solidFill>
                <a:latin typeface="Arial Black"/>
              </a:rPr>
              <a:t>Přesazování stromů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304560" y="3429000"/>
            <a:ext cx="60195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aše zahrada, a.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240" y="98820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00"/>
                </a:solidFill>
                <a:latin typeface="Arial Black"/>
              </a:rPr>
              <a:t>Přesazení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Umístění strom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abalení a příprava pů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čáteční rozpis zalévá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240" y="320400"/>
            <a:ext cx="746748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00"/>
                </a:solidFill>
                <a:latin typeface="Arial Black"/>
              </a:rPr>
              <a:t>Zdroje odborné pomoci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acovníci firmy Naše Zahrada, a.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elefonní číslo odborné pomoc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de se můžete zastavit na rad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tránky na Interne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yhledejte si podle jména stromu, který chcete přesadit, možné zdroje informac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320400"/>
            <a:ext cx="784872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00"/>
                </a:solidFill>
                <a:latin typeface="Arial Black"/>
              </a:rPr>
              <a:t>Péče o přesazený strom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32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vní dva týd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vních šest měsíc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 šesti měsících a dá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240" y="98820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S</a:t>
            </a:r>
            <a:r>
              <a:rPr b="0" lang="cs-CZ" sz="4400" spc="-1" strike="noStrike">
                <a:solidFill>
                  <a:srgbClr val="003300"/>
                </a:solidFill>
                <a:latin typeface="Arial Black"/>
              </a:rPr>
              <a:t>hrnutí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o vám může společnost Naše Zahrada, a.s. nabídnou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>Volný překlad ukázkového souboru kapitoly 14 Office XP SBS</dc:description>
  <dc:language>en-US</dc:language>
  <cp:lastModifiedBy>Jan Pokorný</cp:lastModifiedBy>
  <dcterms:modified xsi:type="dcterms:W3CDTF">2002-01-24T14:16:33Z</dcterms:modified>
  <cp:revision>3</cp:revision>
  <dc:subject/>
  <dc:title>Přesazování stromů</dc:title>
</cp:coreProperties>
</file>