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0039-A2B1-429E-82EA-442DA1450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87C3-3C64-4CBB-BDA6-50FDA4C24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9957-3590-4E09-8670-BB369CC81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1340-EC20-4F44-BEF7-E397F7EC8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CA76C-A167-4F38-8193-AFE1EB01F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C7E05-6367-46D3-B3B4-3240FC8CF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2CF3A-A8E4-48FB-B97E-0D8CCCC81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CB65D-D5A4-4D35-A934-3CDE3B19A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E9E77-6B9A-4C5B-91C8-AF3232971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7A3AE-4829-413E-BBCF-B0CBEED3F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95548-D1FC-4F7A-99A2-F90BA8B7A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45DD-3064-4CFD-B92E-21774EE50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83EF5-3E43-46D0-ABF3-8638E238A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96E8F-AF50-453D-968E-665D2D1CF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70F4A-18DF-47B9-B256-AD77EC004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A92EC-E9F9-41C8-800C-DA932191C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11440-24BF-4CB3-8CFC-D8F659DB0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2722-C26E-402A-BFE3-910DACB25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6205-8741-4D37-90F5-F32F544BB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0721-764E-495F-AABB-A7BE13BD0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4F2A-EED6-434D-8EC1-BA63FCFF2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3D20-6CB8-4969-AAE4-1AA732287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B4CF-2401-4649-97B2-AA9F307C8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6733-EB25-4FF9-8AB5-703942573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45976" b="0"/>
          <a:stretch/>
        </p:blipFill>
        <p:spPr>
          <a:xfrm>
            <a:off x="7353360" y="0"/>
            <a:ext cx="1790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09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2481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CF287-3583-4C27-8D10-5915A91D80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rcRect l="0" t="0" r="13799" b="0"/>
          <a:stretch/>
        </p:blipFill>
        <p:spPr>
          <a:xfrm>
            <a:off x="6292800" y="-1440"/>
            <a:ext cx="2857680" cy="6868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256680" y="624852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2108160" y="6248520"/>
            <a:ext cx="299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54864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EB457-4C57-4C39-BD0C-2D84C56F07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371600" y="6535800"/>
            <a:ext cx="4343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opyright, 1996 © Dale Carnegie &amp; Associates, In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1826280"/>
            <a:ext cx="62481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Přesazování stromů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04560" y="3429000"/>
            <a:ext cx="6019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aše zahrada, a.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Přesazení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Umístění stro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abalení a příprava pů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čáteční rozpis zalév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746748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Zdroje odborné pomoci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acovníci firmy Naše Zahrada, a.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lefonní číslo odborné pomo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de se můžete zastavit na ra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ránky na Interne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yhledejte si podle jména stromu, který chcete přesadit, možné zdroje informac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320400"/>
            <a:ext cx="784872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Péče o přesazený strom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vní dva týd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vních šest měsíc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 šesti měsících a dá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S</a:t>
            </a: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hrnutí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 vám může společnost Naše Zahrada, a.s. nabídnou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>Volný překlad ukázkového souboru kapitoly 14 Office XP SBS</dc:description>
  <dc:language>en-US</dc:language>
  <cp:lastModifiedBy>Jan Pokorný</cp:lastModifiedBy>
  <dcterms:modified xsi:type="dcterms:W3CDTF">2002-01-24T14:16:33Z</dcterms:modified>
  <cp:revision>3</cp:revision>
  <dc:subject/>
  <dc:title>Přesazování stromů</dc:title>
</cp:coreProperties>
</file>